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6FB-EBE3-48F7-9468-D74CCAB2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305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433040"/>
            <a:ext cx="8305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071-615D-48C0-A679-E4BEB691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8488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0D3-36C8-47E2-9ACF-2CD725FF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37320" y="41144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5680" y="41144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4330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37320" y="44330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5680" y="44330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49E-2508-4FD5-8F1F-5AE6367B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4114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057040" y="298728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4114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A6F-BCBD-46E5-B046-6411EBB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488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433040"/>
            <a:ext cx="8305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305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433040"/>
            <a:ext cx="8305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8488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7320" y="41144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45680" y="41144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4330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7320" y="44330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45680" y="4433040"/>
            <a:ext cx="2674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8FF-A155-4B4B-BF2A-67367F5B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3A6-A842-4977-93AD-68E6D98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6B8-C91C-469B-9A07-51C4B673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298728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11C-8EC3-4334-8ABA-6068F034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6BE-A124-48C8-ABA8-6B671D44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84880" y="44330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519-DF08-435E-B333-AE60124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84880" y="4114440"/>
            <a:ext cx="4053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433040"/>
            <a:ext cx="83059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545-BD1F-403B-8457-4AA857F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638680" y="645768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048120" y="644796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531-E3F4-467E-9FB8-569EB2977AFD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3019320"/>
            <a:ext cx="9144000" cy="696960"/>
            <a:chOff x="0" y="3019320"/>
            <a:chExt cx="9144000" cy="696960"/>
          </a:xfrm>
        </p:grpSpPr>
        <p:sp>
          <p:nvSpPr>
            <p:cNvPr id="45" name=""/>
            <p:cNvSpPr/>
            <p:nvPr/>
          </p:nvSpPr>
          <p:spPr>
            <a:xfrm>
              <a:off x="1692360" y="3019320"/>
              <a:ext cx="745164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559320"/>
              <a:ext cx="18288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5486400"/>
            <a:ext cx="1384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4267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2b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5289"/>
              </a:gs>
              <a:gs pos="50000">
                <a:srgbClr val="6699ff"/>
              </a:gs>
              <a:gs pos="100000">
                <a:srgbClr val="36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99ff">
                  <a:alpha val="0"/>
                </a:srgbClr>
              </a:gs>
              <a:gs pos="100000">
                <a:srgbClr val="4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c7ad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c7ad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c4171"/>
              </a:gs>
              <a:gs pos="50000">
                <a:srgbClr val="ac7ad2"/>
              </a:gs>
              <a:gs pos="100000">
                <a:srgbClr val="5c41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ac7ad2">
                  <a:alpha val="0"/>
                </a:srgbClr>
              </a:gs>
              <a:gs pos="100000">
                <a:srgbClr val="6c4d8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b14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4511e"/>
              </a:gs>
              <a:gs pos="100000">
                <a:srgbClr val="72b14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d5f24"/>
              </a:gs>
              <a:gs pos="50000">
                <a:srgbClr val="72b143"/>
              </a:gs>
              <a:gs pos="100000">
                <a:srgbClr val="3d5f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2b143">
                  <a:alpha val="0"/>
                </a:srgbClr>
              </a:gs>
              <a:gs pos="100000">
                <a:srgbClr val="48702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129528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72b14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20876400">
            <a:off x="3468600" y="51246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00560" y="39052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21080" y="39146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38360" y="39304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30520" y="39751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18160" y="45324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20826600">
            <a:off x="1625760" y="451440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549440" y="3524400"/>
            <a:ext cx="1371240" cy="1441080"/>
            <a:chOff x="1549440" y="3524400"/>
            <a:chExt cx="1371240" cy="1441080"/>
          </a:xfrm>
        </p:grpSpPr>
        <p:sp>
          <p:nvSpPr>
            <p:cNvPr id="318" name=""/>
            <p:cNvSpPr/>
            <p:nvPr/>
          </p:nvSpPr>
          <p:spPr>
            <a:xfrm>
              <a:off x="1549440" y="352440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67080" y="353268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0400" y="354636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52040" y="358308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9880" y="40305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447920" y="27590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215280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36840" y="21574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216864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1640" y="21938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21160" y="2502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14760" y="22287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36800" y="169560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46520" y="169848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52640" y="17049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89360" y="17240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07360" y="19191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57200" y="1538280"/>
            <a:ext cx="8381880" cy="4709880"/>
            <a:chOff x="457200" y="1538280"/>
            <a:chExt cx="8381880" cy="4709880"/>
          </a:xfrm>
        </p:grpSpPr>
        <p:sp>
          <p:nvSpPr>
            <p:cNvPr id="337" name=""/>
            <p:cNvSpPr/>
            <p:nvPr/>
          </p:nvSpPr>
          <p:spPr>
            <a:xfrm>
              <a:off x="2590920" y="2286000"/>
              <a:ext cx="4038480" cy="3962160"/>
            </a:xfrm>
            <a:prstGeom prst="ellipse">
              <a:avLst/>
            </a:prstGeom>
            <a:noFill/>
            <a:ln w="1908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3581280" y="3276360"/>
              <a:ext cx="2057400" cy="2133720"/>
              <a:chOff x="3581280" y="3276360"/>
              <a:chExt cx="2057400" cy="2133720"/>
            </a:xfrm>
          </p:grpSpPr>
          <p:sp>
            <p:nvSpPr>
              <p:cNvPr id="339" name=""/>
              <p:cNvSpPr/>
              <p:nvPr/>
            </p:nvSpPr>
            <p:spPr>
              <a:xfrm>
                <a:off x="3581280" y="327636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16360" y="331164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3952080" y="41148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191120" y="1904760"/>
              <a:ext cx="685800" cy="658800"/>
              <a:chOff x="4191120" y="1904760"/>
              <a:chExt cx="685800" cy="6588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4191120" y="1904760"/>
                <a:ext cx="685800" cy="658800"/>
                <a:chOff x="4191120" y="1904760"/>
                <a:chExt cx="685800" cy="6588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91120" y="190476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05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269240" y="191556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4355640" y="20062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525120" y="5190480"/>
              <a:ext cx="368280" cy="334800"/>
              <a:chOff x="3525120" y="5190480"/>
              <a:chExt cx="368280" cy="334800"/>
            </a:xfrm>
          </p:grpSpPr>
          <p:sp>
            <p:nvSpPr>
              <p:cNvPr id="348" name=""/>
              <p:cNvSpPr/>
              <p:nvPr/>
            </p:nvSpPr>
            <p:spPr>
              <a:xfrm rot="18226800">
                <a:off x="3553560" y="536328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ac7ad2"/>
                  </a:gs>
                  <a:gs pos="100000">
                    <a:srgbClr val="72518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8226800">
                <a:off x="3734280" y="521388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ac7ad2"/>
                  </a:gs>
                  <a:gs pos="100000">
                    <a:srgbClr val="72518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895480" y="5481360"/>
              <a:ext cx="685800" cy="685800"/>
              <a:chOff x="2895480" y="5481360"/>
              <a:chExt cx="685800" cy="68580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2895480" y="5481360"/>
                <a:ext cx="685800" cy="685800"/>
                <a:chOff x="2895480" y="5481360"/>
                <a:chExt cx="685800" cy="685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895480" y="54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7ad2"/>
                    </a:gs>
                    <a:gs pos="100000">
                      <a:srgbClr val="291d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973600" y="549252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c7a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053880" y="5610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6251400" y="3276360"/>
              <a:ext cx="682920" cy="693720"/>
              <a:chOff x="6251400" y="3276360"/>
              <a:chExt cx="682920" cy="69372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6251400" y="3276360"/>
                <a:ext cx="682920" cy="693720"/>
                <a:chOff x="6251400" y="3276360"/>
                <a:chExt cx="682920" cy="6937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251400" y="327636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f5f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329160" y="328788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6396840" y="33717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638680" y="5486400"/>
              <a:ext cx="654120" cy="622080"/>
              <a:chOff x="5638680" y="5486400"/>
              <a:chExt cx="654120" cy="6220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5638680" y="5486400"/>
                <a:ext cx="654120" cy="622080"/>
                <a:chOff x="5638680" y="5486400"/>
                <a:chExt cx="654120" cy="6220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638680" y="548640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713200" y="549648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>
                <a:off x="5794920" y="55195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2362320" y="3276360"/>
              <a:ext cx="685800" cy="685800"/>
              <a:chOff x="2362320" y="3276360"/>
              <a:chExt cx="685800" cy="685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362320" y="3276360"/>
                <a:ext cx="685800" cy="685800"/>
                <a:chOff x="2362320" y="3276360"/>
                <a:chExt cx="685800" cy="6858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362320" y="3276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b143"/>
                    </a:gs>
                    <a:gs pos="100000">
                      <a:srgbClr val="33501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40440" y="328752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2b1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"/>
              <p:cNvSpPr/>
              <p:nvPr/>
            </p:nvSpPr>
            <p:spPr>
              <a:xfrm>
                <a:off x="2522880" y="33526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rot="18226800">
              <a:off x="5566320" y="532980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226800">
              <a:off x="5414040" y="517752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3099600" y="3706200"/>
              <a:ext cx="415800" cy="261000"/>
              <a:chOff x="3099600" y="3706200"/>
              <a:chExt cx="415800" cy="261000"/>
            </a:xfrm>
          </p:grpSpPr>
          <p:sp>
            <p:nvSpPr>
              <p:cNvPr id="373" name=""/>
              <p:cNvSpPr/>
              <p:nvPr/>
            </p:nvSpPr>
            <p:spPr>
              <a:xfrm rot="18226800">
                <a:off x="3128040" y="37296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72b143"/>
                  </a:gs>
                  <a:gs pos="100000">
                    <a:srgbClr val="416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8226800">
                <a:off x="3356640" y="380520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72b143"/>
                  </a:gs>
                  <a:gs pos="100000">
                    <a:srgbClr val="37552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471200" y="2683800"/>
              <a:ext cx="187200" cy="468000"/>
              <a:chOff x="4471200" y="2683800"/>
              <a:chExt cx="187200" cy="468000"/>
            </a:xfrm>
          </p:grpSpPr>
          <p:sp>
            <p:nvSpPr>
              <p:cNvPr id="376" name=""/>
              <p:cNvSpPr/>
              <p:nvPr/>
            </p:nvSpPr>
            <p:spPr>
              <a:xfrm rot="18226800">
                <a:off x="4499640" y="27072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55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8226800">
                <a:off x="4499640" y="29898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 rot="18226800">
              <a:off x="5966640" y="375768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ab1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8226800">
              <a:off x="5718960" y="388152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ab1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200" y="3429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81280" y="15382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934320" y="344304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715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24480" y="5715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87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4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02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16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21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2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5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6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39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8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3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4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7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5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0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1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4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3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8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89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2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1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4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518" name=""/>
            <p:cNvCxnSpPr>
              <a:stCxn id="514" idx="3"/>
              <a:endCxn id="515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515" idx="3"/>
              <a:endCxn id="516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523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2b143"/>
                </a:gs>
                <a:gs pos="100000">
                  <a:srgbClr val="34511e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526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2b1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ac7ad2"/>
                </a:gs>
                <a:gs pos="100000">
                  <a:srgbClr val="4f386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531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ac7a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ac7a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ac7a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535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538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c7ad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b143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47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49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5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1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72b143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838080" y="248292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906120" y="907200"/>
            <a:ext cx="7378920" cy="5581800"/>
            <a:chOff x="906120" y="907200"/>
            <a:chExt cx="7378920" cy="5581800"/>
          </a:xfrm>
        </p:grpSpPr>
        <p:sp>
          <p:nvSpPr>
            <p:cNvPr id="577" name=""/>
            <p:cNvSpPr/>
            <p:nvPr/>
          </p:nvSpPr>
          <p:spPr>
            <a:xfrm>
              <a:off x="2442960" y="46944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01600">
              <a:off x="1717560" y="258084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01600">
              <a:off x="1774080" y="24188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01600">
              <a:off x="1690920" y="2404440"/>
              <a:ext cx="569772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rot="20602200">
              <a:off x="1739520" y="240516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2b143"/>
                </a:gs>
                <a:gs pos="100000">
                  <a:srgbClr val="4f7b2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1697400" y="241596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496eb8"/>
                </a:gs>
                <a:gs pos="100000">
                  <a:srgbClr val="66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rot="20602200">
              <a:off x="1708200" y="2414880"/>
              <a:ext cx="5701320" cy="29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68640" y="385128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ac7ad2"/>
                </a:gs>
                <a:gs pos="100000">
                  <a:srgbClr val="7c58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539200">
              <a:off x="1324440" y="1811520"/>
              <a:ext cx="65419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ac7ad2"/>
                </a:gs>
                <a:gs pos="100000">
                  <a:srgbClr val="4f3860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779720" y="41911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c4d84"/>
                </a:gs>
                <a:gs pos="100000">
                  <a:srgbClr val="ac7a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3234960" y="31338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bebeb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2552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3064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59440" y="28987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54520" y="41180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44840" y="4803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98720" y="440676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99ff">
                    <a:alpha val="19215"/>
                  </a:srgbClr>
                </a:gs>
                <a:gs pos="100000">
                  <a:srgbClr val="98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01600">
              <a:off x="3336840" y="338616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2b14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50000">
                <a:srgbClr val="9bbcfe"/>
              </a:gs>
              <a:gs pos="100000">
                <a:srgbClr val="66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5588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1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2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08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09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4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4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5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72b143"/>
                  </a:gs>
                  <a:gs pos="100000">
                    <a:srgbClr val="3a5a2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2b1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0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c7ad2"/>
                    </a:gs>
                    <a:gs pos="100000">
                      <a:srgbClr val="291d3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ac7ad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99ff">
                  <a:alpha val="36078"/>
                </a:srgbClr>
              </a:gs>
              <a:gs pos="100000">
                <a:srgbClr val="cadb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8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5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2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9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6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438280" y="42670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050920" y="2997360"/>
            <a:ext cx="504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1d528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1d528d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8840" y="1754280"/>
            <a:ext cx="7824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2b143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2b143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2b143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2b143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bddd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14a7b"/>
                  </a:gs>
                  <a:gs pos="100000">
                    <a:srgbClr val="66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ba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34511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ce2bc"/>
                </a:gs>
                <a:gs pos="100000">
                  <a:srgbClr val="72b14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48235"/>
                  </a:srgbClr>
                </a:gs>
                <a:gs pos="100000">
                  <a:srgbClr val="598b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72b14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2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3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2b143"/>
                </a:gs>
                <a:gs pos="100000">
                  <a:srgbClr val="23371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ac7ad2"/>
                </a:gs>
                <a:gs pos="100000">
                  <a:srgbClr val="3b2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360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6360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716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65289"/>
                  </a:gs>
                  <a:gs pos="50000">
                    <a:srgbClr val="6699ff"/>
                  </a:gs>
                  <a:gs pos="100000">
                    <a:srgbClr val="36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511e"/>
                </a:gs>
                <a:gs pos="50000">
                  <a:srgbClr val="72b143"/>
                </a:gs>
                <a:gs pos="100000">
                  <a:srgbClr val="3451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f3860"/>
                </a:gs>
                <a:gs pos="50000">
                  <a:srgbClr val="ac7ad2"/>
                </a:gs>
                <a:gs pos="100000">
                  <a:srgbClr val="4f38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d2540"/>
                </a:gs>
                <a:gs pos="50000">
                  <a:srgbClr val="1d528d"/>
                </a:gs>
                <a:gs pos="100000">
                  <a:srgbClr val="0d25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d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006e93"/>
                </a:gs>
                <a:gs pos="50000">
                  <a:srgbClr val="0099cc"/>
                </a:gs>
                <a:gs pos="100000">
                  <a:srgbClr val="006e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96eb8"/>
                </a:gs>
                <a:gs pos="50000">
                  <a:srgbClr val="6699ff"/>
                </a:gs>
                <a:gs pos="100000">
                  <a:srgbClr val="49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ac7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c5897"/>
                </a:gs>
                <a:gs pos="50000">
                  <a:srgbClr val="ac7ad2"/>
                </a:gs>
                <a:gs pos="100000">
                  <a:srgbClr val="7c589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43b65"/>
                </a:gs>
                <a:gs pos="50000">
                  <a:srgbClr val="1d528d"/>
                </a:gs>
                <a:gs pos="100000">
                  <a:srgbClr val="143b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248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250" name="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2b143"/>
                  </a:gs>
                  <a:gs pos="100000">
                    <a:srgbClr val="4f7b2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74880" y="193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1d397"/>
                  </a:gs>
                  <a:gs pos="50000">
                    <a:srgbClr val="72b143">
                      <a:alpha val="0"/>
                    </a:srgbClr>
                  </a:gs>
                  <a:gs pos="100000">
                    <a:srgbClr val="b1d3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31040" y="215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255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257" name="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b4fe"/>
                  </a:gs>
                  <a:gs pos="100000">
                    <a:srgbClr val="66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74880" y="346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99ff">
                      <a:alpha val="0"/>
                    </a:srgbClr>
                  </a:gs>
                  <a:gs pos="100000">
                    <a:srgbClr val="bd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3104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262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264" name="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9a9e1"/>
                  </a:gs>
                  <a:gs pos="100000">
                    <a:srgbClr val="ac7ad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74880" y="5007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7ad2">
                      <a:alpha val="0"/>
                    </a:srgbClr>
                  </a:gs>
                  <a:gs pos="100000">
                    <a:srgbClr val="d5bd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3104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57:19Z</dcterms:modified>
  <cp:revision>58</cp:revision>
  <dc:subject/>
  <dc:title>PowerPoint Template</dc:title>
</cp:coreProperties>
</file>