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FC0-DC51-4EEE-ABE7-E94752C4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F71-E45C-4A88-B7AA-BE7CE50F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436-F410-4926-A398-3AD6716C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740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6356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740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6356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18C-32ED-40A9-BBD5-DADE7691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352680" y="3276360"/>
            <a:ext cx="51055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832-40B7-4B4E-9DEC-401B57B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76740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63560" y="5638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37124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76740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63560" y="583776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2F6-0F3B-4372-A6A4-49AD9E2F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D28-8C08-45FC-9721-3045A1A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76E-3721-466C-8605-9C3B122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352680" y="3276360"/>
            <a:ext cx="51055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535-2FE3-4C2E-A7B2-D2D146B9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7A5-32E2-4A35-BD09-324A85C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02560" y="583776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1D6-D41B-44E4-A0B4-95EB3605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2560" y="5638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240" y="583776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0EC-0D41-434B-BFD1-570CA03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efefe"/>
              </a:gs>
              <a:gs pos="100000">
                <a:srgbClr val="5ad9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BD8-2ED2-4039-BFCA-465F6E2071BE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5ad9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PowerPoint</a:t>
            </a:r>
            <a:r>
              <a:rPr b="0" i="1" lang="en-US" sz="3600" spc="-1" strike="noStrike">
                <a:solidFill>
                  <a:srgbClr val="1d528d"/>
                </a:solidFill>
                <a:latin typeface="Verdana"/>
              </a:rPr>
              <a:t> </a:t>
            </a:r>
            <a:br>
              <a:rPr sz="3600"/>
            </a:br>
            <a:r>
              <a:rPr b="1" i="1" lang="en-US" sz="7200" spc="-1" strike="noStrike">
                <a:solidFill>
                  <a:srgbClr val="1d528d"/>
                </a:solidFill>
                <a:latin typeface="Verdana"/>
              </a:rPr>
              <a:t>Template</a:t>
            </a:r>
            <a:endParaRPr b="0" i="1" lang="en-US" sz="7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8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d9f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ad9f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07482"/>
                </a:gs>
                <a:gs pos="50000">
                  <a:srgbClr val="5ad9f2"/>
                </a:gs>
                <a:gs pos="100000">
                  <a:srgbClr val="3074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0"/>
                  </a:srgbClr>
                </a:gs>
                <a:gs pos="100000">
                  <a:srgbClr val="388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1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f85f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53d71"/>
                </a:gs>
                <a:gs pos="100000">
                  <a:srgbClr val="2f85f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785"/>
                </a:gs>
                <a:gs pos="50000">
                  <a:srgbClr val="2f85f7"/>
                </a:gs>
                <a:gs pos="100000">
                  <a:srgbClr val="19478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1d54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1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6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7" name="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7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9646f"/>
                </a:gs>
                <a:gs pos="50000">
                  <a:srgbClr val="5ad9f2"/>
                </a:gs>
                <a:gs pos="100000">
                  <a:srgbClr val="29646f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9646f"/>
                </a:gs>
                <a:gs pos="50000">
                  <a:srgbClr val="5ad9f2"/>
                </a:gs>
                <a:gs pos="100000">
                  <a:srgbClr val="29646f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9646f"/>
                </a:gs>
                <a:gs pos="50000">
                  <a:srgbClr val="5ad9f2"/>
                </a:gs>
                <a:gs pos="100000">
                  <a:srgbClr val="29646f"/>
                </a:gs>
              </a:gsLst>
              <a:lin ang="807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8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2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59" name=""/>
            <p:cNvCxnSpPr>
              <a:stCxn id="755" idx="3"/>
              <a:endCxn id="75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0" name=""/>
            <p:cNvCxnSpPr>
              <a:stCxn id="756" idx="3"/>
              <a:endCxn id="75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4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9646f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9646f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0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80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dcdcd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3a3b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205ca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8787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87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96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0e4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6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d71"/>
              </a:gs>
              <a:gs pos="50000">
                <a:srgbClr val="2f85f7"/>
              </a:gs>
              <a:gs pos="100000">
                <a:srgbClr val="153d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0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96969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7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d549c"/>
                </a:gs>
                <a:gs pos="100000">
                  <a:srgbClr val="2f85f7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160b2"/>
                </a:gs>
                <a:gs pos="100000">
                  <a:srgbClr val="2f85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1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4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88999"/>
                </a:gs>
                <a:gs pos="100000">
                  <a:srgbClr val="5ad9f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19cae"/>
                </a:gs>
                <a:gs pos="100000">
                  <a:srgbClr val="5ad9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8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1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a16000"/>
                </a:gs>
                <a:gs pos="100000">
                  <a:srgbClr val="ff99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b86e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5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ad9f2"/>
                </a:gs>
                <a:gs pos="100000">
                  <a:srgbClr val="29646f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85f7"/>
                </a:gs>
                <a:gs pos="100000">
                  <a:srgbClr val="153d71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ad9f2"/>
                </a:gs>
                <a:gs pos="100000">
                  <a:srgbClr val="29646f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5f7"/>
                </a:gs>
                <a:gs pos="100000">
                  <a:srgbClr val="153d71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ww.themegallery.com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2f85f7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2f85f7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5c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f1f9"/>
              </a:gs>
              <a:gs pos="100000">
                <a:srgbClr val="5ad9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5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6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b6975"/>
                  </a:gs>
                  <a:gs pos="100000">
                    <a:srgbClr val="5ad9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b5edf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153d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5d3fb"/>
                </a:gs>
                <a:gs pos="100000">
                  <a:srgbClr val="2f85f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48235"/>
                  </a:srgbClr>
                </a:gs>
                <a:gs pos="100000">
                  <a:srgbClr val="2568c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6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e4a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e2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a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4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646f"/>
                </a:gs>
                <a:gs pos="50000">
                  <a:srgbClr val="5ad9f2"/>
                </a:gs>
                <a:gs pos="100000">
                  <a:srgbClr val="2964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48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d9f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07482"/>
                  </a:gs>
                  <a:gs pos="50000">
                    <a:srgbClr val="5ad9f2"/>
                  </a:gs>
                  <a:gs pos="100000">
                    <a:srgbClr val="30748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7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646f"/>
                </a:gs>
                <a:gs pos="50000">
                  <a:srgbClr val="5ad9f2"/>
                </a:gs>
                <a:gs pos="100000">
                  <a:srgbClr val="296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53d71"/>
                </a:gs>
                <a:gs pos="50000">
                  <a:srgbClr val="2f85f7"/>
                </a:gs>
                <a:gs pos="100000">
                  <a:srgbClr val="153d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0b0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86e00"/>
                </a:gs>
                <a:gs pos="50000">
                  <a:srgbClr val="ff9900"/>
                </a:gs>
                <a:gs pos="100000">
                  <a:srgbClr val="b8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cae"/>
                </a:gs>
                <a:gs pos="50000">
                  <a:srgbClr val="5ad9f2"/>
                </a:gs>
                <a:gs pos="100000">
                  <a:srgbClr val="419c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0b4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893f7"/>
                </a:gs>
                <a:gs pos="50000">
                  <a:srgbClr val="2f85f7"/>
                </a:gs>
                <a:gs pos="100000">
                  <a:srgbClr val="4893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8a8a8"/>
                </a:gs>
                <a:gs pos="50000">
                  <a:srgbClr val="969696"/>
                </a:gs>
                <a:gs pos="100000">
                  <a:srgbClr val="a8a8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2f85f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eb74c"/>
              </a:gs>
              <a:gs pos="100000">
                <a:srgbClr val="ff9900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5b98e"/>
              </a:gs>
              <a:gs pos="100000">
                <a:srgbClr val="699d5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be3f4"/>
              </a:gs>
              <a:gs pos="100000">
                <a:srgbClr val="5ad9f2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2:19:09Z</dcterms:created>
  <dc:creator>Sung Ha, Park</dc:creator>
  <dc:description/>
  <dc:language>en-US</dc:language>
  <cp:lastModifiedBy>Sung Ha, Park</cp:lastModifiedBy>
  <dcterms:modified xsi:type="dcterms:W3CDTF">2004-11-23T06:36:51Z</dcterms:modified>
  <cp:revision>9</cp:revision>
  <dc:subject/>
  <dc:title>PowerPoint  Template</dc:title>
</cp:coreProperties>
</file>