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66C-A062-48BE-B318-F606C115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41911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4280" y="4161600"/>
            <a:ext cx="41911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577-E9C2-434D-909D-858C05A7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7204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24280" y="416160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72040" y="416160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13D-6A7B-48F2-BF53-F5F71A83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141240" y="396252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558560" y="396252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24280" y="416160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141240" y="416160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558560" y="416160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7113-CB21-4406-8F01-DC2B4B7F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6B86-C9BB-4B33-906E-980DC3BF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724280" y="39625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F133-4815-432B-A199-B46065B2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45CE-45DE-4E35-A0A3-37DCBCF6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2045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72040" y="3962520"/>
            <a:ext cx="2045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62BF-BBB3-4ABB-AC98-67B0AC4E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5EAC-7746-4BE1-AD8D-4648BE5A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724280" y="2362320"/>
            <a:ext cx="426744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A2EE-E2D8-48AB-9AB7-8EA322F7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72040" y="3962520"/>
            <a:ext cx="2045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24280" y="416160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FF97-5110-46C5-9E40-6F400D4F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724280" y="39625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4A8F-734E-4319-B0AA-C0C75A7C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2045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7204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72040" y="416160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AA14-1959-4DE0-B1CA-CB2354CF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7204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24280" y="4161600"/>
            <a:ext cx="41911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B155-E714-4E63-916C-097FE1FD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41911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24280" y="4161600"/>
            <a:ext cx="41911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EEC2-E3E8-4B58-9A91-4E04430C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7204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24280" y="416160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72040" y="416160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2FB6-65FC-415A-97BC-011E3528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141240" y="396252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558560" y="396252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24280" y="416160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6141240" y="416160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558560" y="416160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2B82-1DDE-4225-BA18-A26708B1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1F9-B3E0-4DCC-A246-8C4CDC49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2045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872040" y="3962520"/>
            <a:ext cx="2045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08D4-B1E5-451A-ADFC-C2FABF38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B1D-CC39-495A-ADD0-C463A6B3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724280" y="2362320"/>
            <a:ext cx="426744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4ED-3DBF-4895-948D-CE175AD5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872040" y="3962520"/>
            <a:ext cx="2045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280" y="416160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0E2-D130-470D-88F1-78BB6BF2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2045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7204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040" y="416160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D855-59A1-44C0-BD06-7C1615D3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04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24280" y="4161600"/>
            <a:ext cx="41911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0636-B4C3-41BC-9A15-2788CFC0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9cc769"/>
              </a:gs>
              <a:gs pos="100000">
                <a:srgbClr val="4987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9cc769"/>
              </a:gs>
              <a:gs pos="100000">
                <a:srgbClr val="4987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78440" y="800280"/>
            <a:ext cx="4165560" cy="444240"/>
          </a:xfrm>
          <a:custGeom>
            <a:avLst/>
            <a:gdLst/>
            <a:ahLst/>
            <a:rect l="l" t="t" r="r" b="b"/>
            <a:pathLst>
              <a:path w="2624" h="280">
                <a:moveTo>
                  <a:pt x="0" y="8"/>
                </a:moveTo>
                <a:cubicBezTo>
                  <a:pt x="438" y="40"/>
                  <a:pt x="564" y="59"/>
                  <a:pt x="1288" y="120"/>
                </a:cubicBezTo>
                <a:cubicBezTo>
                  <a:pt x="2015" y="181"/>
                  <a:pt x="2616" y="280"/>
                  <a:pt x="2624" y="280"/>
                </a:cubicBezTo>
                <a:lnTo>
                  <a:pt x="2624" y="0"/>
                </a:lnTo>
                <a:lnTo>
                  <a:pt x="0" y="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1129a1"/>
              </a:gs>
              <a:gs pos="50000">
                <a:srgbClr val="07124a"/>
              </a:gs>
              <a:gs pos="100000">
                <a:srgbClr val="1129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29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8766-2D82-4D4F-89E4-A2471F8B26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0" y="793800"/>
            <a:ext cx="3635280" cy="444600"/>
          </a:xfrm>
          <a:custGeom>
            <a:avLst/>
            <a:gdLst/>
            <a:ahLst/>
            <a:rect l="l" t="t" r="r" b="b"/>
            <a:pathLst>
              <a:path w="2096" h="280">
                <a:moveTo>
                  <a:pt x="0" y="16"/>
                </a:moveTo>
                <a:cubicBezTo>
                  <a:pt x="352" y="48"/>
                  <a:pt x="418" y="43"/>
                  <a:pt x="1000" y="104"/>
                </a:cubicBezTo>
                <a:cubicBezTo>
                  <a:pt x="1584" y="165"/>
                  <a:pt x="2048" y="251"/>
                  <a:pt x="2096" y="280"/>
                </a:cubicBezTo>
                <a:lnTo>
                  <a:pt x="2096" y="0"/>
                </a:lnTo>
                <a:lnTo>
                  <a:pt x="0" y="1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5029200" cy="587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029200" cy="58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0d262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5e330b"/>
              </a:gs>
              <a:gs pos="100000">
                <a:srgbClr val="ce701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71600" y="-9360"/>
            <a:ext cx="6892920" cy="6879960"/>
          </a:xfrm>
          <a:custGeom>
            <a:avLst/>
            <a:gdLst/>
            <a:ahLst/>
            <a:rect l="l" t="t" r="r" b="b"/>
            <a:pathLst>
              <a:path w="4362" h="4342">
                <a:moveTo>
                  <a:pt x="148" y="0"/>
                </a:moveTo>
                <a:lnTo>
                  <a:pt x="561" y="193"/>
                </a:lnTo>
                <a:lnTo>
                  <a:pt x="943" y="501"/>
                </a:lnTo>
                <a:lnTo>
                  <a:pt x="1221" y="967"/>
                </a:lnTo>
                <a:lnTo>
                  <a:pt x="1413" y="1630"/>
                </a:lnTo>
                <a:lnTo>
                  <a:pt x="1290" y="2660"/>
                </a:lnTo>
                <a:lnTo>
                  <a:pt x="0" y="4342"/>
                </a:lnTo>
                <a:lnTo>
                  <a:pt x="4349" y="4342"/>
                </a:lnTo>
                <a:lnTo>
                  <a:pt x="4362" y="7"/>
                </a:lnTo>
                <a:lnTo>
                  <a:pt x="148" y="0"/>
                </a:lnTo>
                <a:close/>
              </a:path>
            </a:pathLst>
          </a:custGeom>
          <a:gradFill rotWithShape="0">
            <a:gsLst>
              <a:gs pos="0">
                <a:srgbClr val="1129a1"/>
              </a:gs>
              <a:gs pos="100000">
                <a:srgbClr val="4987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B176-D841-4734-A1D7-CAA259B9FE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58672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cc769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9cc769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solidFill>
            <a:srgbClr val="498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e2eed4"/>
              </a:gs>
              <a:gs pos="100000">
                <a:srgbClr val="9cc7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ffffff"/>
                </a:solidFill>
                <a:latin typeface="Arial"/>
              </a:rPr>
              <a:t>Template</a:t>
            </a:r>
            <a:endParaRPr b="0" i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724280" y="39625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162920" y="21337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84c5d1">
                  <a:alpha val="12156"/>
                </a:srgbClr>
              </a:gs>
              <a:gs pos="50000">
                <a:srgbClr val="36a1b6"/>
              </a:gs>
              <a:gs pos="100000">
                <a:srgbClr val="84c5d1">
                  <a:alpha val="1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4987e3"/>
              </a:gs>
              <a:gs pos="100000">
                <a:srgbClr val="97baee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f6fc"/>
              </a:gs>
              <a:gs pos="100000">
                <a:srgbClr val="4987e3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29a1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af5"/>
              </a:gs>
              <a:gs pos="100000">
                <a:srgbClr val="9cc769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29a1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f6fc"/>
              </a:gs>
              <a:gs pos="100000">
                <a:srgbClr val="4987e3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29a1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af5"/>
              </a:gs>
              <a:gs pos="100000">
                <a:srgbClr val="9cc769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29a1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f6fc"/>
              </a:gs>
              <a:gs pos="100000">
                <a:srgbClr val="4987e3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29a1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36a1b6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15000" y="3429000"/>
            <a:ext cx="281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29a1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91" name="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148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281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997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d6d6d6"/>
              </a:gs>
              <a:gs pos="100000">
                <a:srgbClr val="c0c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311" name="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5e330b"/>
                </a:gs>
                <a:gs pos="50000">
                  <a:srgbClr val="ce701a"/>
                </a:gs>
                <a:gs pos="100000">
                  <a:srgbClr val="5e330b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29a1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322" name="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8755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8755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43f30"/>
                </a:gs>
                <a:gs pos="50000">
                  <a:srgbClr val="d8755a"/>
                </a:gs>
                <a:gs pos="100000">
                  <a:srgbClr val="743f3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0"/>
                  </a:srgbClr>
                </a:gs>
                <a:gs pos="100000">
                  <a:srgbClr val="884a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328" name="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2" name="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333" name="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44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8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339" name="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345" name="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351" name="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66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66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93652"/>
                </a:gs>
                <a:gs pos="50000">
                  <a:srgbClr val="ff6699"/>
                </a:gs>
                <a:gs pos="100000">
                  <a:srgbClr val="8936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0"/>
                  </a:srgbClr>
                </a:gs>
                <a:gs pos="100000">
                  <a:srgbClr val="a14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39400" y="5089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362" name="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d36"/>
                </a:gs>
                <a:gs pos="50000">
                  <a:srgbClr val="00cc66"/>
                </a:gs>
                <a:gs pos="100000">
                  <a:srgbClr val="006d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1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373" name="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374" name="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965e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965e1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e3679"/>
                  </a:gs>
                  <a:gs pos="50000">
                    <a:srgbClr val="3965e1"/>
                  </a:gs>
                  <a:gs pos="100000">
                    <a:srgbClr val="1e367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0"/>
                    </a:srgbClr>
                  </a:gs>
                  <a:gs pos="100000">
                    <a:srgbClr val="25439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5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4" name=""/>
            <p:cNvSpPr/>
            <p:nvPr/>
          </p:nvSpPr>
          <p:spPr>
            <a:xfrm>
              <a:off x="295164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87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390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391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394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97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03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08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09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12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20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25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26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29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32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38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43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44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47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50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56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69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3" name=""/>
            <p:cNvCxnSpPr>
              <a:stCxn id="469" idx="3"/>
              <a:endCxn id="470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1129a1"/>
              </a:solidFill>
              <a:miter/>
              <a:tailEnd len="med" type="triangle" w="med"/>
            </a:ln>
          </p:spPr>
        </p:cxnSp>
        <p:cxnSp>
          <p:nvCxnSpPr>
            <p:cNvPr id="474" name=""/>
            <p:cNvCxnSpPr>
              <a:stCxn id="470" idx="3"/>
              <a:endCxn id="471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1129a1"/>
              </a:solidFill>
              <a:miter/>
              <a:tailEnd len="med" type="triangle" w="med"/>
            </a:ln>
          </p:spPr>
        </p:cxnSp>
        <p:cxnSp>
          <p:nvCxnSpPr>
            <p:cNvPr id="475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1129a1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774880" y="1937880"/>
            <a:ext cx="4014000" cy="4255560"/>
            <a:chOff x="2774880" y="1937880"/>
            <a:chExt cx="4014000" cy="4255560"/>
          </a:xfrm>
        </p:grpSpPr>
        <p:sp>
          <p:nvSpPr>
            <p:cNvPr id="478" name=""/>
            <p:cNvSpPr/>
            <p:nvPr/>
          </p:nvSpPr>
          <p:spPr>
            <a:xfrm>
              <a:off x="2782800" y="327492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84a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7200000">
              <a:off x="4474080" y="2194560"/>
              <a:ext cx="136548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810880" y="1937880"/>
              <a:ext cx="2483280" cy="2629440"/>
              <a:chOff x="2810880" y="1937880"/>
              <a:chExt cx="2483280" cy="2629440"/>
            </a:xfrm>
          </p:grpSpPr>
          <p:sp>
            <p:nvSpPr>
              <p:cNvPr id="481" name=""/>
              <p:cNvSpPr/>
              <p:nvPr/>
            </p:nvSpPr>
            <p:spPr>
              <a:xfrm rot="12600000">
                <a:off x="2864880" y="364428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49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7200000">
                <a:off x="3260880" y="284868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49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200000">
                <a:off x="4334040" y="192204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49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 rot="14400000">
              <a:off x="4588200" y="404820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cc769"/>
                </a:gs>
                <a:gs pos="100000">
                  <a:srgbClr val="475b30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4615920" y="2817360"/>
              <a:ext cx="2172960" cy="2759760"/>
              <a:chOff x="4615920" y="2817360"/>
              <a:chExt cx="2172960" cy="2759760"/>
            </a:xfrm>
          </p:grpSpPr>
          <p:sp>
            <p:nvSpPr>
              <p:cNvPr id="486" name=""/>
              <p:cNvSpPr/>
              <p:nvPr/>
            </p:nvSpPr>
            <p:spPr>
              <a:xfrm rot="19800000">
                <a:off x="4670280" y="313632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cc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4400000">
                <a:off x="5063040" y="373212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cc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4400000">
                <a:off x="5883120" y="448416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cc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2774880" y="4479840"/>
              <a:ext cx="2493720" cy="1395000"/>
              <a:chOff x="2774880" y="4479840"/>
              <a:chExt cx="2493720" cy="1395000"/>
            </a:xfrm>
          </p:grpSpPr>
          <p:sp>
            <p:nvSpPr>
              <p:cNvPr id="490" name=""/>
              <p:cNvSpPr/>
              <p:nvPr/>
            </p:nvSpPr>
            <p:spPr>
              <a:xfrm>
                <a:off x="2774880" y="447984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36a1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5400000">
                <a:off x="4256640" y="486288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36a1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298680" y="480204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36a1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"/>
          <p:cNvSpPr/>
          <p:nvPr/>
        </p:nvSpPr>
        <p:spPr>
          <a:xfrm>
            <a:off x="533520" y="49528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629400" y="487692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048120" y="1752480"/>
            <a:ext cx="32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303960" y="328140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608360" y="328140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925720" y="328140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19320" y="328140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280160" y="1711080"/>
            <a:ext cx="6214680" cy="1324080"/>
            <a:chOff x="1280160" y="1711080"/>
            <a:chExt cx="6214680" cy="1324080"/>
          </a:xfrm>
        </p:grpSpPr>
        <p:sp>
          <p:nvSpPr>
            <p:cNvPr id="502" name=""/>
            <p:cNvSpPr/>
            <p:nvPr/>
          </p:nvSpPr>
          <p:spPr>
            <a:xfrm rot="3418800">
              <a:off x="1488240" y="1918440"/>
              <a:ext cx="873720" cy="970920"/>
            </a:xfrm>
            <a:prstGeom prst="rect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84a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2410920" y="2092320"/>
              <a:ext cx="901440" cy="124200"/>
              <a:chOff x="2410920" y="2092320"/>
              <a:chExt cx="901440" cy="124200"/>
            </a:xfrm>
          </p:grpSpPr>
          <p:sp>
            <p:nvSpPr>
              <p:cNvPr id="504" name=""/>
              <p:cNvSpPr/>
              <p:nvPr/>
            </p:nvSpPr>
            <p:spPr>
              <a:xfrm>
                <a:off x="2410920" y="20923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97320" y="209304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75560" y="209412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249000" y="21330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 rot="3418800">
              <a:off x="3152880" y="1856160"/>
              <a:ext cx="873720" cy="970920"/>
            </a:xfrm>
            <a:prstGeom prst="rect">
              <a:avLst/>
            </a:prstGeom>
            <a:solidFill>
              <a:srgbClr val="4987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4075560" y="2092320"/>
              <a:ext cx="901440" cy="124200"/>
              <a:chOff x="4075560" y="2092320"/>
              <a:chExt cx="901440" cy="124200"/>
            </a:xfrm>
          </p:grpSpPr>
          <p:sp>
            <p:nvSpPr>
              <p:cNvPr id="510" name=""/>
              <p:cNvSpPr/>
              <p:nvPr/>
            </p:nvSpPr>
            <p:spPr>
              <a:xfrm>
                <a:off x="4075560" y="20923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61960" y="209304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840200" y="209412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913640" y="21330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3418800">
              <a:off x="4748040" y="1856160"/>
              <a:ext cx="873720" cy="970920"/>
            </a:xfrm>
            <a:prstGeom prst="rect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84a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5740200" y="2092320"/>
              <a:ext cx="1178280" cy="124200"/>
              <a:chOff x="5740200" y="2092320"/>
              <a:chExt cx="1178280" cy="124200"/>
            </a:xfrm>
          </p:grpSpPr>
          <p:sp>
            <p:nvSpPr>
              <p:cNvPr id="516" name=""/>
              <p:cNvSpPr/>
              <p:nvPr/>
            </p:nvSpPr>
            <p:spPr>
              <a:xfrm>
                <a:off x="5740200" y="209232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853240" y="209304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739920" y="209412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836040" y="213300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 rot="3418800">
              <a:off x="6412680" y="1856160"/>
              <a:ext cx="873720" cy="970920"/>
            </a:xfrm>
            <a:prstGeom prst="rect">
              <a:avLst/>
            </a:prstGeom>
            <a:solidFill>
              <a:srgbClr val="4987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159480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9040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3660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53220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0128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29a1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9508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29a1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99068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29a1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68592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29a1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990720" y="2003400"/>
          <a:ext cx="7315200" cy="32004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515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6a1b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29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6a1b6"/>
                    </a:solidFill>
                  </a:tcPr>
                </a:tc>
              </a:tr>
              <a:tr h="33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6a1b6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6a1b6">
                        <a:alpha val="33000"/>
                      </a:srgbClr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6a1b6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6a1b6">
                        <a:alpha val="33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6a1b6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6a1b6">
                        <a:alpha val="33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6a1b6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6a1b6">
                        <a:alpha val="33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6a1b6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6a1b6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990000" y="1173240"/>
            <a:ext cx="6879960" cy="4804920"/>
            <a:chOff x="990000" y="1173240"/>
            <a:chExt cx="6879960" cy="4804920"/>
          </a:xfrm>
        </p:grpSpPr>
        <p:sp>
          <p:nvSpPr>
            <p:cNvPr id="533" name=""/>
            <p:cNvSpPr/>
            <p:nvPr/>
          </p:nvSpPr>
          <p:spPr>
            <a:xfrm>
              <a:off x="2187720" y="438948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01600">
              <a:off x="133200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0601600">
              <a:off x="138888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0601600">
              <a:off x="1303200" y="202392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rot="20602200">
              <a:off x="1281600" y="2054880"/>
              <a:ext cx="575352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0601600">
              <a:off x="1312920" y="203508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20602200">
              <a:off x="1295280" y="204264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601600">
              <a:off x="2849400" y="2752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6504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6980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4632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72200" y="305100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539200">
              <a:off x="1307520" y="2053080"/>
              <a:ext cx="6257520" cy="297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71920" y="35323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4632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9384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08872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4832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01600">
              <a:off x="2951280" y="300528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554" name="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9cc769">
                    <a:alpha val="64313"/>
                  </a:srgbClr>
                </a:gs>
                <a:gs pos="100000">
                  <a:srgbClr val="f2f7eb"/>
                </a:gs>
              </a:gsLst>
              <a:lin ang="5400000"/>
            </a:gradFill>
            <a:ln w="25560">
              <a:solidFill>
                <a:srgbClr val="9cc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5" name="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51944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4987e3">
                    <a:alpha val="60392"/>
                  </a:srgbClr>
                </a:gs>
                <a:gs pos="100000">
                  <a:srgbClr val="ccddf6"/>
                </a:gs>
              </a:gsLst>
              <a:lin ang="5400000"/>
            </a:gradFill>
            <a:ln w="25560">
              <a:solidFill>
                <a:srgbClr val="4987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61" name="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3" name="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76440" y="4902120"/>
            <a:ext cx="441972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987e3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140360"/>
            <a:ext cx="441972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cc769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2920" y="3378240"/>
            <a:ext cx="441936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987e3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2920" y="2616120"/>
            <a:ext cx="441936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cc769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95520" y="1846440"/>
            <a:ext cx="441972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987e3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178000" y="1935000"/>
            <a:ext cx="380880" cy="381240"/>
            <a:chOff x="2178000" y="1935000"/>
            <a:chExt cx="380880" cy="381240"/>
          </a:xfrm>
        </p:grpSpPr>
        <p:sp>
          <p:nvSpPr>
            <p:cNvPr id="111" name=""/>
            <p:cNvSpPr/>
            <p:nvPr/>
          </p:nvSpPr>
          <p:spPr>
            <a:xfrm>
              <a:off x="2178000" y="19350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99600" y="19562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19400" y="19764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6a1b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19400" y="19764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38840" y="19958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1d5662"/>
                </a:gs>
                <a:gs pos="50000">
                  <a:srgbClr val="36a1b6"/>
                </a:gs>
                <a:gs pos="100000">
                  <a:srgbClr val="1d56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38840" y="19958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78000" y="2722680"/>
            <a:ext cx="380880" cy="380880"/>
            <a:chOff x="2178000" y="2722680"/>
            <a:chExt cx="380880" cy="380880"/>
          </a:xfrm>
        </p:grpSpPr>
        <p:sp>
          <p:nvSpPr>
            <p:cNvPr id="118" name=""/>
            <p:cNvSpPr/>
            <p:nvPr/>
          </p:nvSpPr>
          <p:spPr>
            <a:xfrm>
              <a:off x="2178000" y="27226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99600" y="27439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19400" y="27640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6a1b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9400" y="27640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38840" y="27835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1d5662"/>
                </a:gs>
                <a:gs pos="50000">
                  <a:srgbClr val="36a1b6"/>
                </a:gs>
                <a:gs pos="100000">
                  <a:srgbClr val="1d56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38840" y="27835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178000" y="3454560"/>
            <a:ext cx="380880" cy="380880"/>
            <a:chOff x="2178000" y="3454560"/>
            <a:chExt cx="380880" cy="380880"/>
          </a:xfrm>
        </p:grpSpPr>
        <p:sp>
          <p:nvSpPr>
            <p:cNvPr id="125" name=""/>
            <p:cNvSpPr/>
            <p:nvPr/>
          </p:nvSpPr>
          <p:spPr>
            <a:xfrm>
              <a:off x="2178000" y="345456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99600" y="347580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19400" y="349596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6a1b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19400" y="349596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38840" y="351540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1d5662"/>
                </a:gs>
                <a:gs pos="50000">
                  <a:srgbClr val="36a1b6"/>
                </a:gs>
                <a:gs pos="100000">
                  <a:srgbClr val="1d56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38840" y="351540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178000" y="4241880"/>
            <a:ext cx="380880" cy="380880"/>
            <a:chOff x="2178000" y="4241880"/>
            <a:chExt cx="380880" cy="380880"/>
          </a:xfrm>
        </p:grpSpPr>
        <p:sp>
          <p:nvSpPr>
            <p:cNvPr id="132" name=""/>
            <p:cNvSpPr/>
            <p:nvPr/>
          </p:nvSpPr>
          <p:spPr>
            <a:xfrm>
              <a:off x="2178000" y="4241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99600" y="4263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19400" y="4283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6a1b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9400" y="4283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38840" y="4302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1d5662"/>
                </a:gs>
                <a:gs pos="50000">
                  <a:srgbClr val="36a1b6"/>
                </a:gs>
                <a:gs pos="100000">
                  <a:srgbClr val="1d56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38840" y="4302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178000" y="4951440"/>
            <a:ext cx="355680" cy="380880"/>
            <a:chOff x="2178000" y="4951440"/>
            <a:chExt cx="355680" cy="380880"/>
          </a:xfrm>
        </p:grpSpPr>
        <p:sp>
          <p:nvSpPr>
            <p:cNvPr id="139" name=""/>
            <p:cNvSpPr/>
            <p:nvPr/>
          </p:nvSpPr>
          <p:spPr>
            <a:xfrm>
              <a:off x="2178000" y="49514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98160" y="49726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16520" y="49928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6a1b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16520" y="49928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34880" y="50122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1d5662"/>
                </a:gs>
                <a:gs pos="50000">
                  <a:srgbClr val="36a1b6"/>
                </a:gs>
                <a:gs pos="100000">
                  <a:srgbClr val="1d56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34880" y="50122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5028840" y="3981600"/>
            <a:ext cx="3352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[ Add your company slogan ]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800600" y="3276720"/>
            <a:ext cx="3886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129a1"/>
                    </a:gs>
                    <a:gs pos="100000">
                      <a:srgbClr val="4987e3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129a1"/>
                  </a:gs>
                  <a:gs pos="100000">
                    <a:srgbClr val="4987e3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8840" y="1530000"/>
            <a:ext cx="78246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1129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29a1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3367080"/>
            <a:ext cx="2057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ea36d"/>
              </a:gs>
              <a:gs pos="100000">
                <a:srgbClr val="ce701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ee0e6"/>
              </a:gs>
              <a:gs pos="100000">
                <a:srgbClr val="36a1b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55" name=""/>
            <p:cNvGrpSpPr/>
            <p:nvPr/>
          </p:nvGrpSpPr>
          <p:grpSpPr>
            <a:xfrm>
              <a:off x="3048120" y="1590480"/>
              <a:ext cx="2998440" cy="1458360"/>
              <a:chOff x="3048120" y="1590480"/>
              <a:chExt cx="2998440" cy="1458360"/>
            </a:xfrm>
          </p:grpSpPr>
          <p:sp>
            <p:nvSpPr>
              <p:cNvPr id="156" name=""/>
              <p:cNvSpPr/>
              <p:nvPr/>
            </p:nvSpPr>
            <p:spPr>
              <a:xfrm>
                <a:off x="3080880" y="163692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1a4d58"/>
                  </a:gs>
                  <a:gs pos="100000">
                    <a:srgbClr val="36a1b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159048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a5d4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318960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24520" y="145548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bed4f4"/>
                </a:gs>
                <a:gs pos="100000">
                  <a:srgbClr val="4987e3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51520" y="146844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48235"/>
                  </a:srgbClr>
                </a:gs>
                <a:gs pos="100000">
                  <a:srgbClr val="396ab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83280" y="149544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23880" y="1752480"/>
            <a:ext cx="1752840" cy="4267440"/>
            <a:chOff x="1523880" y="1752480"/>
            <a:chExt cx="1752840" cy="4267440"/>
          </a:xfrm>
        </p:grpSpPr>
        <p:sp>
          <p:nvSpPr>
            <p:cNvPr id="165" name=""/>
            <p:cNvSpPr/>
            <p:nvPr/>
          </p:nvSpPr>
          <p:spPr>
            <a:xfrm>
              <a:off x="1600200" y="3352680"/>
              <a:ext cx="1600200" cy="26672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7240"/>
                <a:gd name="textAreaBottom" fmla="*/ 2630160 h 2667240"/>
              </a:gdLst>
              <a:ahLst/>
              <a:rect l="textAreaLeft" t="textAreaTop" r="textAreaRight" b="textAreaBottom"/>
              <a:pathLst>
                <a:path w="21600" h="36000">
                  <a:moveTo>
                    <a:pt x="1714" y="0"/>
                  </a:moveTo>
                  <a:arcTo wR="1714" hR="1714" stAng="16200000" swAng="-5400000"/>
                  <a:lnTo>
                    <a:pt x="0" y="34286"/>
                  </a:lnTo>
                  <a:arcTo wR="1714" hR="1714" stAng="10800000" swAng="-5400000"/>
                  <a:lnTo>
                    <a:pt x="19886" y="3600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294d82"/>
                </a:gs>
                <a:gs pos="100000">
                  <a:srgbClr val="4987e3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1800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23880" y="1752480"/>
              <a:ext cx="1752840" cy="2057400"/>
            </a:xfrm>
            <a:custGeom>
              <a:avLst/>
              <a:gdLst>
                <a:gd name="textAreaLeft" fmla="*/ 89640 w 1752840"/>
                <a:gd name="textAreaRight" fmla="*/ 1663200 w 175284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2">
                  <a:moveTo>
                    <a:pt x="3782" y="0"/>
                  </a:moveTo>
                  <a:arcTo wR="3782" hR="3782" stAng="16200000" swAng="-5400000"/>
                  <a:lnTo>
                    <a:pt x="0" y="21570"/>
                  </a:lnTo>
                  <a:arcTo wR="3782" hR="3782" stAng="10800000" swAng="-5400000"/>
                  <a:lnTo>
                    <a:pt x="17818" y="2535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65280" y="3244680"/>
              <a:ext cx="167652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85ae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65280" y="1774800"/>
              <a:ext cx="1676520" cy="50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b2ec"/>
                </a:gs>
                <a:gs pos="100000">
                  <a:srgbClr val="4987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83240" y="208764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709640" y="568584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95b9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059520" y="2438280"/>
            <a:ext cx="1712880" cy="3581640"/>
            <a:chOff x="6059520" y="2438280"/>
            <a:chExt cx="1712880" cy="3581640"/>
          </a:xfrm>
        </p:grpSpPr>
        <p:sp>
          <p:nvSpPr>
            <p:cNvPr id="173" name=""/>
            <p:cNvSpPr/>
            <p:nvPr/>
          </p:nvSpPr>
          <p:spPr>
            <a:xfrm>
              <a:off x="6121440" y="3809880"/>
              <a:ext cx="1600200" cy="22100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10040"/>
                <a:gd name="textAreaBottom" fmla="*/ 2172960 h 2210040"/>
              </a:gdLst>
              <a:ahLst/>
              <a:rect l="textAreaLeft" t="textAreaTop" r="textAreaRight" b="textAreaBottom"/>
              <a:pathLst>
                <a:path w="21600" h="29830">
                  <a:moveTo>
                    <a:pt x="1714" y="0"/>
                  </a:moveTo>
                  <a:arcTo wR="1714" hR="1714" stAng="16200000" swAng="-5400000"/>
                  <a:lnTo>
                    <a:pt x="0" y="28116"/>
                  </a:lnTo>
                  <a:arcTo wR="1714" hR="1714" stAng="10800000" swAng="-5400000"/>
                  <a:lnTo>
                    <a:pt x="19886" y="2983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75b30"/>
                </a:gs>
                <a:gs pos="100000">
                  <a:srgbClr val="9cc769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6059520" y="2438280"/>
              <a:ext cx="1712880" cy="1901880"/>
              <a:chOff x="6059520" y="2438280"/>
              <a:chExt cx="1712880" cy="1901880"/>
            </a:xfrm>
          </p:grpSpPr>
          <p:sp>
            <p:nvSpPr>
              <p:cNvPr id="176" name=""/>
              <p:cNvSpPr/>
              <p:nvPr/>
            </p:nvSpPr>
            <p:spPr>
              <a:xfrm>
                <a:off x="6059520" y="2438280"/>
                <a:ext cx="1712880" cy="1901880"/>
              </a:xfrm>
              <a:custGeom>
                <a:avLst/>
                <a:gdLst>
                  <a:gd name="textAreaLeft" fmla="*/ 87840 w 1712880"/>
                  <a:gd name="textAreaRight" fmla="*/ 1625040 w 1712880"/>
                  <a:gd name="textAreaTop" fmla="*/ 87840 h 1901880"/>
                  <a:gd name="textAreaBottom" fmla="*/ 1814040 h 1901880"/>
                </a:gdLst>
                <a:ahLst/>
                <a:rect l="textAreaLeft" t="textAreaTop" r="textAreaRight" b="textAreaBottom"/>
                <a:pathLst>
                  <a:path w="21600" h="23983">
                    <a:moveTo>
                      <a:pt x="3782" y="0"/>
                    </a:moveTo>
                    <a:arcTo wR="3782" hR="3782" stAng="16200000" swAng="-5400000"/>
                    <a:lnTo>
                      <a:pt x="0" y="20201"/>
                    </a:lnTo>
                    <a:arcTo wR="3782" hR="3782" stAng="10800000" swAng="-5400000"/>
                    <a:lnTo>
                      <a:pt x="17818" y="2398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9cc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99480" y="3817080"/>
                <a:ext cx="1638720" cy="471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cc769"/>
                  </a:gs>
                  <a:gs pos="100000">
                    <a:srgbClr val="cbe1b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99480" y="2458080"/>
                <a:ext cx="163872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be1b1"/>
                  </a:gs>
                  <a:gs pos="100000">
                    <a:srgbClr val="9cc7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cc769"/>
                </a:gs>
                <a:gs pos="100000">
                  <a:srgbClr val="cee2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182" name="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20616e"/>
                </a:gs>
                <a:gs pos="100000">
                  <a:srgbClr val="36a1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35440" y="2057400"/>
              <a:ext cx="1727280" cy="1981080"/>
              <a:chOff x="3835440" y="2057400"/>
              <a:chExt cx="1727280" cy="1981080"/>
            </a:xfrm>
          </p:grpSpPr>
          <p:sp>
            <p:nvSpPr>
              <p:cNvPr id="184" name=""/>
              <p:cNvSpPr/>
              <p:nvPr/>
            </p:nvSpPr>
            <p:spPr>
              <a:xfrm>
                <a:off x="3835440" y="2057400"/>
                <a:ext cx="1727280" cy="1981080"/>
              </a:xfrm>
              <a:custGeom>
                <a:avLst/>
                <a:gdLst>
                  <a:gd name="textAreaLeft" fmla="*/ 88560 w 1727280"/>
                  <a:gd name="textAreaRight" fmla="*/ 1638720 w 1727280"/>
                  <a:gd name="textAreaTop" fmla="*/ 88560 h 1981080"/>
                  <a:gd name="textAreaBottom" fmla="*/ 1892520 h 1981080"/>
                </a:gdLst>
                <a:ahLst/>
                <a:rect l="textAreaLeft" t="textAreaTop" r="textAreaRight" b="textAreaBottom"/>
                <a:pathLst>
                  <a:path w="21600" h="24773">
                    <a:moveTo>
                      <a:pt x="3782" y="0"/>
                    </a:moveTo>
                    <a:arcTo wR="3782" hR="3782" stAng="16200000" swAng="-5400000"/>
                    <a:lnTo>
                      <a:pt x="0" y="20991"/>
                    </a:lnTo>
                    <a:arcTo wR="3782" hR="3782" stAng="10800000" swAng="-5400000"/>
                    <a:lnTo>
                      <a:pt x="17818" y="2477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36a1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875760" y="3495600"/>
                <a:ext cx="1652400" cy="49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6a1b6"/>
                  </a:gs>
                  <a:gs pos="100000">
                    <a:srgbClr val="9cd0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875760" y="2080080"/>
                <a:ext cx="1652400" cy="490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cad6"/>
                  </a:gs>
                  <a:gs pos="100000">
                    <a:srgbClr val="36a1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9cd0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92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23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62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e701a"/>
                </a:gs>
                <a:gs pos="100000">
                  <a:srgbClr val="49270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544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0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1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129a1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295280" y="1828800"/>
            <a:ext cx="6477120" cy="4125600"/>
            <a:chOff x="1295280" y="1828800"/>
            <a:chExt cx="6477120" cy="4125600"/>
          </a:xfrm>
        </p:grpSpPr>
        <p:sp>
          <p:nvSpPr>
            <p:cNvPr id="214" name=""/>
            <p:cNvSpPr/>
            <p:nvPr/>
          </p:nvSpPr>
          <p:spPr>
            <a:xfrm>
              <a:off x="3759120" y="4133520"/>
              <a:ext cx="1549440" cy="579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59120" y="3627360"/>
              <a:ext cx="154944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59120" y="3120840"/>
              <a:ext cx="1549440" cy="579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35400" y="3340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35400" y="384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35400" y="4352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25880" y="2903400"/>
              <a:ext cx="49212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2396880"/>
              <a:ext cx="1689120" cy="2968560"/>
            </a:xfrm>
            <a:custGeom>
              <a:avLst/>
              <a:gdLst>
                <a:gd name="textAreaLeft" fmla="*/ 82440 w 1689120"/>
                <a:gd name="textAreaRight" fmla="*/ 1606680 w 1689120"/>
                <a:gd name="textAreaTop" fmla="*/ 82440 h 2968560"/>
                <a:gd name="textAreaBottom" fmla="*/ 2886120 h 2968560"/>
              </a:gdLst>
              <a:ahLst/>
              <a:rect l="textAreaLeft" t="textAreaTop" r="textAreaRight" b="textAreaBottom"/>
              <a:pathLst>
                <a:path w="21600" h="37958">
                  <a:moveTo>
                    <a:pt x="3600" y="0"/>
                  </a:moveTo>
                  <a:arcTo wR="3600" hR="3600" stAng="16200000" swAng="-5400000"/>
                  <a:lnTo>
                    <a:pt x="0" y="34358"/>
                  </a:lnTo>
                  <a:arcTo wR="3600" hR="3600" stAng="10800000" swAng="-5400000"/>
                  <a:lnTo>
                    <a:pt x="18000" y="379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65120" y="2614320"/>
              <a:ext cx="154944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83280" y="2396880"/>
              <a:ext cx="1689120" cy="2968560"/>
            </a:xfrm>
            <a:custGeom>
              <a:avLst/>
              <a:gdLst>
                <a:gd name="textAreaLeft" fmla="*/ 82440 w 1689120"/>
                <a:gd name="textAreaRight" fmla="*/ 1606680 w 1689120"/>
                <a:gd name="textAreaTop" fmla="*/ 82440 h 2968560"/>
                <a:gd name="textAreaBottom" fmla="*/ 2886120 h 2968560"/>
              </a:gdLst>
              <a:ahLst/>
              <a:rect l="textAreaLeft" t="textAreaTop" r="textAreaRight" b="textAreaBottom"/>
              <a:pathLst>
                <a:path w="21600" h="37958">
                  <a:moveTo>
                    <a:pt x="3600" y="0"/>
                  </a:moveTo>
                  <a:arcTo wR="3600" hR="3600" stAng="16200000" swAng="-5400000"/>
                  <a:lnTo>
                    <a:pt x="0" y="34358"/>
                  </a:lnTo>
                  <a:arcTo wR="3600" hR="3600" stAng="10800000" swAng="-5400000"/>
                  <a:lnTo>
                    <a:pt x="18000" y="379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53120" y="2614320"/>
              <a:ext cx="154944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51480" y="2903400"/>
              <a:ext cx="49068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56040" y="182880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28880" y="2541600"/>
              <a:ext cx="161928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13080" y="2039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25880" y="5365440"/>
              <a:ext cx="2816280" cy="57816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84a53"/>
                </a:gs>
                <a:gs pos="50000">
                  <a:srgbClr val="36a1b6"/>
                </a:gs>
                <a:gs pos="100000">
                  <a:srgbClr val="184a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13080" y="55861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08360" y="4786200"/>
              <a:ext cx="162252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1523880"/>
            <a:ext cx="7383960" cy="4421160"/>
            <a:chOff x="838080" y="1523880"/>
            <a:chExt cx="7383960" cy="4421160"/>
          </a:xfrm>
        </p:grpSpPr>
        <p:grpSp>
          <p:nvGrpSpPr>
            <p:cNvPr id="234" name=""/>
            <p:cNvGrpSpPr/>
            <p:nvPr/>
          </p:nvGrpSpPr>
          <p:grpSpPr>
            <a:xfrm>
              <a:off x="2362320" y="1523880"/>
              <a:ext cx="4419000" cy="4376160"/>
              <a:chOff x="2362320" y="1523880"/>
              <a:chExt cx="4419000" cy="4376160"/>
            </a:xfrm>
          </p:grpSpPr>
          <p:sp>
            <p:nvSpPr>
              <p:cNvPr id="235" name="Puzzle3"/>
              <p:cNvSpPr/>
              <p:nvPr/>
            </p:nvSpPr>
            <p:spPr>
              <a:xfrm>
                <a:off x="4514400" y="1523880"/>
                <a:ext cx="1737000" cy="2325600"/>
              </a:xfrm>
              <a:prstGeom prst="pie">
                <a:avLst/>
              </a:prstGeom>
              <a:gradFill rotWithShape="0">
                <a:gsLst>
                  <a:gs pos="0">
                    <a:srgbClr val="2e558f"/>
                  </a:gs>
                  <a:gs pos="100000">
                    <a:srgbClr val="4987e3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Puzzle2"/>
              <p:cNvSpPr/>
              <p:nvPr/>
            </p:nvSpPr>
            <p:spPr>
              <a:xfrm>
                <a:off x="4008960" y="321804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e7bd96"/>
                  </a:gs>
                  <a:gs pos="100000">
                    <a:srgbClr val="ce701a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Puzzle4"/>
              <p:cNvSpPr/>
              <p:nvPr/>
            </p:nvSpPr>
            <p:spPr>
              <a:xfrm>
                <a:off x="2936160" y="3191760"/>
                <a:ext cx="1671480" cy="2708280"/>
              </a:xfrm>
              <a:prstGeom prst="pie">
                <a:avLst/>
              </a:prstGeom>
              <a:gradFill rotWithShape="0">
                <a:gsLst>
                  <a:gs pos="0">
                    <a:srgbClr val="97cdd8"/>
                  </a:gs>
                  <a:gs pos="100000">
                    <a:srgbClr val="36a1b6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Puzzle1"/>
              <p:cNvSpPr/>
              <p:nvPr/>
            </p:nvSpPr>
            <p:spPr>
              <a:xfrm>
                <a:off x="2362320" y="2227320"/>
                <a:ext cx="2806920" cy="1614240"/>
              </a:xfrm>
              <a:prstGeom prst="pie">
                <a:avLst/>
              </a:prstGeom>
              <a:gradFill rotWithShape="0">
                <a:gsLst>
                  <a:gs pos="0">
                    <a:srgbClr val="475b30"/>
                  </a:gs>
                  <a:gs pos="100000">
                    <a:srgbClr val="9cc769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6477840" y="390024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8080" y="32907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90920" y="15998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67080" y="55767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834320" y="2286000"/>
            <a:ext cx="576360" cy="846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184a5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73480" y="2286000"/>
            <a:ext cx="3343320" cy="54144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36a1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254720" y="3117960"/>
            <a:ext cx="576360" cy="8413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213e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43320" y="3117960"/>
            <a:ext cx="3594240" cy="53964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498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73680" y="3949560"/>
            <a:ext cx="573120" cy="84456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9cc769"/>
              </a:gs>
              <a:gs pos="100000">
                <a:srgbClr val="475b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5880" y="4772160"/>
            <a:ext cx="577800" cy="846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ce701a"/>
              </a:gs>
              <a:gs pos="100000">
                <a:srgbClr val="5e33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92360" y="4776840"/>
            <a:ext cx="4081320" cy="53964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ce70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72640" y="2276640"/>
            <a:ext cx="5034600" cy="3324240"/>
            <a:chOff x="872640" y="2276640"/>
            <a:chExt cx="5034600" cy="3324240"/>
          </a:xfrm>
        </p:grpSpPr>
        <p:sp>
          <p:nvSpPr>
            <p:cNvPr id="252" name=""/>
            <p:cNvSpPr/>
            <p:nvPr/>
          </p:nvSpPr>
          <p:spPr>
            <a:xfrm flipH="1">
              <a:off x="873000" y="5599080"/>
              <a:ext cx="1657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873000" y="478296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25640" y="478296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8456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079960" y="2827440"/>
            <a:ext cx="2766960" cy="304560"/>
          </a:xfrm>
          <a:prstGeom prst="rect">
            <a:avLst/>
          </a:prstGeom>
          <a:gradFill rotWithShape="0">
            <a:gsLst>
              <a:gs pos="0">
                <a:srgbClr val="36a1b6"/>
              </a:gs>
              <a:gs pos="50000">
                <a:srgbClr val="226573"/>
              </a:gs>
              <a:gs pos="100000">
                <a:srgbClr val="36a1b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45120" y="3657600"/>
            <a:ext cx="3016080" cy="298440"/>
          </a:xfrm>
          <a:prstGeom prst="rect">
            <a:avLst/>
          </a:prstGeom>
          <a:gradFill rotWithShape="0">
            <a:gsLst>
              <a:gs pos="0">
                <a:srgbClr val="4987e3"/>
              </a:gs>
              <a:gs pos="50000">
                <a:srgbClr val="305996"/>
              </a:gs>
              <a:gs pos="100000">
                <a:srgbClr val="4987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19640" y="3949560"/>
            <a:ext cx="3833640" cy="54468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9cc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22520" y="4492800"/>
            <a:ext cx="3264120" cy="298440"/>
          </a:xfrm>
          <a:prstGeom prst="rect">
            <a:avLst/>
          </a:prstGeom>
          <a:gradFill rotWithShape="0">
            <a:gsLst>
              <a:gs pos="0">
                <a:srgbClr val="9cc769"/>
              </a:gs>
              <a:gs pos="50000">
                <a:srgbClr val="708f4b"/>
              </a:gs>
              <a:gs pos="100000">
                <a:srgbClr val="9cc76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90920" y="5318280"/>
            <a:ext cx="3512880" cy="296640"/>
          </a:xfrm>
          <a:prstGeom prst="rect">
            <a:avLst/>
          </a:prstGeom>
          <a:gradFill rotWithShape="0">
            <a:gsLst>
              <a:gs pos="0">
                <a:srgbClr val="ce701a"/>
              </a:gs>
              <a:gs pos="50000">
                <a:srgbClr val="562f0a"/>
              </a:gs>
              <a:gs pos="100000">
                <a:srgbClr val="ce701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Sung Ha, Park</dc:creator>
  <dc:description/>
  <dc:language>en-US</dc:language>
  <cp:lastModifiedBy>Sung Ha, Park</cp:lastModifiedBy>
  <dcterms:modified xsi:type="dcterms:W3CDTF">2004-11-23T06:17:54Z</dcterms:modified>
  <cp:revision>44</cp:revision>
  <dc:subject/>
  <dc:title>Slide 1</dc:title>
</cp:coreProperties>
</file>