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899640"/>
            <a:ext cx="723888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828800" y="5315040"/>
            <a:ext cx="60199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828800" y="5514120"/>
            <a:ext cx="60199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899640"/>
            <a:ext cx="723888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828800" y="5315040"/>
            <a:ext cx="2937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13640" y="5315040"/>
            <a:ext cx="2937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828800" y="5514120"/>
            <a:ext cx="2937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13640" y="5514120"/>
            <a:ext cx="2937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899640"/>
            <a:ext cx="723888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828800" y="5315040"/>
            <a:ext cx="19382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64240" y="5315040"/>
            <a:ext cx="19382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00040" y="5315040"/>
            <a:ext cx="19382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828800" y="5514120"/>
            <a:ext cx="19382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64240" y="5514120"/>
            <a:ext cx="19382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00040" y="5514120"/>
            <a:ext cx="19382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899640"/>
            <a:ext cx="723888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828800" y="5315040"/>
            <a:ext cx="6019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899640"/>
            <a:ext cx="723888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828800" y="5315040"/>
            <a:ext cx="60199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899640"/>
            <a:ext cx="723888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828800" y="5315040"/>
            <a:ext cx="29376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13640" y="5315040"/>
            <a:ext cx="29376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899640"/>
            <a:ext cx="723888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899640"/>
            <a:ext cx="7238880" cy="36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899640"/>
            <a:ext cx="723888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828800" y="5315040"/>
            <a:ext cx="2937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3640" y="5315040"/>
            <a:ext cx="29376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828800" y="5514120"/>
            <a:ext cx="2937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899640"/>
            <a:ext cx="723888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828800" y="5315040"/>
            <a:ext cx="6019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899640"/>
            <a:ext cx="723888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828800" y="5315040"/>
            <a:ext cx="29376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3640" y="5315040"/>
            <a:ext cx="2937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13640" y="5514120"/>
            <a:ext cx="2937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899640"/>
            <a:ext cx="723888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828800" y="5315040"/>
            <a:ext cx="2937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3640" y="5315040"/>
            <a:ext cx="2937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828800" y="5514120"/>
            <a:ext cx="60199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899640"/>
            <a:ext cx="723888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828800" y="5315040"/>
            <a:ext cx="60199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828800" y="5514120"/>
            <a:ext cx="60199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899640"/>
            <a:ext cx="723888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828800" y="5315040"/>
            <a:ext cx="2937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13640" y="5315040"/>
            <a:ext cx="2937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828800" y="5514120"/>
            <a:ext cx="2937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13640" y="5514120"/>
            <a:ext cx="2937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899640"/>
            <a:ext cx="723888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828800" y="5315040"/>
            <a:ext cx="19382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64240" y="5315040"/>
            <a:ext cx="19382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00040" y="5315040"/>
            <a:ext cx="19382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828800" y="5514120"/>
            <a:ext cx="19382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64240" y="5514120"/>
            <a:ext cx="19382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00040" y="5514120"/>
            <a:ext cx="19382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899640"/>
            <a:ext cx="723888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828800" y="5315040"/>
            <a:ext cx="60199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899640"/>
            <a:ext cx="723888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828800" y="5315040"/>
            <a:ext cx="29376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13640" y="5315040"/>
            <a:ext cx="29376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899640"/>
            <a:ext cx="723888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400" y="899640"/>
            <a:ext cx="7238880" cy="36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899640"/>
            <a:ext cx="723888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8800" y="5315040"/>
            <a:ext cx="2937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13640" y="5315040"/>
            <a:ext cx="29376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28800" y="5514120"/>
            <a:ext cx="2937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899640"/>
            <a:ext cx="723888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8800" y="5315040"/>
            <a:ext cx="29376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13640" y="5315040"/>
            <a:ext cx="2937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13640" y="5514120"/>
            <a:ext cx="2937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899640"/>
            <a:ext cx="723888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8800" y="5315040"/>
            <a:ext cx="2937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13640" y="5315040"/>
            <a:ext cx="2937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828800" y="5514120"/>
            <a:ext cx="60199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247680"/>
          <a:ext cx="9144000" cy="115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47680"/>
                    <a:ext cx="9144000" cy="11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30a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1f52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"/>
          <p:cNvSpPr/>
          <p:nvPr/>
        </p:nvSpPr>
        <p:spPr>
          <a:xfrm>
            <a:off x="6095880" y="6567480"/>
            <a:ext cx="266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240" y="963720"/>
            <a:ext cx="9140760" cy="461880"/>
          </a:xfrm>
          <a:custGeom>
            <a:avLst/>
            <a:gdLst/>
            <a:ahLst/>
            <a:rect l="l" t="t" r="r" b="b"/>
            <a:pathLst>
              <a:path w="5764" h="291">
                <a:moveTo>
                  <a:pt x="0" y="290"/>
                </a:moveTo>
                <a:lnTo>
                  <a:pt x="1" y="193"/>
                </a:lnTo>
                <a:cubicBezTo>
                  <a:pt x="305" y="150"/>
                  <a:pt x="1172" y="50"/>
                  <a:pt x="1833" y="25"/>
                </a:cubicBezTo>
                <a:cubicBezTo>
                  <a:pt x="2494" y="0"/>
                  <a:pt x="3312" y="15"/>
                  <a:pt x="3966" y="41"/>
                </a:cubicBezTo>
                <a:cubicBezTo>
                  <a:pt x="4620" y="68"/>
                  <a:pt x="5460" y="142"/>
                  <a:pt x="5760" y="184"/>
                </a:cubicBezTo>
                <a:lnTo>
                  <a:pt x="5764" y="291"/>
                </a:lnTo>
                <a:lnTo>
                  <a:pt x="0" y="2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393920"/>
            <a:ext cx="8229600" cy="49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481b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81b8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0a4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81b8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81b8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f52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81b8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81b8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81b8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81b8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8" name=""/>
          <p:cNvSpPr/>
          <p:nvPr/>
        </p:nvSpPr>
        <p:spPr>
          <a:xfrm>
            <a:off x="6923160" y="14400"/>
            <a:ext cx="169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6480"/>
            <a:ext cx="9144000" cy="2946240"/>
          </a:xfrm>
          <a:prstGeom prst="rect">
            <a:avLst/>
          </a:prstGeom>
          <a:solidFill>
            <a:srgbClr val="1f52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-14400" y="1932120"/>
            <a:ext cx="9158400" cy="2506680"/>
          </a:xfrm>
          <a:custGeom>
            <a:avLst/>
            <a:gdLst/>
            <a:ahLst/>
            <a:rect l="l" t="t" r="r" b="b"/>
            <a:pathLst>
              <a:path w="5769" h="1579">
                <a:moveTo>
                  <a:pt x="0" y="465"/>
                </a:moveTo>
                <a:cubicBezTo>
                  <a:pt x="722" y="228"/>
                  <a:pt x="1673" y="36"/>
                  <a:pt x="2916" y="18"/>
                </a:cubicBezTo>
                <a:cubicBezTo>
                  <a:pt x="4159" y="0"/>
                  <a:pt x="5348" y="247"/>
                  <a:pt x="5769" y="475"/>
                </a:cubicBezTo>
                <a:lnTo>
                  <a:pt x="5766" y="1579"/>
                </a:lnTo>
                <a:lnTo>
                  <a:pt x="6" y="1579"/>
                </a:lnTo>
                <a:lnTo>
                  <a:pt x="0" y="465"/>
                </a:lnTo>
                <a:close/>
              </a:path>
            </a:pathLst>
          </a:custGeom>
          <a:solidFill>
            <a:srgbClr val="1f52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4933800"/>
            <a:ext cx="9163080" cy="1941840"/>
          </a:xfrm>
          <a:prstGeom prst="rect">
            <a:avLst/>
          </a:prstGeom>
          <a:solidFill>
            <a:srgbClr val="30a4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4680" y="2046240"/>
            <a:ext cx="9148680" cy="2787840"/>
          </a:xfrm>
          <a:custGeom>
            <a:avLst/>
            <a:gdLst/>
            <a:ahLst/>
            <a:rect l="l" t="t" r="r" b="b"/>
            <a:pathLst>
              <a:path w="5763" h="1756">
                <a:moveTo>
                  <a:pt x="0" y="586"/>
                </a:moveTo>
                <a:cubicBezTo>
                  <a:pt x="693" y="340"/>
                  <a:pt x="1521" y="0"/>
                  <a:pt x="2929" y="18"/>
                </a:cubicBezTo>
                <a:cubicBezTo>
                  <a:pt x="4337" y="36"/>
                  <a:pt x="5292" y="322"/>
                  <a:pt x="5763" y="593"/>
                </a:cubicBezTo>
                <a:lnTo>
                  <a:pt x="5763" y="1756"/>
                </a:lnTo>
                <a:lnTo>
                  <a:pt x="0" y="1752"/>
                </a:lnTo>
                <a:lnTo>
                  <a:pt x="0" y="58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4826160"/>
            <a:ext cx="9156600" cy="168120"/>
          </a:xfrm>
          <a:prstGeom prst="rect">
            <a:avLst/>
          </a:prstGeom>
          <a:gradFill rotWithShape="0">
            <a:gsLst>
              <a:gs pos="0">
                <a:srgbClr val="30a484"/>
              </a:gs>
              <a:gs pos="100000">
                <a:srgbClr val="164b3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899640"/>
            <a:ext cx="723888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22860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e1e2"/>
                </a:solidFill>
                <a:latin typeface="Verdana"/>
              </a:rPr>
              <a:t>LOGO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528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f528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f5281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528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f528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f528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image" Target="../media/image4.wmf"/><Relationship Id="rId7" Type="http://schemas.openxmlformats.org/officeDocument/2006/relationships/image" Target="../media/image7.png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899640"/>
            <a:ext cx="723888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owerPoint Templat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757160" y="5315040"/>
            <a:ext cx="60195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"/>
          <p:cNvSpPr/>
          <p:nvPr/>
        </p:nvSpPr>
        <p:spPr>
          <a:xfrm flipH="1" flipV="1" rot="621000">
            <a:off x="7446600" y="1031040"/>
            <a:ext cx="1017720" cy="122400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1481b8"/>
              </a:gs>
              <a:gs pos="100000">
                <a:srgbClr val="30a483"/>
              </a:gs>
            </a:gsLst>
            <a:lin ang="478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990720" y="2438280"/>
            <a:ext cx="7016760" cy="2971800"/>
            <a:chOff x="990720" y="2438280"/>
            <a:chExt cx="7016760" cy="2971800"/>
          </a:xfrm>
        </p:grpSpPr>
        <p:sp>
          <p:nvSpPr>
            <p:cNvPr id="244" name=""/>
            <p:cNvSpPr/>
            <p:nvPr/>
          </p:nvSpPr>
          <p:spPr>
            <a:xfrm>
              <a:off x="2976840" y="3174840"/>
              <a:ext cx="465120" cy="53208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30a4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491440" y="3174840"/>
              <a:ext cx="463320" cy="53208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1481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02136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1481b8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02136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1481b8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151680" y="257508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0a4563"/>
                </a:gs>
                <a:gs pos="50000">
                  <a:srgbClr val="1481b8"/>
                </a:gs>
                <a:gs pos="100000">
                  <a:srgbClr val="0a456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180120" y="2584440"/>
              <a:ext cx="1727280" cy="1733400"/>
            </a:xfrm>
            <a:prstGeom prst="ellipse">
              <a:avLst/>
            </a:prstGeom>
            <a:gradFill rotWithShape="0">
              <a:gsLst>
                <a:gs pos="0">
                  <a:srgbClr val="1481b8">
                    <a:alpha val="0"/>
                  </a:srgbClr>
                </a:gs>
                <a:gs pos="100000">
                  <a:srgbClr val="0c517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243840" y="2660760"/>
              <a:ext cx="1555560" cy="1560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990720" y="243828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990720" y="243828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121040" y="256860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122480" y="257184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206720" y="2655720"/>
              <a:ext cx="1554120" cy="1560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1231920" y="2678040"/>
              <a:ext cx="1503360" cy="1511280"/>
              <a:chOff x="1231920" y="2678040"/>
              <a:chExt cx="1503360" cy="1511280"/>
            </a:xfrm>
          </p:grpSpPr>
          <p:sp>
            <p:nvSpPr>
              <p:cNvPr id="257" name=""/>
              <p:cNvSpPr/>
              <p:nvPr/>
            </p:nvSpPr>
            <p:spPr>
              <a:xfrm>
                <a:off x="1231920" y="2678040"/>
                <a:ext cx="15033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250640" y="2686320"/>
                <a:ext cx="146736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266480" y="2700720"/>
                <a:ext cx="13950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348200" y="2739600"/>
                <a:ext cx="1240200" cy="1117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350676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30a483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50676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164b3c"/>
                </a:gs>
                <a:gs pos="100000">
                  <a:srgbClr val="30a483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637080" y="257508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195846"/>
                </a:gs>
                <a:gs pos="50000">
                  <a:srgbClr val="30a483"/>
                </a:gs>
                <a:gs pos="100000">
                  <a:srgbClr val="19584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38520" y="2577960"/>
              <a:ext cx="1725840" cy="1733760"/>
            </a:xfrm>
            <a:prstGeom prst="ellipse">
              <a:avLst/>
            </a:prstGeom>
            <a:gradFill rotWithShape="0">
              <a:gsLst>
                <a:gs pos="0">
                  <a:srgbClr val="30a483">
                    <a:alpha val="0"/>
                  </a:srgbClr>
                </a:gs>
                <a:gs pos="100000">
                  <a:srgbClr val="1e67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722760" y="2660760"/>
              <a:ext cx="1554120" cy="1560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3748320" y="2678040"/>
              <a:ext cx="1503360" cy="1511280"/>
              <a:chOff x="3748320" y="2678040"/>
              <a:chExt cx="1503360" cy="1511280"/>
            </a:xfrm>
          </p:grpSpPr>
          <p:sp>
            <p:nvSpPr>
              <p:cNvPr id="267" name=""/>
              <p:cNvSpPr/>
              <p:nvPr/>
            </p:nvSpPr>
            <p:spPr>
              <a:xfrm>
                <a:off x="3748320" y="2678040"/>
                <a:ext cx="15033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767040" y="2686320"/>
                <a:ext cx="146736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782880" y="2700720"/>
                <a:ext cx="13950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864600" y="2739600"/>
                <a:ext cx="1240200" cy="1117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6272280" y="2678040"/>
              <a:ext cx="1505160" cy="1511280"/>
              <a:chOff x="6272280" y="2678040"/>
              <a:chExt cx="1505160" cy="1511280"/>
            </a:xfrm>
          </p:grpSpPr>
          <p:sp>
            <p:nvSpPr>
              <p:cNvPr id="272" name=""/>
              <p:cNvSpPr/>
              <p:nvPr/>
            </p:nvSpPr>
            <p:spPr>
              <a:xfrm>
                <a:off x="6272280" y="2678040"/>
                <a:ext cx="15051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291360" y="2686320"/>
                <a:ext cx="146916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306840" y="2700720"/>
                <a:ext cx="13968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388920" y="2739600"/>
                <a:ext cx="1241640" cy="1117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276" name=""/>
            <p:cNvSpPr/>
            <p:nvPr/>
          </p:nvSpPr>
          <p:spPr>
            <a:xfrm>
              <a:off x="1035000" y="4933800"/>
              <a:ext cx="18925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1f52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f5281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549600" y="4933800"/>
              <a:ext cx="18907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1f52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f5281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080400" y="4933800"/>
              <a:ext cx="18907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1f52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f5281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599840" y="3236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122360" y="3236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643440" y="3236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144792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1481b8"/>
              </a:gs>
              <a:gs pos="100000">
                <a:srgbClr val="30a483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019920" y="35812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rot="20876400">
            <a:off x="3697200" y="495288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629160" y="373392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649680" y="3743280"/>
            <a:ext cx="1665360" cy="16639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666960" y="375912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759120" y="3803760"/>
            <a:ext cx="1409760" cy="1261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046760" y="436104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rot="20826600">
            <a:off x="1854360" y="4343040"/>
            <a:ext cx="113328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1778040" y="3352680"/>
            <a:ext cx="1371240" cy="1441080"/>
            <a:chOff x="1778040" y="3352680"/>
            <a:chExt cx="1371240" cy="1441080"/>
          </a:xfrm>
        </p:grpSpPr>
        <p:sp>
          <p:nvSpPr>
            <p:cNvPr id="293" name=""/>
            <p:cNvSpPr/>
            <p:nvPr/>
          </p:nvSpPr>
          <p:spPr>
            <a:xfrm>
              <a:off x="1778040" y="335268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795680" y="336096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809000" y="337464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880640" y="341136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058480" y="38588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1676520" y="258768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752480" y="1981080"/>
            <a:ext cx="1024200" cy="10242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765440" y="198612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776240" y="1996920"/>
            <a:ext cx="951120" cy="9334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830240" y="2022480"/>
            <a:ext cx="847800" cy="7570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949760" y="233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943360" y="205740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065400" y="1523880"/>
            <a:ext cx="682560" cy="68292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75120" y="1527120"/>
            <a:ext cx="66492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081240" y="1533600"/>
            <a:ext cx="633600" cy="6220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117960" y="1552680"/>
            <a:ext cx="563400" cy="503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135960" y="174780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 rot="17973000">
            <a:off x="4615560" y="267552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30a483"/>
              </a:gs>
              <a:gs pos="100000">
                <a:srgbClr val="2a9174">
                  <a:alpha val="0"/>
                </a:srgbClr>
              </a:gs>
            </a:gsLst>
            <a:lin ang="14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rot="3465600">
            <a:off x="4614840" y="48394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30a483"/>
              </a:gs>
              <a:gs pos="100000">
                <a:srgbClr val="2a9174">
                  <a:alpha val="0"/>
                </a:srgbClr>
              </a:gs>
            </a:gsLst>
            <a:lin ang="73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rot="14368800">
            <a:off x="3396240" y="275148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30a483"/>
              </a:gs>
              <a:gs pos="100000">
                <a:srgbClr val="2a9174">
                  <a:alpha val="0"/>
                </a:srgbClr>
              </a:gs>
            </a:gsLst>
            <a:lin ang="180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rot="7534800">
            <a:off x="3358080" y="480600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30a483"/>
              </a:gs>
              <a:gs pos="100000">
                <a:srgbClr val="2a9174">
                  <a:alpha val="0"/>
                </a:srgbClr>
              </a:gs>
            </a:gsLst>
            <a:lin ang="32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194440" y="380376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30a483"/>
              </a:gs>
              <a:gs pos="100000">
                <a:srgbClr val="2a9174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rot="10800000">
            <a:off x="2784240" y="379692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30a483"/>
              </a:gs>
              <a:gs pos="100000">
                <a:srgbClr val="2a9174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505240" y="2046240"/>
            <a:ext cx="3743280" cy="3745080"/>
          </a:xfrm>
          <a:prstGeom prst="ellipse">
            <a:avLst/>
          </a:prstGeom>
          <a:noFill/>
          <a:ln w="38160">
            <a:solidFill>
              <a:srgbClr val="d6e1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3267000" y="2093760"/>
            <a:ext cx="360360" cy="360360"/>
            <a:chOff x="3267000" y="2093760"/>
            <a:chExt cx="360360" cy="360360"/>
          </a:xfrm>
        </p:grpSpPr>
        <p:sp>
          <p:nvSpPr>
            <p:cNvPr id="319" name=""/>
            <p:cNvSpPr/>
            <p:nvPr/>
          </p:nvSpPr>
          <p:spPr>
            <a:xfrm>
              <a:off x="3267000" y="2093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ecdba8"/>
                </a:gs>
                <a:gs pos="100000">
                  <a:srgbClr val="cc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282840" y="2124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dba8"/>
                </a:gs>
                <a:gs pos="100000">
                  <a:srgbClr val="cc99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2322360" y="3749760"/>
            <a:ext cx="360360" cy="360360"/>
            <a:chOff x="2322360" y="3749760"/>
            <a:chExt cx="360360" cy="360360"/>
          </a:xfrm>
        </p:grpSpPr>
        <p:sp>
          <p:nvSpPr>
            <p:cNvPr id="322" name=""/>
            <p:cNvSpPr/>
            <p:nvPr/>
          </p:nvSpPr>
          <p:spPr>
            <a:xfrm>
              <a:off x="232236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ecdba8"/>
                </a:gs>
                <a:gs pos="100000">
                  <a:srgbClr val="cc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33820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dba8"/>
                </a:gs>
                <a:gs pos="100000">
                  <a:srgbClr val="cc99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186000" y="5292720"/>
            <a:ext cx="360360" cy="360360"/>
            <a:chOff x="3186000" y="5292720"/>
            <a:chExt cx="360360" cy="360360"/>
          </a:xfrm>
        </p:grpSpPr>
        <p:sp>
          <p:nvSpPr>
            <p:cNvPr id="325" name=""/>
            <p:cNvSpPr/>
            <p:nvPr/>
          </p:nvSpPr>
          <p:spPr>
            <a:xfrm>
              <a:off x="3186000" y="5292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ecdba8"/>
                </a:gs>
                <a:gs pos="100000">
                  <a:srgbClr val="cc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201840" y="5322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dba8"/>
                </a:gs>
                <a:gs pos="100000">
                  <a:srgbClr val="cc99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5116680" y="2073240"/>
            <a:ext cx="360360" cy="360360"/>
            <a:chOff x="5116680" y="2073240"/>
            <a:chExt cx="360360" cy="360360"/>
          </a:xfrm>
        </p:grpSpPr>
        <p:sp>
          <p:nvSpPr>
            <p:cNvPr id="328" name=""/>
            <p:cNvSpPr/>
            <p:nvPr/>
          </p:nvSpPr>
          <p:spPr>
            <a:xfrm>
              <a:off x="5116680" y="2073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ecdba8"/>
                </a:gs>
                <a:gs pos="100000">
                  <a:srgbClr val="cc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32520" y="2103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dba8"/>
                </a:gs>
                <a:gs pos="100000">
                  <a:srgbClr val="cc99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6066000" y="3749760"/>
            <a:ext cx="360360" cy="360360"/>
            <a:chOff x="6066000" y="3749760"/>
            <a:chExt cx="360360" cy="360360"/>
          </a:xfrm>
        </p:grpSpPr>
        <p:sp>
          <p:nvSpPr>
            <p:cNvPr id="331" name=""/>
            <p:cNvSpPr/>
            <p:nvPr/>
          </p:nvSpPr>
          <p:spPr>
            <a:xfrm>
              <a:off x="606600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ecdba8"/>
                </a:gs>
                <a:gs pos="100000">
                  <a:srgbClr val="cc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08184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dba8"/>
                </a:gs>
                <a:gs pos="100000">
                  <a:srgbClr val="cc99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172120" y="5349960"/>
            <a:ext cx="360360" cy="360360"/>
            <a:chOff x="5172120" y="5349960"/>
            <a:chExt cx="360360" cy="360360"/>
          </a:xfrm>
        </p:grpSpPr>
        <p:sp>
          <p:nvSpPr>
            <p:cNvPr id="334" name=""/>
            <p:cNvSpPr/>
            <p:nvPr/>
          </p:nvSpPr>
          <p:spPr>
            <a:xfrm>
              <a:off x="5172120" y="53499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ecdba8"/>
                </a:gs>
                <a:gs pos="100000">
                  <a:srgbClr val="cc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187960" y="537984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ecdba8"/>
                </a:gs>
                <a:gs pos="100000">
                  <a:srgbClr val="cc99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3462480" y="29876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1481b8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456000" y="29718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093b54"/>
              </a:gs>
              <a:gs pos="100000">
                <a:srgbClr val="1481b8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589200" y="311472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0a4563"/>
              </a:gs>
              <a:gs pos="50000">
                <a:srgbClr val="1481b8"/>
              </a:gs>
              <a:gs pos="100000">
                <a:srgbClr val="0a456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571920" y="30877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1481b8">
                  <a:alpha val="0"/>
                </a:srgbClr>
              </a:gs>
              <a:gs pos="100000">
                <a:srgbClr val="0c517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673440" y="3198960"/>
            <a:ext cx="1522440" cy="15224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695760" y="3218040"/>
            <a:ext cx="1471680" cy="147312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713040" y="3227400"/>
            <a:ext cx="1438560" cy="14349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728880" y="3241800"/>
            <a:ext cx="1366920" cy="134136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809880" y="3278160"/>
            <a:ext cx="1214640" cy="1090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002840" y="368784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556600" y="202104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667160" y="202104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471000" y="37735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556600" y="53737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52760" y="37735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590840" y="531180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54" name="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360" name="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61" name="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69" name="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383" name="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388" name="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393" name="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399" name="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402" name="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403" name="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406" name="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</p:grpSp>
      <p:grpSp>
        <p:nvGrpSpPr>
          <p:cNvPr id="408" name="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409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414" name="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415" name="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</p:grpSp>
      <p:grpSp>
        <p:nvGrpSpPr>
          <p:cNvPr id="419" name="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420" name="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421" name="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424" name="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</p:grpSp>
      <p:sp>
        <p:nvSpPr>
          <p:cNvPr id="426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3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b5289"/>
              </a:gs>
              <a:gs pos="50000">
                <a:srgbClr val="3399ff"/>
              </a:gs>
              <a:gs pos="100000">
                <a:srgbClr val="1b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432" name="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437" name="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438" name="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440" name="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441" name="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</p:grpSp>
      <p:grpSp>
        <p:nvGrpSpPr>
          <p:cNvPr id="443" name="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444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450" name="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</p:grpSp>
      <p:grpSp>
        <p:nvGrpSpPr>
          <p:cNvPr id="454" name="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455" name="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456" name="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459" name="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</p:grpSp>
      <p:grpSp>
        <p:nvGrpSpPr>
          <p:cNvPr id="461" name="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462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467" name="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468" name="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</p:grpSp>
      <p:sp>
        <p:nvSpPr>
          <p:cNvPr id="472" name="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5281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5281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5281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5281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1101600" y="1828800"/>
            <a:ext cx="6057000" cy="407880"/>
            <a:chOff x="1101600" y="1828800"/>
            <a:chExt cx="6057000" cy="407880"/>
          </a:xfrm>
        </p:grpSpPr>
        <p:sp>
          <p:nvSpPr>
            <p:cNvPr id="481" name="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6022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3925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1f5281"/>
                </a:solidFill>
                <a:latin typeface="Arial"/>
              </a:endParaRPr>
            </a:p>
          </p:txBody>
        </p:sp>
        <p:cxnSp>
          <p:nvCxnSpPr>
            <p:cNvPr id="485" name=""/>
            <p:cNvCxnSpPr>
              <a:stCxn id="481" idx="3"/>
              <a:endCxn id="482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</p:cxnSp>
        <p:cxnSp>
          <p:nvCxnSpPr>
            <p:cNvPr id="486" name=""/>
            <p:cNvCxnSpPr>
              <a:stCxn id="482" idx="3"/>
              <a:endCxn id="483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</p:cxnSp>
        <p:cxnSp>
          <p:nvCxnSpPr>
            <p:cNvPr id="487" name="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gress Diagra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990720" y="2133720"/>
            <a:ext cx="6857640" cy="3428640"/>
            <a:chOff x="990720" y="2133720"/>
            <a:chExt cx="6857640" cy="3428640"/>
          </a:xfrm>
        </p:grpSpPr>
        <p:sp>
          <p:nvSpPr>
            <p:cNvPr id="490" name=""/>
            <p:cNvSpPr/>
            <p:nvPr/>
          </p:nvSpPr>
          <p:spPr>
            <a:xfrm>
              <a:off x="5285520" y="2903400"/>
              <a:ext cx="2562840" cy="2658960"/>
            </a:xfrm>
            <a:custGeom>
              <a:avLst/>
              <a:gdLst>
                <a:gd name="textAreaLeft" fmla="*/ 0 w 2562840"/>
                <a:gd name="textAreaRight" fmla="*/ 2562840 w 25628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dab74c"/>
                </a:gs>
                <a:gs pos="100000">
                  <a:srgbClr val="cc9900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138120" y="2903400"/>
              <a:ext cx="2701440" cy="265896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5aa6cc"/>
                </a:gs>
                <a:gs pos="100000">
                  <a:srgbClr val="1481b8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990720" y="2903400"/>
              <a:ext cx="2701440" cy="265896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ebea7"/>
                </a:gs>
                <a:gs pos="100000">
                  <a:srgbClr val="30a483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19844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bea7"/>
                </a:gs>
                <a:gs pos="100000">
                  <a:srgbClr val="30a483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0" lang="en-US" sz="20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30696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aa6cc"/>
                </a:gs>
                <a:gs pos="100000">
                  <a:srgbClr val="1481b8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0" lang="en-US" sz="20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42412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ab74c"/>
                </a:gs>
                <a:gs pos="100000">
                  <a:srgbClr val="cc9900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0" lang="en-US" sz="20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6e1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6e1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6e1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6e1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1127520" y="1863720"/>
            <a:ext cx="6215040" cy="1324440"/>
            <a:chOff x="1127520" y="1863720"/>
            <a:chExt cx="6215040" cy="1324440"/>
          </a:xfrm>
        </p:grpSpPr>
        <p:sp>
          <p:nvSpPr>
            <p:cNvPr id="502" name="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1481b8"/>
                </a:gs>
                <a:gs pos="100000">
                  <a:srgbClr val="093b54"/>
                </a:gs>
              </a:gsLst>
              <a:lin ang="1980000"/>
            </a:gradFill>
            <a:ln w="9360">
              <a:solidFill>
                <a:srgbClr val="1f52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503" name=""/>
            <p:cNvGrpSpPr/>
            <p:nvPr/>
          </p:nvGrpSpPr>
          <p:grpSpPr>
            <a:xfrm>
              <a:off x="2258280" y="2244600"/>
              <a:ext cx="901440" cy="124200"/>
              <a:chOff x="2258280" y="2244600"/>
              <a:chExt cx="901440" cy="124200"/>
            </a:xfrm>
          </p:grpSpPr>
          <p:sp>
            <p:nvSpPr>
              <p:cNvPr id="504" name="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34468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3022920" y="2246400"/>
                <a:ext cx="13680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309636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508" name="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30a483"/>
            </a:solidFill>
            <a:ln w="9360">
              <a:solidFill>
                <a:srgbClr val="1f52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509" name=""/>
            <p:cNvGrpSpPr/>
            <p:nvPr/>
          </p:nvGrpSpPr>
          <p:grpSpPr>
            <a:xfrm>
              <a:off x="3922920" y="2244600"/>
              <a:ext cx="901440" cy="124200"/>
              <a:chOff x="3922920" y="2244600"/>
              <a:chExt cx="901440" cy="124200"/>
            </a:xfrm>
          </p:grpSpPr>
          <p:sp>
            <p:nvSpPr>
              <p:cNvPr id="510" name="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00932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687560" y="2246400"/>
                <a:ext cx="13680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76100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 rot="3418800">
              <a:off x="4595400" y="200916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1481b8"/>
                </a:gs>
                <a:gs pos="100000">
                  <a:srgbClr val="093b54"/>
                </a:gs>
              </a:gsLst>
              <a:lin ang="1980000"/>
            </a:gradFill>
            <a:ln w="9360">
              <a:solidFill>
                <a:srgbClr val="1f52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515" name=""/>
            <p:cNvGrpSpPr/>
            <p:nvPr/>
          </p:nvGrpSpPr>
          <p:grpSpPr>
            <a:xfrm>
              <a:off x="5587920" y="2244600"/>
              <a:ext cx="1178280" cy="124200"/>
              <a:chOff x="5587920" y="2244600"/>
              <a:chExt cx="1178280" cy="124200"/>
            </a:xfrm>
          </p:grpSpPr>
          <p:sp>
            <p:nvSpPr>
              <p:cNvPr id="516" name=""/>
              <p:cNvSpPr/>
              <p:nvPr/>
            </p:nvSpPr>
            <p:spPr>
              <a:xfrm>
                <a:off x="558792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570096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587640" y="224640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683760" y="228528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520" name=""/>
            <p:cNvSpPr/>
            <p:nvPr/>
          </p:nvSpPr>
          <p:spPr>
            <a:xfrm rot="3418800">
              <a:off x="6260040" y="2009160"/>
              <a:ext cx="874080" cy="970920"/>
            </a:xfrm>
            <a:prstGeom prst="rect">
              <a:avLst/>
            </a:prstGeom>
            <a:solidFill>
              <a:srgbClr val="30a483"/>
            </a:solidFill>
            <a:ln w="9360">
              <a:solidFill>
                <a:srgbClr val="1f52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sp>
        <p:nvSpPr>
          <p:cNvPr id="521" name="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ab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30" name=""/>
          <p:cNvGraphicFramePr/>
          <p:nvPr/>
        </p:nvGraphicFramePr>
        <p:xfrm>
          <a:off x="838080" y="2416320"/>
          <a:ext cx="7467840" cy="312408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720"/>
                <a:gridCol w="1149120"/>
                <a:gridCol w="1157400"/>
                <a:gridCol w="1149480"/>
              </a:tblGrid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f5281"/>
                      </a:solidFill>
                    </a:lnR>
                    <a:lnT>
                      <a:noFill/>
                    </a:lnT>
                    <a:lnB w="5760">
                      <a:solidFill>
                        <a:srgbClr val="1f52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f528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f528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f5281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0a483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0a483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0a483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0a483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0a483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0a483">
                        <a:alpha val="48000"/>
                      </a:srgbClr>
                    </a:solidFill>
                  </a:tcPr>
                </a:tc>
              </a:tr>
              <a:tr h="44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0a483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0a483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0a483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0a483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0a483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0a483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0a483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0a483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0a483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0a48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0a48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0a483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1" name=""/>
          <p:cNvGrpSpPr/>
          <p:nvPr/>
        </p:nvGrpSpPr>
        <p:grpSpPr>
          <a:xfrm>
            <a:off x="601200" y="678600"/>
            <a:ext cx="7379640" cy="5581800"/>
            <a:chOff x="601200" y="678600"/>
            <a:chExt cx="7379640" cy="5581800"/>
          </a:xfrm>
        </p:grpSpPr>
        <p:sp>
          <p:nvSpPr>
            <p:cNvPr id="532" name=""/>
            <p:cNvSpPr/>
            <p:nvPr/>
          </p:nvSpPr>
          <p:spPr>
            <a:xfrm>
              <a:off x="21384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f7f9f2"/>
                </a:gs>
                <a:gs pos="100000">
                  <a:srgbClr val="d6e1e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 rot="20601600">
              <a:off x="1447920" y="2361960"/>
              <a:ext cx="5762520" cy="3016080"/>
            </a:xfrm>
            <a:prstGeom prst="ellipse">
              <a:avLst/>
            </a:prstGeom>
            <a:gradFill rotWithShape="0">
              <a:gsLst>
                <a:gs pos="0">
                  <a:srgbClr val="b7cbcd"/>
                </a:gs>
                <a:gs pos="100000">
                  <a:srgbClr val="a0b1b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rot="20601600">
              <a:off x="1469520" y="219024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 rot="20601600">
              <a:off x="1386360" y="2175840"/>
              <a:ext cx="5698440" cy="2924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1481b8"/>
                </a:gs>
                <a:gs pos="100000">
                  <a:srgbClr val="69aed1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 rot="20602200">
              <a:off x="1434960" y="2176200"/>
              <a:ext cx="5643360" cy="29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30a483"/>
                </a:gs>
                <a:gs pos="100000">
                  <a:srgbClr val="21725b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 rot="20601600">
              <a:off x="1392840" y="2187360"/>
              <a:ext cx="568152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879" y="1186"/>
                  </a:moveTo>
                  <a:arcTo wR="10800" hR="10800" stAng="-7026499" swAng="420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5879" y="1186"/>
                  </a:moveTo>
                  <a:arcTo wR="10800" hR="10800" stAng="-7026499" swAng="4201110"/>
                </a:path>
              </a:pathLst>
            </a:custGeom>
            <a:gradFill rotWithShape="0">
              <a:gsLst>
                <a:gs pos="0">
                  <a:srgbClr val="9ac8e0"/>
                </a:gs>
                <a:gs pos="100000">
                  <a:srgbClr val="1481b8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 rot="20602200">
              <a:off x="1402560" y="2185920"/>
              <a:ext cx="5702040" cy="292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46" y="828"/>
                  </a:moveTo>
                  <a:arcTo wR="10800" hR="10800" stAng="-4045467" swAng="57948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46" y="828"/>
                  </a:moveTo>
                  <a:arcTo wR="10800" hR="10800" stAng="-4045467" swAng="5794864"/>
                </a:path>
              </a:pathLst>
            </a:custGeom>
            <a:gradFill rotWithShape="0">
              <a:gsLst>
                <a:gs pos="0">
                  <a:srgbClr val="5e4600"/>
                </a:gs>
                <a:gs pos="100000">
                  <a:srgbClr val="cc9900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464080" y="362268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83a6a7"/>
                </a:gs>
                <a:gs pos="100000">
                  <a:srgbClr val="c5d5d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 rot="20539200">
              <a:off x="1019520" y="1582560"/>
              <a:ext cx="6542640" cy="377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808" y="16758"/>
                  </a:moveTo>
                  <a:arcTo wR="10800" hR="10800" stAng="2008784" swAng="28002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808" y="16758"/>
                  </a:moveTo>
                  <a:arcTo wR="10800" hR="10800" stAng="2008784" swAng="2800242"/>
                </a:path>
              </a:pathLst>
            </a:custGeom>
            <a:gradFill rotWithShape="0">
              <a:gsLst>
                <a:gs pos="0">
                  <a:srgbClr val="83a6a7"/>
                </a:gs>
                <a:gs pos="100000">
                  <a:srgbClr val="3c4c4c"/>
                </a:gs>
              </a:gsLst>
              <a:lin ang="145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475160" y="396252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83a6a7"/>
                </a:gs>
                <a:gs pos="100000">
                  <a:srgbClr val="c5d5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 rot="20601600">
              <a:off x="29304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9213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826440" y="236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6552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350320" y="38894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1406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94160" y="417816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1481b8">
                    <a:alpha val="19215"/>
                  </a:srgbClr>
                </a:gs>
                <a:gs pos="100000">
                  <a:srgbClr val="61aac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 rot="20601600">
              <a:off x="3032280" y="315756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3-D Pie Char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rketing Diagra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1693800" y="269568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676520" y="19051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64b3c"/>
              </a:gs>
              <a:gs pos="50000">
                <a:srgbClr val="30a483"/>
              </a:gs>
              <a:gs pos="100000">
                <a:srgbClr val="164b3c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413520" y="330192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Add Your Title here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6781680" y="4481640"/>
            <a:ext cx="1544760" cy="1766880"/>
            <a:chOff x="6781680" y="4481640"/>
            <a:chExt cx="1544760" cy="1766880"/>
          </a:xfrm>
        </p:grpSpPr>
        <p:sp>
          <p:nvSpPr>
            <p:cNvPr id="556" name=""/>
            <p:cNvSpPr/>
            <p:nvPr/>
          </p:nvSpPr>
          <p:spPr>
            <a:xfrm>
              <a:off x="69343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781680" y="4481640"/>
              <a:ext cx="1544760" cy="1544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81516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526969"/>
                </a:gs>
                <a:gs pos="100000">
                  <a:srgbClr val="83a6a7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872400" y="457200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5e7778"/>
                </a:gs>
                <a:gs pos="100000">
                  <a:srgbClr val="83a6a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pic>
          <p:nvPicPr>
            <p:cNvPr id="560" name="" descr=""/>
            <p:cNvPicPr/>
            <p:nvPr/>
          </p:nvPicPr>
          <p:blipFill>
            <a:blip r:embed="rId2"/>
            <a:stretch/>
          </p:blipFill>
          <p:spPr>
            <a:xfrm>
              <a:off x="681516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1" name=""/>
            <p:cNvSpPr/>
            <p:nvPr/>
          </p:nvSpPr>
          <p:spPr>
            <a:xfrm>
              <a:off x="713160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4800600" y="4481640"/>
            <a:ext cx="1544760" cy="1766880"/>
            <a:chOff x="4800600" y="4481640"/>
            <a:chExt cx="1544760" cy="1766880"/>
          </a:xfrm>
        </p:grpSpPr>
        <p:sp>
          <p:nvSpPr>
            <p:cNvPr id="563" name=""/>
            <p:cNvSpPr/>
            <p:nvPr/>
          </p:nvSpPr>
          <p:spPr>
            <a:xfrm>
              <a:off x="4952880" y="594360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800600" y="4481640"/>
              <a:ext cx="1544760" cy="1544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83408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1e6752"/>
                </a:gs>
                <a:gs pos="100000">
                  <a:srgbClr val="30a483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89096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22765e"/>
                </a:gs>
                <a:gs pos="100000">
                  <a:srgbClr val="30a48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pic>
          <p:nvPicPr>
            <p:cNvPr id="567" name="" descr=""/>
            <p:cNvPicPr/>
            <p:nvPr/>
          </p:nvPicPr>
          <p:blipFill>
            <a:blip r:embed="rId4"/>
            <a:stretch/>
          </p:blipFill>
          <p:spPr>
            <a:xfrm>
              <a:off x="483408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8" name=""/>
            <p:cNvSpPr/>
            <p:nvPr/>
          </p:nvSpPr>
          <p:spPr>
            <a:xfrm>
              <a:off x="515016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2819520" y="4481640"/>
            <a:ext cx="1544400" cy="1766880"/>
            <a:chOff x="2819520" y="4481640"/>
            <a:chExt cx="1544400" cy="1766880"/>
          </a:xfrm>
        </p:grpSpPr>
        <p:sp>
          <p:nvSpPr>
            <p:cNvPr id="570" name=""/>
            <p:cNvSpPr/>
            <p:nvPr/>
          </p:nvSpPr>
          <p:spPr>
            <a:xfrm>
              <a:off x="297180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819520" y="4481640"/>
              <a:ext cx="1544400" cy="1544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85264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0c5174"/>
                </a:gs>
                <a:gs pos="100000">
                  <a:srgbClr val="1481b8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90988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0e5d84"/>
                </a:gs>
                <a:gs pos="100000">
                  <a:srgbClr val="1481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pic>
          <p:nvPicPr>
            <p:cNvPr id="574" name="" descr=""/>
            <p:cNvPicPr/>
            <p:nvPr/>
          </p:nvPicPr>
          <p:blipFill>
            <a:blip r:embed="rId6"/>
            <a:stretch/>
          </p:blipFill>
          <p:spPr>
            <a:xfrm>
              <a:off x="2852640" y="4572000"/>
              <a:ext cx="9781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5" name=""/>
            <p:cNvSpPr/>
            <p:nvPr/>
          </p:nvSpPr>
          <p:spPr>
            <a:xfrm>
              <a:off x="316908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880920" y="4481640"/>
            <a:ext cx="1544760" cy="1766880"/>
            <a:chOff x="880920" y="4481640"/>
            <a:chExt cx="1544760" cy="1766880"/>
          </a:xfrm>
        </p:grpSpPr>
        <p:sp>
          <p:nvSpPr>
            <p:cNvPr id="577" name=""/>
            <p:cNvSpPr/>
            <p:nvPr/>
          </p:nvSpPr>
          <p:spPr>
            <a:xfrm>
              <a:off x="9907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880920" y="4481640"/>
              <a:ext cx="1544760" cy="15444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91440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816000"/>
                </a:gs>
                <a:gs pos="100000">
                  <a:srgbClr val="cc9900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97164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936e00"/>
                </a:gs>
                <a:gs pos="100000">
                  <a:srgbClr val="cc99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pic>
          <p:nvPicPr>
            <p:cNvPr id="581" name="" descr=""/>
            <p:cNvPicPr/>
            <p:nvPr/>
          </p:nvPicPr>
          <p:blipFill>
            <a:blip r:embed="rId8"/>
            <a:stretch/>
          </p:blipFill>
          <p:spPr>
            <a:xfrm>
              <a:off x="91440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"/>
            <p:cNvSpPr/>
            <p:nvPr/>
          </p:nvSpPr>
          <p:spPr>
            <a:xfrm>
              <a:off x="123084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828800" y="2023920"/>
            <a:ext cx="762120" cy="665280"/>
            <a:chOff x="1828800" y="2023920"/>
            <a:chExt cx="762120" cy="665280"/>
          </a:xfrm>
        </p:grpSpPr>
        <p:sp>
          <p:nvSpPr>
            <p:cNvPr id="94" name=""/>
            <p:cNvSpPr/>
            <p:nvPr/>
          </p:nvSpPr>
          <p:spPr>
            <a:xfrm>
              <a:off x="1834920" y="20350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828800" y="20239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73080" y="2063160"/>
              <a:ext cx="664200" cy="575280"/>
            </a:xfrm>
            <a:prstGeom prst="hexagon">
              <a:avLst>
                <a:gd name="adj" fmla="val 28864"/>
                <a:gd name="vf" fmla="val 115470"/>
              </a:avLst>
            </a:prstGeom>
            <a:gradFill rotWithShape="0">
              <a:gsLst>
                <a:gs pos="0">
                  <a:srgbClr val="1481b8"/>
                </a:gs>
                <a:gs pos="100000">
                  <a:srgbClr val="093b54"/>
                </a:gs>
              </a:gsLst>
              <a:lin ang="13500000"/>
            </a:gradFill>
            <a:ln w="9360">
              <a:solidFill>
                <a:srgbClr val="1f52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1828800" y="2938320"/>
            <a:ext cx="761760" cy="665280"/>
            <a:chOff x="1828800" y="2938320"/>
            <a:chExt cx="761760" cy="665280"/>
          </a:xfrm>
        </p:grpSpPr>
        <p:sp>
          <p:nvSpPr>
            <p:cNvPr id="98" name=""/>
            <p:cNvSpPr/>
            <p:nvPr/>
          </p:nvSpPr>
          <p:spPr>
            <a:xfrm>
              <a:off x="1834920" y="294948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828800" y="29383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873080" y="2977560"/>
              <a:ext cx="664200" cy="575280"/>
            </a:xfrm>
            <a:prstGeom prst="hexagon">
              <a:avLst>
                <a:gd name="adj" fmla="val 28864"/>
                <a:gd name="vf" fmla="val 115470"/>
              </a:avLst>
            </a:prstGeom>
            <a:gradFill rotWithShape="0">
              <a:gsLst>
                <a:gs pos="0">
                  <a:srgbClr val="30a483"/>
                </a:gs>
                <a:gs pos="100000">
                  <a:srgbClr val="164b3c"/>
                </a:gs>
              </a:gsLst>
              <a:lin ang="13500000"/>
            </a:gradFill>
            <a:ln w="9360">
              <a:solidFill>
                <a:srgbClr val="1f52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2438280" y="2633760"/>
            <a:ext cx="4800600" cy="0"/>
          </a:xfrm>
          <a:prstGeom prst="line">
            <a:avLst/>
          </a:prstGeom>
          <a:ln w="25560">
            <a:solidFill>
              <a:srgbClr val="003399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432240" y="210024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027520" y="2122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438280" y="3548160"/>
            <a:ext cx="4800600" cy="0"/>
          </a:xfrm>
          <a:prstGeom prst="line">
            <a:avLst/>
          </a:prstGeom>
          <a:ln w="25560">
            <a:solidFill>
              <a:srgbClr val="003399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32240" y="301464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27520" y="30369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828800" y="3830760"/>
            <a:ext cx="762120" cy="664920"/>
            <a:chOff x="1828800" y="3830760"/>
            <a:chExt cx="762120" cy="664920"/>
          </a:xfrm>
        </p:grpSpPr>
        <p:sp>
          <p:nvSpPr>
            <p:cNvPr id="108" name=""/>
            <p:cNvSpPr/>
            <p:nvPr/>
          </p:nvSpPr>
          <p:spPr>
            <a:xfrm>
              <a:off x="1834920" y="38419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38307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873080" y="387000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1481b8"/>
                </a:gs>
                <a:gs pos="100000">
                  <a:srgbClr val="093b54"/>
                </a:gs>
              </a:gsLst>
              <a:lin ang="13500000"/>
            </a:gradFill>
            <a:ln w="9360">
              <a:solidFill>
                <a:srgbClr val="1f52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828800" y="4745160"/>
            <a:ext cx="761760" cy="664920"/>
            <a:chOff x="1828800" y="4745160"/>
            <a:chExt cx="761760" cy="664920"/>
          </a:xfrm>
        </p:grpSpPr>
        <p:sp>
          <p:nvSpPr>
            <p:cNvPr id="112" name=""/>
            <p:cNvSpPr/>
            <p:nvPr/>
          </p:nvSpPr>
          <p:spPr>
            <a:xfrm>
              <a:off x="1834920" y="475632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828800" y="47451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873080" y="478440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30a483"/>
                </a:gs>
                <a:gs pos="100000">
                  <a:srgbClr val="164b3c"/>
                </a:gs>
              </a:gsLst>
              <a:lin ang="13500000"/>
            </a:gradFill>
            <a:ln w="9360">
              <a:solidFill>
                <a:srgbClr val="1f52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2438280" y="4440240"/>
            <a:ext cx="4800600" cy="0"/>
          </a:xfrm>
          <a:prstGeom prst="line">
            <a:avLst/>
          </a:prstGeom>
          <a:ln w="25560">
            <a:solidFill>
              <a:srgbClr val="003399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32240" y="39067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027520" y="3929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438280" y="5354640"/>
            <a:ext cx="4800600" cy="0"/>
          </a:xfrm>
          <a:prstGeom prst="line">
            <a:avLst/>
          </a:prstGeom>
          <a:ln w="25560">
            <a:solidFill>
              <a:srgbClr val="003399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32240" y="48211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027520" y="4843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1981080" y="5486040"/>
            <a:ext cx="516744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ww.themegallery.com 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1913040" y="2935440"/>
            <a:ext cx="5249880" cy="72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381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1481b8"/>
                    </a:gs>
                    <a:gs pos="100000">
                      <a:srgbClr val="003399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b2b2b2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381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1481b8"/>
                  </a:gs>
                  <a:gs pos="100000">
                    <a:srgbClr val="003399"/>
                  </a:gs>
                </a:gsLst>
                <a:lin ang="10800000"/>
              </a:gradFill>
              <a:effectLst>
                <a:outerShdw dist="17819" dir="2700000" blurRad="0" rotWithShape="0">
                  <a:srgbClr val="b2b2b2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ot Tip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8840" y="1690200"/>
            <a:ext cx="782460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481b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Verdana"/>
              </a:rPr>
              <a:t>How do I incorporate my logo to a slide that will apply to all the other slides? </a:t>
            </a: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26"/>
              </a:spcBef>
              <a:buClr>
                <a:srgbClr val="30a4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1f5281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30a483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1f5281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30a483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1f5281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30a483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1f5281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30a483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1f5281"/>
                </a:solidFill>
                <a:latin typeface="Arial"/>
              </a:rPr>
              <a:t> Change images to the one you like, then it will apply to all the other slides. </a:t>
            </a:r>
            <a:br>
              <a:rPr sz="2900"/>
            </a:br>
            <a:r>
              <a:rPr b="0" lang="en-US" sz="2900" spc="-1" strike="noStrike">
                <a:solidFill>
                  <a:srgbClr val="1f5281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1f5281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dbd5c"/>
              </a:gs>
              <a:gs pos="100000">
                <a:srgbClr val="cc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b3d6e7"/>
              </a:gs>
              <a:gs pos="100000">
                <a:srgbClr val="1481b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131" name=""/>
            <p:cNvGrpSpPr/>
            <p:nvPr/>
          </p:nvGrpSpPr>
          <p:grpSpPr>
            <a:xfrm>
              <a:off x="3048120" y="1771560"/>
              <a:ext cx="2998440" cy="1458720"/>
              <a:chOff x="3048120" y="1771560"/>
              <a:chExt cx="2998440" cy="1458720"/>
            </a:xfrm>
          </p:grpSpPr>
          <p:sp>
            <p:nvSpPr>
              <p:cNvPr id="132" name=""/>
              <p:cNvSpPr/>
              <p:nvPr/>
            </p:nvSpPr>
            <p:spPr>
              <a:xfrm>
                <a:off x="308088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093e59"/>
                  </a:gs>
                  <a:gs pos="100000">
                    <a:srgbClr val="1481b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04812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1481b8"/>
                  </a:gs>
                  <a:gs pos="100000">
                    <a:srgbClr val="96c6d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18960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30a483"/>
                </a:gs>
                <a:gs pos="100000">
                  <a:srgbClr val="164b3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22452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b6ded2"/>
                </a:gs>
                <a:gs pos="100000">
                  <a:srgbClr val="30a483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25152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30a483">
                    <a:alpha val="48235"/>
                  </a:srgbClr>
                </a:gs>
                <a:gs pos="100000">
                  <a:srgbClr val="25816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38328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30a483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79132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762120" y="1722240"/>
            <a:ext cx="7328520" cy="4583520"/>
            <a:chOff x="762120" y="1722240"/>
            <a:chExt cx="7328520" cy="4583520"/>
          </a:xfrm>
        </p:grpSpPr>
        <p:sp>
          <p:nvSpPr>
            <p:cNvPr id="142" name=""/>
            <p:cNvSpPr/>
            <p:nvPr/>
          </p:nvSpPr>
          <p:spPr>
            <a:xfrm rot="20241600">
              <a:off x="139176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6e1e2"/>
                </a:gs>
                <a:gs pos="100000">
                  <a:srgbClr val="b4bdbe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20056200">
              <a:off x="4419360" y="26665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20056200">
              <a:off x="7009920" y="28951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20056200">
              <a:off x="2971440" y="54860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20056200">
              <a:off x="5486040" y="4927320"/>
              <a:ext cx="1066680" cy="30456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20056200">
              <a:off x="2133360" y="40381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82104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1481b8"/>
                </a:gs>
                <a:gs pos="100000">
                  <a:srgbClr val="062c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585800" y="3375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30a483"/>
                </a:gs>
                <a:gs pos="100000">
                  <a:srgbClr val="0f332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37024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483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838760" y="42973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d6e1e2"/>
                </a:gs>
                <a:gs pos="100000">
                  <a:srgbClr val="4c4f5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464160" y="22543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100000">
                  <a:srgbClr val="2d393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82340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12668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73668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14440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63448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f5281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1f52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cxnSp>
          <p:nvCxnSpPr>
            <p:cNvPr id="160" name=""/>
            <p:cNvCxnSpPr/>
            <p:nvPr/>
          </p:nvCxnSpPr>
          <p:spPr>
            <a:xfrm flipH="1">
              <a:off x="886680" y="2452320"/>
              <a:ext cx="1726200" cy="1080"/>
            </a:xfrm>
            <a:prstGeom prst="straightConnector1">
              <a:avLst/>
            </a:prstGeom>
            <a:ln w="9360">
              <a:solidFill>
                <a:srgbClr val="1f5281"/>
              </a:solidFill>
              <a:miter/>
            </a:ln>
          </p:spPr>
        </p:cxnSp>
        <p:sp>
          <p:nvSpPr>
            <p:cNvPr id="161" name="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f5281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64" name="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c4c4c"/>
                </a:gs>
                <a:gs pos="50000">
                  <a:srgbClr val="83a6a7"/>
                </a:gs>
                <a:gs pos="100000">
                  <a:srgbClr val="3c4c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c4c4c"/>
                </a:gs>
                <a:gs pos="50000">
                  <a:srgbClr val="83a6a7"/>
                </a:gs>
                <a:gs pos="100000">
                  <a:srgbClr val="3c4c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c4c4c"/>
                </a:gs>
                <a:gs pos="50000">
                  <a:srgbClr val="83a6a7"/>
                </a:gs>
                <a:gs pos="100000">
                  <a:srgbClr val="3c4c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626768">
                    <a:alpha val="12156"/>
                  </a:srgbClr>
                </a:gs>
                <a:gs pos="100000">
                  <a:srgbClr val="d6e1e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f52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f52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d6e1e2"/>
                </a:gs>
                <a:gs pos="100000">
                  <a:srgbClr val="626768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64b3c"/>
                </a:gs>
                <a:gs pos="50000">
                  <a:srgbClr val="30a483"/>
                </a:gs>
                <a:gs pos="100000">
                  <a:srgbClr val="164b3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d6e1e2"/>
                </a:gs>
                <a:gs pos="100000">
                  <a:srgbClr val="e4ebeb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093b54"/>
                </a:gs>
                <a:gs pos="50000">
                  <a:srgbClr val="1481b8"/>
                </a:gs>
                <a:gs pos="100000">
                  <a:srgbClr val="093b5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e4ebeb">
                    <a:alpha val="12156"/>
                  </a:srgbClr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84" name=""/>
            <p:cNvGrpSpPr/>
            <p:nvPr/>
          </p:nvGrpSpPr>
          <p:grpSpPr>
            <a:xfrm>
              <a:off x="3008520" y="2209680"/>
              <a:ext cx="2900520" cy="2705400"/>
              <a:chOff x="3008520" y="2209680"/>
              <a:chExt cx="2900520" cy="2705400"/>
            </a:xfrm>
          </p:grpSpPr>
          <p:sp>
            <p:nvSpPr>
              <p:cNvPr id="185" name=""/>
              <p:cNvSpPr/>
              <p:nvPr/>
            </p:nvSpPr>
            <p:spPr>
              <a:xfrm flipH="1" rot="16200000">
                <a:off x="2926800" y="3259800"/>
                <a:ext cx="45900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aed6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H="1" rot="5400000">
                <a:off x="5531040" y="3209040"/>
                <a:ext cx="4586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aed6"/>
                  </a:gs>
                  <a:gs pos="100000">
                    <a:srgbClr val="003399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H="1" rot="10800000">
                <a:off x="423756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aed6"/>
                  </a:gs>
                  <a:gs pos="100000">
                    <a:srgbClr val="0033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05520" y="2209680"/>
                <a:ext cx="2325960" cy="24001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438360" y="2345040"/>
                <a:ext cx="2059200" cy="21250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559320" y="24710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1481b8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559320" y="24710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678840" y="25945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0a4563"/>
                  </a:gs>
                  <a:gs pos="50000">
                    <a:srgbClr val="1481b8"/>
                  </a:gs>
                  <a:gs pos="100000">
                    <a:srgbClr val="0a45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678840" y="25945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c4c4c"/>
                </a:gs>
                <a:gs pos="50000">
                  <a:srgbClr val="83a6a7"/>
                </a:gs>
                <a:gs pos="100000">
                  <a:srgbClr val="3c4c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143000" y="320832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c4c4c"/>
                </a:gs>
                <a:gs pos="50000">
                  <a:srgbClr val="83a6a7"/>
                </a:gs>
                <a:gs pos="100000">
                  <a:srgbClr val="3c4c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143000" y="270900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c4c4c"/>
                </a:gs>
                <a:gs pos="50000">
                  <a:srgbClr val="83a6a7"/>
                </a:gs>
                <a:gs pos="100000">
                  <a:srgbClr val="3c4c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64b3c"/>
                </a:gs>
                <a:gs pos="50000">
                  <a:srgbClr val="30a483"/>
                </a:gs>
                <a:gs pos="100000">
                  <a:srgbClr val="164b3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20360" y="320832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64b3c"/>
                </a:gs>
                <a:gs pos="50000">
                  <a:srgbClr val="30a483"/>
                </a:gs>
                <a:gs pos="100000">
                  <a:srgbClr val="164b3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120360" y="270900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64b3c"/>
                </a:gs>
                <a:gs pos="50000">
                  <a:srgbClr val="30a483"/>
                </a:gs>
                <a:gs pos="100000">
                  <a:srgbClr val="164b3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1f52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f5281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1f528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1f528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1f528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1f528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223" name=""/>
            <p:cNvSpPr/>
            <p:nvPr/>
          </p:nvSpPr>
          <p:spPr>
            <a:xfrm>
              <a:off x="7834320" y="2286000"/>
              <a:ext cx="5756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5e4600"/>
                </a:gs>
                <a:gs pos="50000">
                  <a:srgbClr val="cc9900"/>
                </a:gs>
                <a:gs pos="100000">
                  <a:srgbClr val="5e46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254720" y="311796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93b54"/>
                </a:gs>
                <a:gs pos="50000">
                  <a:srgbClr val="1481b8"/>
                </a:gs>
                <a:gs pos="100000">
                  <a:srgbClr val="093b5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1481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673680" y="394992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3c4c4c"/>
                </a:gs>
                <a:gs pos="50000">
                  <a:srgbClr val="83a6a7"/>
                </a:gs>
                <a:gs pos="100000">
                  <a:srgbClr val="3c4c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095880" y="4783320"/>
              <a:ext cx="57744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626768"/>
                </a:gs>
                <a:gs pos="50000">
                  <a:srgbClr val="d6e1e2"/>
                </a:gs>
                <a:gs pos="100000">
                  <a:srgbClr val="62676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592360" y="4788000"/>
              <a:ext cx="408096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d6e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184560" y="2440080"/>
              <a:ext cx="183780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079960" y="2827440"/>
              <a:ext cx="2766600" cy="304920"/>
            </a:xfrm>
            <a:prstGeom prst="rect">
              <a:avLst/>
            </a:prstGeom>
            <a:gradFill rotWithShape="0">
              <a:gsLst>
                <a:gs pos="0">
                  <a:srgbClr val="936e00"/>
                </a:gs>
                <a:gs pos="50000">
                  <a:srgbClr val="cc9900"/>
                </a:gs>
                <a:gs pos="100000">
                  <a:srgbClr val="936e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24476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0e5d84"/>
                </a:gs>
                <a:gs pos="50000">
                  <a:srgbClr val="1481b8"/>
                </a:gs>
                <a:gs pos="100000">
                  <a:srgbClr val="0e5d8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419280" y="3949920"/>
              <a:ext cx="383364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83a6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5e7778"/>
                </a:gs>
                <a:gs pos="50000">
                  <a:srgbClr val="83a6a7"/>
                </a:gs>
                <a:gs pos="100000">
                  <a:srgbClr val="5e77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590920" y="532944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9aa2a3"/>
                </a:gs>
                <a:gs pos="50000">
                  <a:srgbClr val="d6e1e2"/>
                </a:gs>
                <a:gs pos="100000">
                  <a:srgbClr val="9aa2a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"/>
          <p:cNvSpPr/>
          <p:nvPr/>
        </p:nvSpPr>
        <p:spPr>
          <a:xfrm>
            <a:off x="380880" y="1600200"/>
            <a:ext cx="5880240" cy="4495680"/>
          </a:xfrm>
          <a:prstGeom prst="rightArrow">
            <a:avLst>
              <a:gd name="adj1" fmla="val 79306"/>
              <a:gd name="adj2" fmla="val 32396"/>
            </a:avLst>
          </a:prstGeom>
          <a:gradFill rotWithShape="0">
            <a:gsLst>
              <a:gs pos="0">
                <a:srgbClr val="30a48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6212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cc9900"/>
              </a:gs>
              <a:gs pos="100000">
                <a:srgbClr val="dab74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5b98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6212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1481b8"/>
              </a:gs>
              <a:gs pos="100000">
                <a:srgbClr val="5aa6c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88024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5281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5281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0:40Z</dcterms:created>
  <dc:creator>Sung Ha, Park</dc:creator>
  <dc:description/>
  <dc:language>en-US</dc:language>
  <cp:lastModifiedBy>Sung Ha, Park</cp:lastModifiedBy>
  <dcterms:modified xsi:type="dcterms:W3CDTF">2004-11-23T06:40:46Z</dcterms:modified>
  <cp:revision>25</cp:revision>
  <dc:subject/>
  <dc:title>PowerPoint Template</dc:title>
</cp:coreProperties>
</file>