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650-FF17-4267-8BC6-7512798C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5867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4999680"/>
            <a:ext cx="5867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850-632F-4093-82EE-E1D7C34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692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A63-16A2-4A82-BE9D-0BED027B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3800" y="480060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67760" y="480060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499968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3800" y="499968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67760" y="499968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CB1-6340-46A5-A39C-193493A6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C6DB-7E0D-4242-AA0A-0D84E85B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5010-DFC8-476D-A4B6-364AAFCB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0C52-E4F8-43EC-A944-0A05ABE3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3C09-037D-4873-8830-F2259B43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D584-E8DC-4F1E-BBEE-E338079F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94840" y="3034800"/>
            <a:ext cx="85345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C5CC-3544-450C-92E9-3B0368E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0020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51C-1ABF-4784-BFE6-FF8DEB9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A79-B08E-410F-95C5-86C1F16C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0692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E3B-5128-4D37-A476-679766E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999680"/>
            <a:ext cx="5867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D6BD-94DB-41E9-B152-295DBB7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5867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00200" y="4999680"/>
            <a:ext cx="5867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6D0-82F7-4624-BC73-8E261AAB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0020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0692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4E1D-0FDA-4DF3-8768-B26E81D1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3800" y="480060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567760" y="480060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00200" y="499968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3800" y="499968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567760" y="4999680"/>
            <a:ext cx="188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1B4C-1D54-4C88-8BD1-015CE33F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070-EC0A-4F37-BDF0-CA7492B8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5F0-3800-4B51-9FA4-5AEF38A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9AA-88C6-4D89-8C21-787680C4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94840" y="3034800"/>
            <a:ext cx="85345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F63-6E6C-4001-A6D0-A82AAC5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7B0-8D86-467E-A0BA-CAFE54E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6920" y="499968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062-A91E-484B-9FDE-CE60F31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6920" y="4800600"/>
            <a:ext cx="2863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4999680"/>
            <a:ext cx="5867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40B-AB79-4327-B6F1-F17389F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4e6a7"/>
              </a:gs>
              <a:gs pos="100000">
                <a:srgbClr val="ecce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8F5-90B7-49FF-81E5-B738FC83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83C-ED38-4BE4-930F-166B56CA9B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9" name="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ecce4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PowerPoint Template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520" y="3276720"/>
            <a:ext cx="838080" cy="228600"/>
            <a:chOff x="533520" y="3276720"/>
            <a:chExt cx="838080" cy="228600"/>
          </a:xfrm>
        </p:grpSpPr>
        <p:sp>
          <p:nvSpPr>
            <p:cNvPr id="92" name=""/>
            <p:cNvSpPr/>
            <p:nvPr/>
          </p:nvSpPr>
          <p:spPr>
            <a:xfrm>
              <a:off x="53352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5d135"/>
                </a:gs>
                <a:gs pos="100000">
                  <a:srgbClr val="2e60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ae0404"/>
                </a:gs>
                <a:gs pos="100000">
                  <a:srgbClr val="5001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d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e0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e040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e040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d0202"/>
              </a:gs>
              <a:gs pos="50000">
                <a:srgbClr val="ae0404"/>
              </a:gs>
              <a:gs pos="100000">
                <a:srgbClr val="5d020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e0404">
                  <a:alpha val="0"/>
                </a:srgbClr>
              </a:gs>
              <a:gs pos="100000">
                <a:srgbClr val="6e020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66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66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366d"/>
              </a:gs>
              <a:gs pos="50000">
                <a:srgbClr val="0066cc"/>
              </a:gs>
              <a:gs pos="100000">
                <a:srgbClr val="0036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0066cc">
                  <a:alpha val="0"/>
                </a:srgbClr>
              </a:gs>
              <a:gs pos="100000">
                <a:srgbClr val="0040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61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d13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6018"/>
              </a:gs>
              <a:gs pos="100000">
                <a:srgbClr val="65d13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701c"/>
              </a:gs>
              <a:gs pos="50000">
                <a:srgbClr val="65d135"/>
              </a:gs>
              <a:gs pos="100000">
                <a:srgbClr val="3670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d135">
                  <a:alpha val="0"/>
                </a:srgbClr>
              </a:gs>
              <a:gs pos="100000">
                <a:srgbClr val="3f84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71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76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5d13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20876400">
            <a:off x="362124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5284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7336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100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83160" y="3898800"/>
            <a:ext cx="140940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7044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0826600">
            <a:off x="177804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01720" y="3448080"/>
            <a:ext cx="1371240" cy="1441080"/>
            <a:chOff x="1701720" y="3448080"/>
            <a:chExt cx="1371240" cy="1441080"/>
          </a:xfrm>
        </p:grpSpPr>
        <p:sp>
          <p:nvSpPr>
            <p:cNvPr id="297" name=""/>
            <p:cNvSpPr/>
            <p:nvPr/>
          </p:nvSpPr>
          <p:spPr>
            <a:xfrm>
              <a:off x="170172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936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3268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0432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8216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60020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8912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00280" y="20923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5428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7344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6704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8944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9880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0528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164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5964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66cc"/>
              </a:gs>
              <a:gs pos="100000">
                <a:srgbClr val="005ab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cc"/>
              </a:gs>
              <a:gs pos="100000">
                <a:srgbClr val="005ab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66cc"/>
              </a:gs>
              <a:gs pos="100000">
                <a:srgbClr val="005ab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66cc"/>
              </a:gs>
              <a:gs pos="100000">
                <a:srgbClr val="005ab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66cc"/>
              </a:gs>
              <a:gs pos="100000">
                <a:srgbClr val="005ab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66cc"/>
              </a:gs>
              <a:gs pos="100000">
                <a:srgbClr val="005ab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23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26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29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32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aeeba"/>
                </a:gs>
                <a:gs pos="100000">
                  <a:srgbClr val="65d1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e040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00101"/>
              </a:gs>
              <a:gs pos="100000">
                <a:srgbClr val="ae040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d0202"/>
              </a:gs>
              <a:gs pos="50000">
                <a:srgbClr val="ae0404"/>
              </a:gs>
              <a:gs pos="100000">
                <a:srgbClr val="5d020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ae0404">
                  <a:alpha val="0"/>
                </a:srgbClr>
              </a:gs>
              <a:gs pos="100000">
                <a:srgbClr val="6e020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45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906440" y="3584160"/>
            <a:ext cx="1703520" cy="2679120"/>
            <a:chOff x="4906440" y="3584160"/>
            <a:chExt cx="1703520" cy="2679120"/>
          </a:xfrm>
        </p:grpSpPr>
        <p:grpSp>
          <p:nvGrpSpPr>
            <p:cNvPr id="406" name=""/>
            <p:cNvGrpSpPr/>
            <p:nvPr/>
          </p:nvGrpSpPr>
          <p:grpSpPr>
            <a:xfrm>
              <a:off x="4906440" y="3762720"/>
              <a:ext cx="1577160" cy="2500560"/>
              <a:chOff x="4906440" y="3762720"/>
              <a:chExt cx="1577160" cy="2500560"/>
            </a:xfrm>
          </p:grpSpPr>
          <p:sp>
            <p:nvSpPr>
              <p:cNvPr id="407" name=""/>
              <p:cNvSpPr/>
              <p:nvPr/>
            </p:nvSpPr>
            <p:spPr>
              <a:xfrm rot="3876600">
                <a:off x="444312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876600">
                <a:off x="594756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10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4427640" y="2662200"/>
            <a:ext cx="1439640" cy="1439640"/>
            <a:chOff x="4427640" y="2662200"/>
            <a:chExt cx="1439640" cy="1439640"/>
          </a:xfrm>
        </p:grpSpPr>
        <p:sp>
          <p:nvSpPr>
            <p:cNvPr id="413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268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268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460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4602240" y="2836800"/>
              <a:ext cx="1090440" cy="1092240"/>
              <a:chOff x="4602240" y="2836800"/>
              <a:chExt cx="1090440" cy="1092240"/>
            </a:xfrm>
          </p:grpSpPr>
          <p:sp>
            <p:nvSpPr>
              <p:cNvPr id="419" name=""/>
              <p:cNvSpPr/>
              <p:nvPr/>
            </p:nvSpPr>
            <p:spPr>
              <a:xfrm>
                <a:off x="460224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1592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2744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8648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7138440" y="3657240"/>
            <a:ext cx="1703520" cy="2679120"/>
            <a:chOff x="7138440" y="3657240"/>
            <a:chExt cx="1703520" cy="2679120"/>
          </a:xfrm>
        </p:grpSpPr>
        <p:grpSp>
          <p:nvGrpSpPr>
            <p:cNvPr id="424" name=""/>
            <p:cNvGrpSpPr/>
            <p:nvPr/>
          </p:nvGrpSpPr>
          <p:grpSpPr>
            <a:xfrm>
              <a:off x="7138440" y="3835800"/>
              <a:ext cx="1577160" cy="2500560"/>
              <a:chOff x="7138440" y="3835800"/>
              <a:chExt cx="1577160" cy="2500560"/>
            </a:xfrm>
          </p:grpSpPr>
          <p:sp>
            <p:nvSpPr>
              <p:cNvPr id="425" name=""/>
              <p:cNvSpPr/>
              <p:nvPr/>
            </p:nvSpPr>
            <p:spPr>
              <a:xfrm rot="3876600">
                <a:off x="667512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3876600">
                <a:off x="8179560" y="57754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28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36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69720" y="27201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858760" y="3583800"/>
            <a:ext cx="1704240" cy="2679480"/>
            <a:chOff x="2858760" y="3583800"/>
            <a:chExt cx="1704240" cy="2679480"/>
          </a:xfrm>
        </p:grpSpPr>
        <p:grpSp>
          <p:nvGrpSpPr>
            <p:cNvPr id="441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42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876600">
                <a:off x="389988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352680" y="3583800"/>
              <a:ext cx="1210320" cy="1918800"/>
              <a:chOff x="3352680" y="3583800"/>
              <a:chExt cx="1210320" cy="1918800"/>
            </a:xfrm>
          </p:grpSpPr>
          <p:sp>
            <p:nvSpPr>
              <p:cNvPr id="445" name=""/>
              <p:cNvSpPr/>
              <p:nvPr/>
            </p:nvSpPr>
            <p:spPr>
              <a:xfrm flipV="1" rot="3876600">
                <a:off x="299736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3876600">
                <a:off x="413460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379600" y="2662200"/>
            <a:ext cx="1439640" cy="1439640"/>
            <a:chOff x="2379600" y="2662200"/>
            <a:chExt cx="1439640" cy="1439640"/>
          </a:xfrm>
        </p:grpSpPr>
        <p:sp>
          <p:nvSpPr>
            <p:cNvPr id="448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7464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7464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656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554200" y="2836800"/>
              <a:ext cx="1090440" cy="1092240"/>
              <a:chOff x="2554200" y="2836800"/>
              <a:chExt cx="1090440" cy="1092240"/>
            </a:xfrm>
          </p:grpSpPr>
          <p:sp>
            <p:nvSpPr>
              <p:cNvPr id="454" name=""/>
              <p:cNvSpPr/>
              <p:nvPr/>
            </p:nvSpPr>
            <p:spPr>
              <a:xfrm>
                <a:off x="255420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7940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63844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875880" y="3583800"/>
            <a:ext cx="1704240" cy="2679480"/>
            <a:chOff x="875880" y="3583800"/>
            <a:chExt cx="1704240" cy="2679480"/>
          </a:xfrm>
        </p:grpSpPr>
        <p:grpSp>
          <p:nvGrpSpPr>
            <p:cNvPr id="459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60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3876600">
                <a:off x="191700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369800" y="3583800"/>
              <a:ext cx="1210320" cy="1918800"/>
              <a:chOff x="1369800" y="3583800"/>
              <a:chExt cx="1210320" cy="1918800"/>
            </a:xfrm>
          </p:grpSpPr>
          <p:sp>
            <p:nvSpPr>
              <p:cNvPr id="463" name=""/>
              <p:cNvSpPr/>
              <p:nvPr/>
            </p:nvSpPr>
            <p:spPr>
              <a:xfrm flipV="1" rot="3876600">
                <a:off x="101448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 rot="3876600">
                <a:off x="215172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396720" y="2662200"/>
            <a:ext cx="1439640" cy="1439640"/>
            <a:chOff x="396720" y="2662200"/>
            <a:chExt cx="1439640" cy="1439640"/>
          </a:xfrm>
        </p:grpSpPr>
        <p:sp>
          <p:nvSpPr>
            <p:cNvPr id="466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176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176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368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71320" y="2836800"/>
              <a:ext cx="1090440" cy="1092240"/>
              <a:chOff x="571320" y="2836800"/>
              <a:chExt cx="1090440" cy="1092240"/>
            </a:xfrm>
          </p:grpSpPr>
          <p:sp>
            <p:nvSpPr>
              <p:cNvPr id="472" name=""/>
              <p:cNvSpPr/>
              <p:nvPr/>
            </p:nvSpPr>
            <p:spPr>
              <a:xfrm>
                <a:off x="57132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652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56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84" idx="3"/>
            <a:endCxn id="485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85" idx="3"/>
            <a:endCxn id="486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6" idx="3"/>
            <a:endCxn id="487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gress 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c5e23"/>
              </a:gs>
              <a:gs pos="100000">
                <a:srgbClr val="ecce4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00101"/>
              </a:gs>
              <a:gs pos="100000">
                <a:srgbClr val="ae0404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6018"/>
              </a:gs>
              <a:gs pos="100000">
                <a:srgbClr val="65d135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6018"/>
              </a:gs>
              <a:gs pos="100000">
                <a:srgbClr val="65d13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00101"/>
              </a:gs>
              <a:gs pos="100000">
                <a:srgbClr val="ae040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c5e23"/>
              </a:gs>
              <a:gs pos="100000">
                <a:srgbClr val="ecce4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12040" y="1935000"/>
            <a:ext cx="6437160" cy="1387800"/>
            <a:chOff x="1112040" y="1935000"/>
            <a:chExt cx="6437160" cy="1387800"/>
          </a:xfrm>
        </p:grpSpPr>
        <p:sp>
          <p:nvSpPr>
            <p:cNvPr id="504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ae0404"/>
                </a:gs>
                <a:gs pos="100000">
                  <a:srgbClr val="50010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286360" y="2331720"/>
              <a:ext cx="931680" cy="131760"/>
              <a:chOff x="2286360" y="2331720"/>
              <a:chExt cx="931680" cy="131760"/>
            </a:xfrm>
          </p:grpSpPr>
          <p:sp>
            <p:nvSpPr>
              <p:cNvPr id="506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37564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7692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528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4007880" y="2331720"/>
              <a:ext cx="931680" cy="131760"/>
              <a:chOff x="4007880" y="2331720"/>
              <a:chExt cx="931680" cy="13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4007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9716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7440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rot="3418800">
              <a:off x="469332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ae0404"/>
                </a:gs>
                <a:gs pos="100000">
                  <a:srgbClr val="50010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5729040" y="2331720"/>
              <a:ext cx="1218240" cy="131760"/>
              <a:chOff x="5729040" y="2331720"/>
              <a:chExt cx="1218240" cy="1317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29040" y="23317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568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6196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6414480" y="2093760"/>
              <a:ext cx="924120" cy="1003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85800" y="1808280"/>
          <a:ext cx="7620120" cy="36018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ce4c"/>
                        </a:gs>
                        <a:gs pos="100000">
                          <a:srgbClr val="b9a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ce4c"/>
                        </a:gs>
                        <a:gs pos="100000">
                          <a:srgbClr val="b9a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ce4c"/>
                        </a:gs>
                        <a:gs pos="100000">
                          <a:srgbClr val="b9a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ce4c"/>
                        </a:gs>
                        <a:gs pos="100000">
                          <a:srgbClr val="b9a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ce4c"/>
                        </a:gs>
                        <a:gs pos="100000">
                          <a:srgbClr val="b9a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ce4c"/>
                        </a:gs>
                        <a:gs pos="100000">
                          <a:srgbClr val="b9a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34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ae0404"/>
                </a:gs>
                <a:gs pos="100000">
                  <a:srgbClr val="ca5f5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5d135"/>
                </a:gs>
                <a:gs pos="100000">
                  <a:srgbClr val="46912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392840" y="218808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662" y="824"/>
                  </a:moveTo>
                  <a:arcTo wR="10800" hR="10800" stAng="-6751803" swAng="3926413"/>
                  <a:lnTo>
                    <a:pt x="10800" y="10800"/>
                  </a:lnTo>
                  <a:close/>
                </a:path>
                <a:path fill="none" w="21600" h="21600">
                  <a:moveTo>
                    <a:pt x="6662" y="824"/>
                  </a:moveTo>
                  <a:arcTo wR="10800" hR="10800" stAng="-6751803" swAng="3926413"/>
                </a:path>
              </a:pathLst>
            </a:custGeom>
            <a:gradFill rotWithShape="0">
              <a:gsLst>
                <a:gs pos="0">
                  <a:srgbClr val="db9494"/>
                </a:gs>
                <a:gs pos="100000">
                  <a:srgbClr val="ae0404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c5e23"/>
                </a:gs>
                <a:gs pos="100000">
                  <a:srgbClr val="ecce4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458f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003a75"/>
                </a:gs>
                <a:gs pos="100000">
                  <a:srgbClr val="0066cc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5c9ddd"/>
                </a:gs>
                <a:gs pos="100000">
                  <a:srgbClr val="00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keting 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4081"/>
                </a:gs>
                <a:gs pos="100000">
                  <a:srgbClr val="0066c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004993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8421"/>
                </a:gs>
                <a:gs pos="100000">
                  <a:srgbClr val="65d13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89726"/>
                </a:gs>
                <a:gs pos="100000">
                  <a:srgbClr val="65d1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e0202"/>
                </a:gs>
                <a:gs pos="100000">
                  <a:srgbClr val="ae0404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d0202"/>
                </a:gs>
                <a:gs pos="100000">
                  <a:srgbClr val="ae04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58230"/>
                </a:gs>
                <a:gs pos="100000">
                  <a:srgbClr val="ecce4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a9436"/>
                </a:gs>
                <a:gs pos="100000">
                  <a:srgbClr val="ecce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25720" y="1895760"/>
            <a:ext cx="5060520" cy="3523320"/>
            <a:chOff x="2025720" y="1895760"/>
            <a:chExt cx="5060520" cy="3523320"/>
          </a:xfrm>
        </p:grpSpPr>
        <p:grpSp>
          <p:nvGrpSpPr>
            <p:cNvPr id="97" name=""/>
            <p:cNvGrpSpPr/>
            <p:nvPr/>
          </p:nvGrpSpPr>
          <p:grpSpPr>
            <a:xfrm>
              <a:off x="2025720" y="1895760"/>
              <a:ext cx="5060520" cy="1005120"/>
              <a:chOff x="2025720" y="1895760"/>
              <a:chExt cx="5060520" cy="1005120"/>
            </a:xfrm>
          </p:grpSpPr>
          <p:sp>
            <p:nvSpPr>
              <p:cNvPr id="98" name=""/>
              <p:cNvSpPr/>
              <p:nvPr/>
            </p:nvSpPr>
            <p:spPr>
              <a:xfrm>
                <a:off x="2472480" y="2108160"/>
                <a:ext cx="4613760" cy="61344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2025720" y="1895760"/>
                <a:ext cx="1072080" cy="1005120"/>
                <a:chOff x="2025720" y="1895760"/>
                <a:chExt cx="1072080" cy="1005120"/>
              </a:xfrm>
            </p:grpSpPr>
            <p:sp>
              <p:nvSpPr>
                <p:cNvPr id="100" name=""/>
                <p:cNvSpPr/>
                <p:nvPr/>
              </p:nvSpPr>
              <p:spPr>
                <a:xfrm rot="1758000">
                  <a:off x="2157120" y="2080080"/>
                  <a:ext cx="832680" cy="6588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758000">
                  <a:off x="2133720" y="2057040"/>
                  <a:ext cx="83268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2f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6880" y="2098440"/>
                  <a:ext cx="374760" cy="37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2968560" y="221760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33520" y="21081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025720" y="2734920"/>
              <a:ext cx="5060520" cy="1005120"/>
              <a:chOff x="2025720" y="2734920"/>
              <a:chExt cx="5060520" cy="1005120"/>
            </a:xfrm>
          </p:grpSpPr>
          <p:sp>
            <p:nvSpPr>
              <p:cNvPr id="106" name=""/>
              <p:cNvSpPr/>
              <p:nvPr/>
            </p:nvSpPr>
            <p:spPr>
              <a:xfrm>
                <a:off x="2472480" y="2947320"/>
                <a:ext cx="4613760" cy="61344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ae04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2025720" y="2734920"/>
                <a:ext cx="1072080" cy="1005120"/>
                <a:chOff x="2025720" y="2734920"/>
                <a:chExt cx="1072080" cy="1005120"/>
              </a:xfrm>
            </p:grpSpPr>
            <p:sp>
              <p:nvSpPr>
                <p:cNvPr id="108" name=""/>
                <p:cNvSpPr/>
                <p:nvPr/>
              </p:nvSpPr>
              <p:spPr>
                <a:xfrm rot="1758000">
                  <a:off x="2157120" y="2919240"/>
                  <a:ext cx="832680" cy="6588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758000">
                  <a:off x="2133720" y="2896200"/>
                  <a:ext cx="83268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e0404"/>
                    </a:gs>
                    <a:gs pos="100000">
                      <a:srgbClr val="500101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216880" y="2937600"/>
                  <a:ext cx="374760" cy="37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968560" y="30567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33520" y="294732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025720" y="3574440"/>
              <a:ext cx="5060520" cy="1005120"/>
              <a:chOff x="2025720" y="3574440"/>
              <a:chExt cx="5060520" cy="1005120"/>
            </a:xfrm>
          </p:grpSpPr>
          <p:sp>
            <p:nvSpPr>
              <p:cNvPr id="114" name=""/>
              <p:cNvSpPr/>
              <p:nvPr/>
            </p:nvSpPr>
            <p:spPr>
              <a:xfrm>
                <a:off x="2472480" y="3786840"/>
                <a:ext cx="4613760" cy="61344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65d1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025720" y="3574440"/>
                <a:ext cx="1072080" cy="1005120"/>
                <a:chOff x="2025720" y="3574440"/>
                <a:chExt cx="1072080" cy="1005120"/>
              </a:xfrm>
            </p:grpSpPr>
            <p:sp>
              <p:nvSpPr>
                <p:cNvPr id="116" name=""/>
                <p:cNvSpPr/>
                <p:nvPr/>
              </p:nvSpPr>
              <p:spPr>
                <a:xfrm rot="1758000">
                  <a:off x="2157120" y="3758760"/>
                  <a:ext cx="832680" cy="6588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758000">
                  <a:off x="2133720" y="3735720"/>
                  <a:ext cx="83268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d135"/>
                    </a:gs>
                    <a:gs pos="100000">
                      <a:srgbClr val="2e601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16880" y="3777120"/>
                  <a:ext cx="374760" cy="37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2968560" y="389628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33520" y="378684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3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025720" y="4413960"/>
              <a:ext cx="5060520" cy="1005120"/>
              <a:chOff x="2025720" y="4413960"/>
              <a:chExt cx="5060520" cy="1005120"/>
            </a:xfrm>
          </p:grpSpPr>
          <p:sp>
            <p:nvSpPr>
              <p:cNvPr id="122" name=""/>
              <p:cNvSpPr/>
              <p:nvPr/>
            </p:nvSpPr>
            <p:spPr>
              <a:xfrm>
                <a:off x="2472480" y="4626360"/>
                <a:ext cx="4613760" cy="61344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2025720" y="4413960"/>
                <a:ext cx="1072080" cy="1005120"/>
                <a:chOff x="2025720" y="4413960"/>
                <a:chExt cx="1072080" cy="1005120"/>
              </a:xfrm>
            </p:grpSpPr>
            <p:sp>
              <p:nvSpPr>
                <p:cNvPr id="124" name=""/>
                <p:cNvSpPr/>
                <p:nvPr/>
              </p:nvSpPr>
              <p:spPr>
                <a:xfrm rot="1758000">
                  <a:off x="2157120" y="4598280"/>
                  <a:ext cx="832680" cy="6588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758000">
                  <a:off x="2133720" y="4575240"/>
                  <a:ext cx="83268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16880" y="4616640"/>
                  <a:ext cx="374760" cy="37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968560" y="473580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33520" y="46263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4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133720" y="30481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5d135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5d135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Tip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ae0404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ae0404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ae0404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ae0404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7eec5"/>
              </a:gs>
              <a:gs pos="100000">
                <a:srgbClr val="ecce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fbe"/>
              </a:gs>
              <a:gs pos="100000">
                <a:srgbClr val="65d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39" name="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40101"/>
                  </a:gs>
                  <a:gs pos="100000">
                    <a:srgbClr val="ae040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ae0404"/>
                  </a:gs>
                  <a:gs pos="100000">
                    <a:srgbClr val="da8f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d135"/>
                </a:gs>
                <a:gs pos="100000">
                  <a:srgbClr val="2e601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8eeb7"/>
                </a:gs>
                <a:gs pos="100000">
                  <a:srgbClr val="65d135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5d135">
                    <a:alpha val="48235"/>
                  </a:srgbClr>
                </a:gs>
                <a:gs pos="100000">
                  <a:srgbClr val="4fa4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65d135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09480" y="1513800"/>
            <a:ext cx="7823160" cy="4892400"/>
            <a:chOff x="609480" y="1513800"/>
            <a:chExt cx="7823160" cy="4892400"/>
          </a:xfrm>
        </p:grpSpPr>
        <p:sp>
          <p:nvSpPr>
            <p:cNvPr id="149" name=""/>
            <p:cNvSpPr/>
            <p:nvPr/>
          </p:nvSpPr>
          <p:spPr>
            <a:xfrm rot="20241600">
              <a:off x="1281960" y="2665800"/>
              <a:ext cx="6505560" cy="2587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4513680" y="2521800"/>
              <a:ext cx="1138680" cy="3254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7279200" y="2765880"/>
              <a:ext cx="1139040" cy="3254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968200" y="5531400"/>
              <a:ext cx="1138680" cy="3254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5652720" y="4934880"/>
              <a:ext cx="1138680" cy="325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073600" y="3985920"/>
              <a:ext cx="1138680" cy="3254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74680" y="1871640"/>
              <a:ext cx="1220040" cy="1175760"/>
            </a:xfrm>
            <a:prstGeom prst="ellipse">
              <a:avLst/>
            </a:prstGeom>
            <a:gradFill rotWithShape="0">
              <a:gsLst>
                <a:gs pos="0">
                  <a:srgbClr val="ae0404"/>
                </a:gs>
                <a:gs pos="100000">
                  <a:srgbClr val="3b01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88600" y="3277800"/>
              <a:ext cx="1218600" cy="1175760"/>
            </a:xfrm>
            <a:prstGeom prst="ellipse">
              <a:avLst/>
            </a:prstGeom>
            <a:gradFill rotWithShape="0">
              <a:gsLst>
                <a:gs pos="0">
                  <a:srgbClr val="65d135"/>
                </a:gs>
                <a:gs pos="100000">
                  <a:srgbClr val="1f41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25960" y="4843800"/>
              <a:ext cx="1218240" cy="1175760"/>
            </a:xfrm>
            <a:prstGeom prst="ellipse">
              <a:avLst/>
            </a:prstGeom>
            <a:gradFill rotWithShape="0">
              <a:gsLst>
                <a:gs pos="0">
                  <a:srgbClr val="ecce4c"/>
                </a:gs>
                <a:gs pos="100000">
                  <a:srgbClr val="5349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1160" y="4262400"/>
              <a:ext cx="1218240" cy="1175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6360" y="2081520"/>
              <a:ext cx="1152360" cy="11775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9520" y="3699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9400" y="229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85440" y="2549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84800" y="4684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05320" y="5258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6360" y="3579480"/>
              <a:ext cx="24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73640" y="2293560"/>
              <a:ext cx="1737000" cy="13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 flipH="1">
              <a:off x="742680" y="2293200"/>
              <a:ext cx="184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609480" y="1871640"/>
              <a:ext cx="21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00101"/>
              </a:gs>
              <a:gs pos="50000">
                <a:srgbClr val="ae0404"/>
              </a:gs>
              <a:gs pos="100000">
                <a:srgbClr val="5001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6c5e23"/>
              </a:gs>
              <a:gs pos="50000">
                <a:srgbClr val="ecce4c"/>
              </a:gs>
              <a:gs pos="100000">
                <a:srgbClr val="6c5e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2057400"/>
            <a:ext cx="3197160" cy="2890800"/>
            <a:chOff x="2895480" y="2057400"/>
            <a:chExt cx="3197160" cy="2890800"/>
          </a:xfrm>
        </p:grpSpPr>
        <p:sp>
          <p:nvSpPr>
            <p:cNvPr id="190" name=""/>
            <p:cNvSpPr/>
            <p:nvPr/>
          </p:nvSpPr>
          <p:spPr>
            <a:xfrm flipH="1" rot="16200000">
              <a:off x="2813400" y="31741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c2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5400000">
              <a:off x="5684040" y="31204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c2"/>
                </a:gs>
                <a:gs pos="100000">
                  <a:srgbClr val="00006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0800000">
              <a:off x="4248360" y="46213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c2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2236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68520" y="22021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e040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d0202"/>
                </a:gs>
                <a:gs pos="50000">
                  <a:srgbClr val="ae0404"/>
                </a:gs>
                <a:gs pos="100000">
                  <a:srgbClr val="5d02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6018"/>
              </a:gs>
              <a:gs pos="50000">
                <a:srgbClr val="65d135"/>
              </a:gs>
              <a:gs pos="100000">
                <a:srgbClr val="2e6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d135"/>
              </a:gs>
              <a:gs pos="50000">
                <a:srgbClr val="f9fcf7"/>
              </a:gs>
              <a:gs pos="100000">
                <a:srgbClr val="65d135"/>
              </a:gs>
            </a:gsLst>
            <a:lin ang="108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5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523880"/>
            <a:ext cx="6172200" cy="4496040"/>
          </a:xfrm>
          <a:prstGeom prst="rightArrow">
            <a:avLst>
              <a:gd name="adj1" fmla="val 79306"/>
              <a:gd name="adj2" fmla="val 34002"/>
            </a:avLst>
          </a:prstGeom>
          <a:gradFill rotWithShape="0">
            <a:gsLst>
              <a:gs pos="0">
                <a:srgbClr val="65d13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e0404"/>
              </a:gs>
              <a:gs pos="100000">
                <a:srgbClr val="50010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cce4c"/>
              </a:gs>
              <a:gs pos="100000">
                <a:srgbClr val="6c5e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Sung Ha, Park</cp:lastModifiedBy>
  <dcterms:modified xsi:type="dcterms:W3CDTF">2004-11-23T07:26:37Z</dcterms:modified>
  <cp:revision>14</cp:revision>
  <dc:subject/>
  <dc:title>PowerPoint Template</dc:title>
</cp:coreProperties>
</file>