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0D134-79A2-478D-8CB7-6EC9AD4C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498636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60080" y="5791320"/>
            <a:ext cx="4800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60080" y="5990400"/>
            <a:ext cx="4800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E9358-07D6-4831-8939-F641685A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498636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60080" y="5791320"/>
            <a:ext cx="2342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9960" y="5791320"/>
            <a:ext cx="2342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60080" y="5990400"/>
            <a:ext cx="2342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9960" y="5990400"/>
            <a:ext cx="2342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94AEE-8BE2-4851-B92C-4B5C8378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98636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60080" y="5791320"/>
            <a:ext cx="154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83320" y="5791320"/>
            <a:ext cx="154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506200" y="5791320"/>
            <a:ext cx="154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60080" y="5990400"/>
            <a:ext cx="154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83320" y="5990400"/>
            <a:ext cx="154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506200" y="5990400"/>
            <a:ext cx="154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FDC88-6339-40DC-A7C9-184BA8F6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F335-8DBD-4251-AB52-ABAC582B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498636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60080" y="5791320"/>
            <a:ext cx="4800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7244-E973-48BE-B8FD-3ED4C8F7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498636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60080" y="5791320"/>
            <a:ext cx="4800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6BCB-D065-477D-9021-EA7F3463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498636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60080" y="5791320"/>
            <a:ext cx="2342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9960" y="5791320"/>
            <a:ext cx="2342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1DFD-9A91-4426-9023-43F0943B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498636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ED9C-90F7-4A96-90C3-A96A7E79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4986360"/>
            <a:ext cx="7925040" cy="31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EF82-11E6-467E-826E-C57E9EC0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498636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60080" y="5791320"/>
            <a:ext cx="2342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9960" y="5791320"/>
            <a:ext cx="2342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60080" y="5990400"/>
            <a:ext cx="2342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9A24-E23C-47D8-91B9-A7D2DBAE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498636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60080" y="5791320"/>
            <a:ext cx="4800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407FC-B5AE-46FA-9230-B8A2E202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498636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60080" y="5791320"/>
            <a:ext cx="2342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9960" y="5791320"/>
            <a:ext cx="2342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19960" y="5990400"/>
            <a:ext cx="2342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707B-6606-4749-8044-3F632A21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498636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60080" y="5791320"/>
            <a:ext cx="2342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9960" y="5791320"/>
            <a:ext cx="2342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60080" y="5990400"/>
            <a:ext cx="4800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3E1B-AAF6-4A13-B1F2-3C2B7AA1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498636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60080" y="5791320"/>
            <a:ext cx="4800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60080" y="5990400"/>
            <a:ext cx="4800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3BDC-868A-4219-B79C-C2A54348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498636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60080" y="5791320"/>
            <a:ext cx="2342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9960" y="5791320"/>
            <a:ext cx="2342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60080" y="5990400"/>
            <a:ext cx="2342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19960" y="5990400"/>
            <a:ext cx="2342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8220-DABA-42D3-8B1C-E4D4CB25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498636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60080" y="5791320"/>
            <a:ext cx="154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83320" y="5791320"/>
            <a:ext cx="154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506200" y="5791320"/>
            <a:ext cx="154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260080" y="5990400"/>
            <a:ext cx="154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83320" y="5990400"/>
            <a:ext cx="154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506200" y="5990400"/>
            <a:ext cx="154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0478-C326-4154-B47F-538B98F1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98636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60080" y="5791320"/>
            <a:ext cx="4800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F63E1-8F2E-42D0-AC3B-DD0D68AB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498636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60080" y="5791320"/>
            <a:ext cx="2342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9960" y="5791320"/>
            <a:ext cx="2342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AC35F-9A3E-4E5E-91A0-BA26B4AD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498636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4928B-D9FC-4C8E-AF6C-AF23B9C7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09480" y="4986360"/>
            <a:ext cx="7925040" cy="31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FD368-2C92-4DF4-8F06-0357A8EA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498636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60080" y="5791320"/>
            <a:ext cx="2342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9960" y="5791320"/>
            <a:ext cx="2342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60080" y="5990400"/>
            <a:ext cx="2342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C9714-797A-4D19-B8E6-59CA5AE2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498636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60080" y="5791320"/>
            <a:ext cx="2342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9960" y="5791320"/>
            <a:ext cx="2342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19960" y="5990400"/>
            <a:ext cx="2342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E20E7-7E9B-49E0-A547-CB345452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498636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60080" y="5791320"/>
            <a:ext cx="2342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9960" y="5791320"/>
            <a:ext cx="2342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60080" y="5990400"/>
            <a:ext cx="4800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5E663-8BAB-4DAD-8CC8-27B2CB42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dddddd">
                  <a:alpha val="64313"/>
                </a:srgbClr>
              </a:gs>
              <a:gs pos="100000">
                <a:srgbClr val="edede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6933960" y="6515280"/>
            <a:ext cx="205740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f3f8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3f85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f3f8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DA73-E199-426A-8F32-079E19E24908}" type="slidenum">
              <a:rPr b="0" lang="en-US" sz="1000" spc="-1" strike="noStrike">
                <a:solidFill>
                  <a:srgbClr val="0f3f8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362320" y="5764320"/>
            <a:ext cx="4724280" cy="560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4568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3f8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3f8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1131480" y="228240"/>
            <a:ext cx="2297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3454560" y="6465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3f8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3894-39FE-4EFC-89C1-54743C1D707E}" type="slidenum">
              <a:rPr b="0" lang="en-US" sz="1200" spc="-1" strike="noStrike">
                <a:solidFill>
                  <a:srgbClr val="0f3f8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3f85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609480" y="498636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2971800" cy="15228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0"/>
            <a:ext cx="6172200" cy="15228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f3f8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498636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3f85"/>
                </a:solidFill>
                <a:latin typeface="Arial"/>
              </a:rPr>
              <a:t>PowerPoint </a:t>
            </a:r>
            <a:r>
              <a:rPr b="1" lang="en-US" sz="4400" spc="-1" strike="noStrike">
                <a:solidFill>
                  <a:srgbClr val="0f3f85"/>
                </a:solidFill>
                <a:latin typeface="Arial"/>
              </a:rPr>
              <a:t>Template</a:t>
            </a:r>
            <a:endParaRPr b="0" lang="en-US" sz="4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260080" y="5791320"/>
            <a:ext cx="4800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600200" y="2438280"/>
            <a:ext cx="7016760" cy="2971800"/>
            <a:chOff x="1600200" y="2438280"/>
            <a:chExt cx="7016760" cy="2971800"/>
          </a:xfrm>
        </p:grpSpPr>
        <p:sp>
          <p:nvSpPr>
            <p:cNvPr id="246" name=""/>
            <p:cNvSpPr/>
            <p:nvPr/>
          </p:nvSpPr>
          <p:spPr>
            <a:xfrm>
              <a:off x="358632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0092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42e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308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542ea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308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542ea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6116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2d185b"/>
                </a:gs>
                <a:gs pos="50000">
                  <a:srgbClr val="542eaa"/>
                </a:gs>
                <a:gs pos="100000">
                  <a:srgbClr val="2d185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8960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542eaa">
                    <a:alpha val="0"/>
                  </a:srgbClr>
                </a:gs>
                <a:gs pos="100000">
                  <a:srgbClr val="351d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85332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0020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a1c24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0020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a1c244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3052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66824"/>
                </a:gs>
                <a:gs pos="50000">
                  <a:srgbClr val="a1c244"/>
                </a:gs>
                <a:gs pos="100000">
                  <a:srgbClr val="56682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3196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a1c244">
                    <a:alpha val="0"/>
                  </a:srgbClr>
                </a:gs>
                <a:gs pos="100000">
                  <a:srgbClr val="657a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1620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1841400" y="2678040"/>
              <a:ext cx="1503360" cy="1511280"/>
              <a:chOff x="1841400" y="2678040"/>
              <a:chExt cx="1503360" cy="1511280"/>
            </a:xfrm>
          </p:grpSpPr>
          <p:sp>
            <p:nvSpPr>
              <p:cNvPr id="259" name=""/>
              <p:cNvSpPr/>
              <p:nvPr/>
            </p:nvSpPr>
            <p:spPr>
              <a:xfrm>
                <a:off x="184140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86012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87596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95768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41162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881e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162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123b68"/>
                </a:gs>
                <a:gs pos="100000">
                  <a:srgbClr val="2881e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4656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54579"/>
                </a:gs>
                <a:gs pos="50000">
                  <a:srgbClr val="2881e2"/>
                </a:gs>
                <a:gs pos="100000">
                  <a:srgbClr val="15457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4800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2881e2">
                    <a:alpha val="0"/>
                  </a:srgbClr>
                </a:gs>
                <a:gs pos="100000">
                  <a:srgbClr val="1951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3224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4357800" y="2678040"/>
              <a:ext cx="1503360" cy="1511280"/>
              <a:chOff x="4357800" y="2678040"/>
              <a:chExt cx="1503360" cy="1511280"/>
            </a:xfrm>
          </p:grpSpPr>
          <p:sp>
            <p:nvSpPr>
              <p:cNvPr id="269" name=""/>
              <p:cNvSpPr/>
              <p:nvPr/>
            </p:nvSpPr>
            <p:spPr>
              <a:xfrm>
                <a:off x="435780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37652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39236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47408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6881760" y="2678040"/>
              <a:ext cx="1505160" cy="1511280"/>
              <a:chOff x="6881760" y="2678040"/>
              <a:chExt cx="1505160" cy="1511280"/>
            </a:xfrm>
          </p:grpSpPr>
          <p:sp>
            <p:nvSpPr>
              <p:cNvPr id="274" name=""/>
              <p:cNvSpPr/>
              <p:nvPr/>
            </p:nvSpPr>
            <p:spPr>
              <a:xfrm>
                <a:off x="688176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90084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91632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99840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164448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5908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8988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0932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31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5292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21337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42eaa"/>
              </a:gs>
              <a:gs pos="100000">
                <a:srgbClr val="2881e2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992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752480" y="1752480"/>
            <a:ext cx="3657600" cy="4181400"/>
            <a:chOff x="1752480" y="1752480"/>
            <a:chExt cx="3657600" cy="4181400"/>
          </a:xfrm>
        </p:grpSpPr>
        <p:sp>
          <p:nvSpPr>
            <p:cNvPr id="290" name=""/>
            <p:cNvSpPr/>
            <p:nvPr/>
          </p:nvSpPr>
          <p:spPr>
            <a:xfrm rot="20876400">
              <a:off x="3773520" y="51242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05120" y="39052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26000" y="39146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743280" y="39304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35440" y="39751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23080" y="45320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20826600">
              <a:off x="1930320" y="45144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1854360" y="3524040"/>
              <a:ext cx="1371240" cy="1441080"/>
              <a:chOff x="1854360" y="3524040"/>
              <a:chExt cx="1371240" cy="1441080"/>
            </a:xfrm>
          </p:grpSpPr>
          <p:sp>
            <p:nvSpPr>
              <p:cNvPr id="298" name=""/>
              <p:cNvSpPr/>
              <p:nvPr/>
            </p:nvSpPr>
            <p:spPr>
              <a:xfrm>
                <a:off x="1854360" y="35240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872000" y="35323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885320" y="35460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956960" y="35827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4800" y="40302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1752480" y="27590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28800" y="21524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841400" y="21571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52560" y="21682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06560" y="21938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25720" y="2501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19320" y="22860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41720" y="17524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151080" y="17557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57560" y="17618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93920" y="17809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11920" y="1976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7973000">
            <a:off x="5504760" y="26755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f3f85"/>
              </a:gs>
              <a:gs pos="100000">
                <a:srgbClr val="0d3775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3465600">
            <a:off x="5504400" y="4839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f3f85"/>
              </a:gs>
              <a:gs pos="100000">
                <a:srgbClr val="0d3775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4368800">
            <a:off x="4285080" y="27511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f3f85"/>
              </a:gs>
              <a:gs pos="100000">
                <a:srgbClr val="0d3775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7534800">
            <a:off x="4246560" y="48056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f3f85"/>
              </a:gs>
              <a:gs pos="100000">
                <a:srgbClr val="0d3775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83280" y="38037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f3f85"/>
              </a:gs>
              <a:gs pos="100000">
                <a:srgbClr val="0d37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10800000">
            <a:off x="367308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0f3f85"/>
              </a:gs>
              <a:gs pos="100000">
                <a:srgbClr val="0d377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94080" y="204624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156200" y="2093760"/>
            <a:ext cx="360360" cy="360360"/>
            <a:chOff x="4156200" y="2093760"/>
            <a:chExt cx="360360" cy="360360"/>
          </a:xfrm>
        </p:grpSpPr>
        <p:sp>
          <p:nvSpPr>
            <p:cNvPr id="324" name=""/>
            <p:cNvSpPr/>
            <p:nvPr/>
          </p:nvSpPr>
          <p:spPr>
            <a:xfrm>
              <a:off x="41562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6c1bf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720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6c1bf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211560" y="3749760"/>
            <a:ext cx="360360" cy="360360"/>
            <a:chOff x="3211560" y="3749760"/>
            <a:chExt cx="360360" cy="360360"/>
          </a:xfrm>
        </p:grpSpPr>
        <p:sp>
          <p:nvSpPr>
            <p:cNvPr id="327" name=""/>
            <p:cNvSpPr/>
            <p:nvPr/>
          </p:nvSpPr>
          <p:spPr>
            <a:xfrm>
              <a:off x="32115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6c1bf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274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6c1bf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075200" y="5292720"/>
            <a:ext cx="360360" cy="360360"/>
            <a:chOff x="4075200" y="5292720"/>
            <a:chExt cx="360360" cy="360360"/>
          </a:xfrm>
        </p:grpSpPr>
        <p:sp>
          <p:nvSpPr>
            <p:cNvPr id="330" name=""/>
            <p:cNvSpPr/>
            <p:nvPr/>
          </p:nvSpPr>
          <p:spPr>
            <a:xfrm>
              <a:off x="40752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6c1bf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910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6c1bf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005520" y="2073240"/>
            <a:ext cx="360360" cy="360360"/>
            <a:chOff x="6005520" y="2073240"/>
            <a:chExt cx="360360" cy="360360"/>
          </a:xfrm>
        </p:grpSpPr>
        <p:sp>
          <p:nvSpPr>
            <p:cNvPr id="333" name=""/>
            <p:cNvSpPr/>
            <p:nvPr/>
          </p:nvSpPr>
          <p:spPr>
            <a:xfrm>
              <a:off x="600552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6c1bf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02136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6c1bf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954840" y="3749760"/>
            <a:ext cx="360360" cy="360360"/>
            <a:chOff x="6954840" y="3749760"/>
            <a:chExt cx="360360" cy="360360"/>
          </a:xfrm>
        </p:grpSpPr>
        <p:sp>
          <p:nvSpPr>
            <p:cNvPr id="336" name=""/>
            <p:cNvSpPr/>
            <p:nvPr/>
          </p:nvSpPr>
          <p:spPr>
            <a:xfrm>
              <a:off x="695484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6c1bf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7068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6c1bf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6060960" y="5349960"/>
            <a:ext cx="360360" cy="360360"/>
            <a:chOff x="6060960" y="5349960"/>
            <a:chExt cx="360360" cy="360360"/>
          </a:xfrm>
        </p:grpSpPr>
        <p:sp>
          <p:nvSpPr>
            <p:cNvPr id="339" name=""/>
            <p:cNvSpPr/>
            <p:nvPr/>
          </p:nvSpPr>
          <p:spPr>
            <a:xfrm>
              <a:off x="606096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6c1bf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7680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6c1bf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435132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542eaa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34484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26154e"/>
              </a:gs>
              <a:gs pos="100000">
                <a:srgbClr val="542eaa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78400" y="3114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d185b"/>
              </a:gs>
              <a:gs pos="50000">
                <a:srgbClr val="542eaa"/>
              </a:gs>
              <a:gs pos="100000">
                <a:srgbClr val="2d185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460760" y="3087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542eaa">
                  <a:alpha val="0"/>
                </a:srgbClr>
              </a:gs>
              <a:gs pos="100000">
                <a:srgbClr val="351d6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562640" y="3198960"/>
            <a:ext cx="152208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8460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02240" y="322740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180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699080" y="3278160"/>
            <a:ext cx="121428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89168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444360" y="2021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43840" y="2021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358760" y="3773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444360" y="5373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29440" y="3773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67880" y="53118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722600" y="2060640"/>
            <a:ext cx="2170080" cy="4034880"/>
            <a:chOff x="1722600" y="2060640"/>
            <a:chExt cx="2170080" cy="4034880"/>
          </a:xfrm>
        </p:grpSpPr>
        <p:sp>
          <p:nvSpPr>
            <p:cNvPr id="360" name=""/>
            <p:cNvSpPr/>
            <p:nvPr/>
          </p:nvSpPr>
          <p:spPr>
            <a:xfrm>
              <a:off x="172260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56080" y="23763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7336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7336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72908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7336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467080" y="2060640"/>
              <a:ext cx="642960" cy="642600"/>
              <a:chOff x="2467080" y="2060640"/>
              <a:chExt cx="642960" cy="642600"/>
            </a:xfrm>
          </p:grpSpPr>
          <p:sp>
            <p:nvSpPr>
              <p:cNvPr id="367" name=""/>
              <p:cNvSpPr/>
              <p:nvPr/>
            </p:nvSpPr>
            <p:spPr>
              <a:xfrm>
                <a:off x="246708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47356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48148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48796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52180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260712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989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084560" y="2060640"/>
            <a:ext cx="2166840" cy="4034880"/>
            <a:chOff x="4084560" y="2060640"/>
            <a:chExt cx="2166840" cy="4034880"/>
          </a:xfrm>
        </p:grpSpPr>
        <p:sp>
          <p:nvSpPr>
            <p:cNvPr id="375" name=""/>
            <p:cNvSpPr/>
            <p:nvPr/>
          </p:nvSpPr>
          <p:spPr>
            <a:xfrm>
              <a:off x="408456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1768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3532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13532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29040" y="20606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35160" y="20649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43440" y="20682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49560" y="20746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84480" y="20905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6908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605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087440" y="52257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13208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440400" y="2060640"/>
            <a:ext cx="2170080" cy="4034880"/>
            <a:chOff x="6440400" y="2060640"/>
            <a:chExt cx="2170080" cy="4034880"/>
          </a:xfrm>
        </p:grpSpPr>
        <p:sp>
          <p:nvSpPr>
            <p:cNvPr id="389" name=""/>
            <p:cNvSpPr/>
            <p:nvPr/>
          </p:nvSpPr>
          <p:spPr>
            <a:xfrm>
              <a:off x="6446520" y="23680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48000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97280" y="44398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497280" y="23983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7191000" y="2060640"/>
              <a:ext cx="642960" cy="642600"/>
              <a:chOff x="7191000" y="2060640"/>
              <a:chExt cx="642960" cy="642600"/>
            </a:xfrm>
          </p:grpSpPr>
          <p:sp>
            <p:nvSpPr>
              <p:cNvPr id="394" name=""/>
              <p:cNvSpPr/>
              <p:nvPr/>
            </p:nvSpPr>
            <p:spPr>
              <a:xfrm>
                <a:off x="719100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19748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20540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21188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24572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733140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52284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4040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8468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0" y="3009960"/>
            <a:ext cx="9144000" cy="122040"/>
            <a:chOff x="0" y="3009960"/>
            <a:chExt cx="9144000" cy="122040"/>
          </a:xfrm>
        </p:grpSpPr>
        <p:sp>
          <p:nvSpPr>
            <p:cNvPr id="406" name=""/>
            <p:cNvSpPr/>
            <p:nvPr/>
          </p:nvSpPr>
          <p:spPr>
            <a:xfrm>
              <a:off x="0" y="30099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30567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5186520" y="3300480"/>
            <a:ext cx="1523880" cy="2422080"/>
            <a:chOff x="5186520" y="3300480"/>
            <a:chExt cx="1523880" cy="2422080"/>
          </a:xfrm>
        </p:grpSpPr>
        <p:grpSp>
          <p:nvGrpSpPr>
            <p:cNvPr id="409" name=""/>
            <p:cNvGrpSpPr/>
            <p:nvPr/>
          </p:nvGrpSpPr>
          <p:grpSpPr>
            <a:xfrm>
              <a:off x="5186520" y="3458160"/>
              <a:ext cx="1418760" cy="2264400"/>
              <a:chOff x="5186520" y="3458160"/>
              <a:chExt cx="1418760" cy="2264400"/>
            </a:xfrm>
          </p:grpSpPr>
          <p:sp>
            <p:nvSpPr>
              <p:cNvPr id="410" name=""/>
              <p:cNvSpPr/>
              <p:nvPr/>
            </p:nvSpPr>
            <p:spPr>
              <a:xfrm rot="3876600">
                <a:off x="475884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3876600">
                <a:off x="612468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5621760" y="3300480"/>
              <a:ext cx="1088640" cy="1737720"/>
              <a:chOff x="5621760" y="3300480"/>
              <a:chExt cx="1088640" cy="1737720"/>
            </a:xfrm>
          </p:grpSpPr>
          <p:sp>
            <p:nvSpPr>
              <p:cNvPr id="413" name=""/>
              <p:cNvSpPr/>
              <p:nvPr/>
            </p:nvSpPr>
            <p:spPr>
              <a:xfrm flipV="1" rot="3876600">
                <a:off x="529344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 rot="3876600">
                <a:off x="6326640" y="46612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"/>
          <p:cNvGrpSpPr/>
          <p:nvPr/>
        </p:nvGrpSpPr>
        <p:grpSpPr>
          <a:xfrm>
            <a:off x="4778280" y="2457360"/>
            <a:ext cx="1270080" cy="1308240"/>
            <a:chOff x="4778280" y="2457360"/>
            <a:chExt cx="1270080" cy="1308240"/>
          </a:xfrm>
        </p:grpSpPr>
        <p:sp>
          <p:nvSpPr>
            <p:cNvPr id="416" name=""/>
            <p:cNvSpPr/>
            <p:nvPr/>
          </p:nvSpPr>
          <p:spPr>
            <a:xfrm>
              <a:off x="4778280" y="24573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78280" y="24573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61800" y="25423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61800" y="25452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916520" y="25999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4932000" y="2615760"/>
              <a:ext cx="961920" cy="992520"/>
              <a:chOff x="4932000" y="2615760"/>
              <a:chExt cx="961920" cy="992520"/>
            </a:xfrm>
          </p:grpSpPr>
          <p:sp>
            <p:nvSpPr>
              <p:cNvPr id="422" name=""/>
              <p:cNvSpPr/>
              <p:nvPr/>
            </p:nvSpPr>
            <p:spPr>
              <a:xfrm>
                <a:off x="4932000" y="26157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943880" y="26211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953960" y="26305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006520" y="26560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426" name=""/>
          <p:cNvGrpSpPr/>
          <p:nvPr/>
        </p:nvGrpSpPr>
        <p:grpSpPr>
          <a:xfrm>
            <a:off x="3382200" y="3300480"/>
            <a:ext cx="1523880" cy="2422080"/>
            <a:chOff x="3382200" y="3300480"/>
            <a:chExt cx="1523880" cy="2422080"/>
          </a:xfrm>
        </p:grpSpPr>
        <p:grpSp>
          <p:nvGrpSpPr>
            <p:cNvPr id="427" name=""/>
            <p:cNvGrpSpPr/>
            <p:nvPr/>
          </p:nvGrpSpPr>
          <p:grpSpPr>
            <a:xfrm>
              <a:off x="3382200" y="3458160"/>
              <a:ext cx="1418760" cy="2264400"/>
              <a:chOff x="3382200" y="3458160"/>
              <a:chExt cx="1418760" cy="2264400"/>
            </a:xfrm>
          </p:grpSpPr>
          <p:sp>
            <p:nvSpPr>
              <p:cNvPr id="428" name=""/>
              <p:cNvSpPr/>
              <p:nvPr/>
            </p:nvSpPr>
            <p:spPr>
              <a:xfrm rot="3876600">
                <a:off x="295452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3876600">
                <a:off x="432036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3817440" y="3300480"/>
              <a:ext cx="1088640" cy="1737720"/>
              <a:chOff x="3817440" y="3300480"/>
              <a:chExt cx="1088640" cy="1737720"/>
            </a:xfrm>
          </p:grpSpPr>
          <p:sp>
            <p:nvSpPr>
              <p:cNvPr id="431" name=""/>
              <p:cNvSpPr/>
              <p:nvPr/>
            </p:nvSpPr>
            <p:spPr>
              <a:xfrm flipV="1" rot="3876600">
                <a:off x="348912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 rot="3876600">
                <a:off x="4522320" y="46609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"/>
          <p:cNvGrpSpPr/>
          <p:nvPr/>
        </p:nvGrpSpPr>
        <p:grpSpPr>
          <a:xfrm>
            <a:off x="2975040" y="2457360"/>
            <a:ext cx="1268280" cy="1308240"/>
            <a:chOff x="2975040" y="2457360"/>
            <a:chExt cx="1268280" cy="1308240"/>
          </a:xfrm>
        </p:grpSpPr>
        <p:sp>
          <p:nvSpPr>
            <p:cNvPr id="434" name=""/>
            <p:cNvSpPr/>
            <p:nvPr/>
          </p:nvSpPr>
          <p:spPr>
            <a:xfrm>
              <a:off x="29750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9750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058560" y="25423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058560" y="25452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13280" y="25999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3128760" y="2615760"/>
              <a:ext cx="960480" cy="992520"/>
              <a:chOff x="3128760" y="2615760"/>
              <a:chExt cx="960480" cy="992520"/>
            </a:xfrm>
          </p:grpSpPr>
          <p:sp>
            <p:nvSpPr>
              <p:cNvPr id="440" name=""/>
              <p:cNvSpPr/>
              <p:nvPr/>
            </p:nvSpPr>
            <p:spPr>
              <a:xfrm>
                <a:off x="3128760" y="26157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140640" y="26211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150720" y="26305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202920" y="26560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1635840" y="3300480"/>
            <a:ext cx="1523880" cy="2422080"/>
            <a:chOff x="1635840" y="3300480"/>
            <a:chExt cx="1523880" cy="2422080"/>
          </a:xfrm>
        </p:grpSpPr>
        <p:grpSp>
          <p:nvGrpSpPr>
            <p:cNvPr id="445" name=""/>
            <p:cNvGrpSpPr/>
            <p:nvPr/>
          </p:nvGrpSpPr>
          <p:grpSpPr>
            <a:xfrm>
              <a:off x="1635840" y="3458160"/>
              <a:ext cx="1418760" cy="2264400"/>
              <a:chOff x="1635840" y="3458160"/>
              <a:chExt cx="1418760" cy="2264400"/>
            </a:xfrm>
          </p:grpSpPr>
          <p:sp>
            <p:nvSpPr>
              <p:cNvPr id="446" name=""/>
              <p:cNvSpPr/>
              <p:nvPr/>
            </p:nvSpPr>
            <p:spPr>
              <a:xfrm rot="3876600">
                <a:off x="120816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3876600">
                <a:off x="257400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2071080" y="3300480"/>
              <a:ext cx="1088640" cy="1737720"/>
              <a:chOff x="2071080" y="3300480"/>
              <a:chExt cx="1088640" cy="1737720"/>
            </a:xfrm>
          </p:grpSpPr>
          <p:sp>
            <p:nvSpPr>
              <p:cNvPr id="449" name=""/>
              <p:cNvSpPr/>
              <p:nvPr/>
            </p:nvSpPr>
            <p:spPr>
              <a:xfrm flipV="1" rot="3876600">
                <a:off x="174276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 rot="3876600">
                <a:off x="2775960" y="46609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451" name=""/>
          <p:cNvGrpSpPr/>
          <p:nvPr/>
        </p:nvGrpSpPr>
        <p:grpSpPr>
          <a:xfrm>
            <a:off x="1227240" y="2457360"/>
            <a:ext cx="1268280" cy="1308240"/>
            <a:chOff x="1227240" y="2457360"/>
            <a:chExt cx="1268280" cy="1308240"/>
          </a:xfrm>
        </p:grpSpPr>
        <p:sp>
          <p:nvSpPr>
            <p:cNvPr id="452" name=""/>
            <p:cNvSpPr/>
            <p:nvPr/>
          </p:nvSpPr>
          <p:spPr>
            <a:xfrm>
              <a:off x="12272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272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10760" y="25423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10760" y="25452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65480" y="25999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1380960" y="2615760"/>
              <a:ext cx="960480" cy="992520"/>
              <a:chOff x="1380960" y="2615760"/>
              <a:chExt cx="960480" cy="992520"/>
            </a:xfrm>
          </p:grpSpPr>
          <p:sp>
            <p:nvSpPr>
              <p:cNvPr id="458" name=""/>
              <p:cNvSpPr/>
              <p:nvPr/>
            </p:nvSpPr>
            <p:spPr>
              <a:xfrm>
                <a:off x="1380960" y="26157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392840" y="26211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402920" y="26305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455120" y="26560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"/>
          <p:cNvSpPr/>
          <p:nvPr/>
        </p:nvSpPr>
        <p:spPr>
          <a:xfrm rot="3925800">
            <a:off x="159192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3925800">
            <a:off x="205632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3925800">
            <a:off x="333324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3925800">
            <a:off x="379800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3925800">
            <a:off x="514620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3925800">
            <a:off x="561096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566720" y="1828800"/>
            <a:ext cx="6057000" cy="407880"/>
            <a:chOff x="1566720" y="1828800"/>
            <a:chExt cx="6057000" cy="407880"/>
          </a:xfrm>
        </p:grpSpPr>
        <p:sp>
          <p:nvSpPr>
            <p:cNvPr id="469" name=""/>
            <p:cNvSpPr/>
            <p:nvPr/>
          </p:nvSpPr>
          <p:spPr>
            <a:xfrm>
              <a:off x="156672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3210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6736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5764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cxnSp>
          <p:nvCxnSpPr>
            <p:cNvPr id="473" name=""/>
            <p:cNvCxnSpPr>
              <a:stCxn id="469" idx="3"/>
              <a:endCxn id="470" idx="1"/>
            </p:cNvCxnSpPr>
            <p:nvPr/>
          </p:nvCxnSpPr>
          <p:spPr>
            <a:xfrm>
              <a:off x="230364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4" name=""/>
            <p:cNvCxnSpPr>
              <a:stCxn id="470" idx="3"/>
              <a:endCxn id="471" idx="1"/>
            </p:cNvCxnSpPr>
            <p:nvPr/>
          </p:nvCxnSpPr>
          <p:spPr>
            <a:xfrm>
              <a:off x="405720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5" name=""/>
            <p:cNvCxnSpPr/>
            <p:nvPr/>
          </p:nvCxnSpPr>
          <p:spPr>
            <a:xfrm>
              <a:off x="580392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76" name="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6705720" y="2209680"/>
            <a:ext cx="2145600" cy="3501000"/>
            <a:chOff x="6705720" y="2209680"/>
            <a:chExt cx="2145600" cy="3501000"/>
          </a:xfrm>
        </p:grpSpPr>
        <p:grpSp>
          <p:nvGrpSpPr>
            <p:cNvPr id="478" name=""/>
            <p:cNvGrpSpPr/>
            <p:nvPr/>
          </p:nvGrpSpPr>
          <p:grpSpPr>
            <a:xfrm>
              <a:off x="7310160" y="3429720"/>
              <a:ext cx="1430640" cy="2280960"/>
              <a:chOff x="7310160" y="3429720"/>
              <a:chExt cx="1430640" cy="2280960"/>
            </a:xfrm>
          </p:grpSpPr>
          <p:sp>
            <p:nvSpPr>
              <p:cNvPr id="479" name=""/>
              <p:cNvSpPr/>
              <p:nvPr/>
            </p:nvSpPr>
            <p:spPr>
              <a:xfrm rot="3876600">
                <a:off x="6880680" y="4321800"/>
                <a:ext cx="2289240" cy="4968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881e2"/>
                  </a:gs>
                  <a:gs pos="100000">
                    <a:srgbClr val="123b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3876600">
                <a:off x="8256240" y="5206320"/>
                <a:ext cx="359640" cy="4064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881e2">
                      <a:alpha val="49019"/>
                    </a:srgbClr>
                  </a:gs>
                  <a:gs pos="100000">
                    <a:srgbClr val="a3c8f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7754040" y="3267000"/>
              <a:ext cx="1097280" cy="1751040"/>
              <a:chOff x="7754040" y="3267000"/>
              <a:chExt cx="1097280" cy="1751040"/>
            </a:xfrm>
          </p:grpSpPr>
          <p:sp>
            <p:nvSpPr>
              <p:cNvPr id="482" name=""/>
              <p:cNvSpPr/>
              <p:nvPr/>
            </p:nvSpPr>
            <p:spPr>
              <a:xfrm flipV="1" rot="3877200">
                <a:off x="7423560" y="3952080"/>
                <a:ext cx="1757520" cy="3805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3f85"/>
                  </a:gs>
                  <a:gs pos="100000">
                    <a:srgbClr val="061d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 rot="3877200">
                <a:off x="8464320" y="4638600"/>
                <a:ext cx="276120" cy="3117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3f85">
                      <a:alpha val="49019"/>
                    </a:srgbClr>
                  </a:gs>
                  <a:gs pos="100000">
                    <a:srgbClr val="7b95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 rot="3925800">
              <a:off x="7260840" y="43268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3925800">
              <a:off x="7803000" y="40701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6705720" y="2209680"/>
              <a:ext cx="1544040" cy="1588680"/>
              <a:chOff x="6705720" y="2209680"/>
              <a:chExt cx="1544040" cy="1588680"/>
            </a:xfrm>
          </p:grpSpPr>
          <p:sp>
            <p:nvSpPr>
              <p:cNvPr id="487" name=""/>
              <p:cNvSpPr/>
              <p:nvPr/>
            </p:nvSpPr>
            <p:spPr>
              <a:xfrm>
                <a:off x="6705720" y="2209680"/>
                <a:ext cx="1538280" cy="1580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2881e2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711480" y="2218320"/>
                <a:ext cx="1538280" cy="15800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2881e2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807960" y="2311920"/>
                <a:ext cx="1336320" cy="1371960"/>
              </a:xfrm>
              <a:prstGeom prst="ellipse">
                <a:avLst/>
              </a:prstGeom>
              <a:gradFill rotWithShape="0">
                <a:gsLst>
                  <a:gs pos="0">
                    <a:srgbClr val="154579"/>
                  </a:gs>
                  <a:gs pos="50000">
                    <a:srgbClr val="2881e2"/>
                  </a:gs>
                  <a:gs pos="100000">
                    <a:srgbClr val="15457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99320" y="2318040"/>
                <a:ext cx="1336320" cy="1371960"/>
              </a:xfrm>
              <a:prstGeom prst="ellipse">
                <a:avLst/>
              </a:prstGeom>
              <a:gradFill rotWithShape="0">
                <a:gsLst>
                  <a:gs pos="0">
                    <a:srgbClr val="2881e2">
                      <a:alpha val="0"/>
                    </a:srgbClr>
                  </a:gs>
                  <a:gs pos="100000">
                    <a:srgbClr val="19518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873840" y="2382120"/>
                <a:ext cx="1203480" cy="1233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grpSp>
            <p:nvGrpSpPr>
              <p:cNvPr id="492" name=""/>
              <p:cNvGrpSpPr/>
              <p:nvPr/>
            </p:nvGrpSpPr>
            <p:grpSpPr>
              <a:xfrm>
                <a:off x="6892920" y="2401200"/>
                <a:ext cx="1166760" cy="1197720"/>
                <a:chOff x="6892920" y="2401200"/>
                <a:chExt cx="1166760" cy="119772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892920" y="2401200"/>
                  <a:ext cx="1166760" cy="119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907680" y="2407680"/>
                  <a:ext cx="1138680" cy="116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919920" y="2419200"/>
                  <a:ext cx="1082880" cy="109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983280" y="2449800"/>
                  <a:ext cx="962640" cy="88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523880" y="2133720"/>
            <a:ext cx="6857640" cy="3428640"/>
            <a:chOff x="1523880" y="2133720"/>
            <a:chExt cx="6857640" cy="3428640"/>
          </a:xfrm>
        </p:grpSpPr>
        <p:sp>
          <p:nvSpPr>
            <p:cNvPr id="499" name=""/>
            <p:cNvSpPr/>
            <p:nvPr/>
          </p:nvSpPr>
          <p:spPr>
            <a:xfrm>
              <a:off x="581868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f807d"/>
                </a:gs>
                <a:gs pos="100000">
                  <a:srgbClr val="ea4a46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7128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76cc2"/>
                </a:gs>
                <a:gs pos="100000">
                  <a:srgbClr val="542eaa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2388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8a6e9"/>
                </a:gs>
                <a:gs pos="100000">
                  <a:srgbClr val="2881e2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73160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8a6e9"/>
                </a:gs>
                <a:gs pos="100000">
                  <a:srgbClr val="2881e2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40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76cc2"/>
                </a:gs>
                <a:gs pos="100000">
                  <a:srgbClr val="542eaa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95728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807d"/>
                </a:gs>
                <a:gs pos="100000">
                  <a:srgbClr val="ea4a46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6116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06556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382920" y="3433680"/>
            <a:ext cx="1563840" cy="273852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21">
                <a:moveTo>
                  <a:pt x="2969" y="0"/>
                </a:moveTo>
                <a:arcTo wR="2969" hR="2969" stAng="16200000" swAng="-5400000"/>
                <a:lnTo>
                  <a:pt x="0" y="34852"/>
                </a:lnTo>
                <a:arcTo wR="2969" hR="2969" stAng="10800000" swAng="-5400000"/>
                <a:lnTo>
                  <a:pt x="18631" y="3782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67652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1737360" y="1863720"/>
            <a:ext cx="6214680" cy="1324440"/>
            <a:chOff x="1737360" y="1863720"/>
            <a:chExt cx="6214680" cy="1324440"/>
          </a:xfrm>
        </p:grpSpPr>
        <p:sp>
          <p:nvSpPr>
            <p:cNvPr id="512" name=""/>
            <p:cNvSpPr/>
            <p:nvPr/>
          </p:nvSpPr>
          <p:spPr>
            <a:xfrm rot="3418800">
              <a:off x="194508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6154e"/>
                </a:gs>
              </a:gsLst>
              <a:lin ang="1980000"/>
            </a:gradFill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2868120" y="2244600"/>
              <a:ext cx="901440" cy="124200"/>
              <a:chOff x="2868120" y="2244600"/>
              <a:chExt cx="901440" cy="124200"/>
            </a:xfrm>
          </p:grpSpPr>
          <p:sp>
            <p:nvSpPr>
              <p:cNvPr id="514" name=""/>
              <p:cNvSpPr/>
              <p:nvPr/>
            </p:nvSpPr>
            <p:spPr>
              <a:xfrm>
                <a:off x="28681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9545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6327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7062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518" name=""/>
            <p:cNvSpPr/>
            <p:nvPr/>
          </p:nvSpPr>
          <p:spPr>
            <a:xfrm rot="3418800">
              <a:off x="3609720" y="2009160"/>
              <a:ext cx="874080" cy="970920"/>
            </a:xfrm>
            <a:prstGeom prst="rect">
              <a:avLst/>
            </a:prstGeom>
            <a:solidFill>
              <a:srgbClr val="2881e2"/>
            </a:solidFill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4532760" y="2244600"/>
              <a:ext cx="901440" cy="124200"/>
              <a:chOff x="4532760" y="2244600"/>
              <a:chExt cx="901440" cy="124200"/>
            </a:xfrm>
          </p:grpSpPr>
          <p:sp>
            <p:nvSpPr>
              <p:cNvPr id="520" name=""/>
              <p:cNvSpPr/>
              <p:nvPr/>
            </p:nvSpPr>
            <p:spPr>
              <a:xfrm>
                <a:off x="453276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916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29740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3708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 rot="3418800">
              <a:off x="520488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6154e"/>
                </a:gs>
              </a:gsLst>
              <a:lin ang="1980000"/>
            </a:gradFill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6197400" y="2244600"/>
              <a:ext cx="1178280" cy="124200"/>
              <a:chOff x="6197400" y="2244600"/>
              <a:chExt cx="1178280" cy="124200"/>
            </a:xfrm>
          </p:grpSpPr>
          <p:sp>
            <p:nvSpPr>
              <p:cNvPr id="526" name=""/>
              <p:cNvSpPr/>
              <p:nvPr/>
            </p:nvSpPr>
            <p:spPr>
              <a:xfrm>
                <a:off x="619740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31044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19712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2932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 rot="3418800">
              <a:off x="6869520" y="2009160"/>
              <a:ext cx="874080" cy="970920"/>
            </a:xfrm>
            <a:prstGeom prst="rect">
              <a:avLst/>
            </a:prstGeom>
            <a:solidFill>
              <a:srgbClr val="2881e2"/>
            </a:solidFill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20520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476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2938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9894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0584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7522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4478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14312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1611360" y="2209680"/>
          <a:ext cx="7151760" cy="3622680"/>
        </p:xfrm>
        <a:graphic>
          <a:graphicData uri="http://schemas.openxmlformats.org/drawingml/2006/table">
            <a:tbl>
              <a:tblPr/>
              <a:tblGrid>
                <a:gridCol w="1787400"/>
                <a:gridCol w="1789200"/>
                <a:gridCol w="1787400"/>
                <a:gridCol w="1787760"/>
              </a:tblGrid>
              <a:tr h="599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4a4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4a4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42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1206000" y="830880"/>
            <a:ext cx="7379640" cy="5581800"/>
            <a:chOff x="1206000" y="830880"/>
            <a:chExt cx="7379640" cy="5581800"/>
          </a:xfrm>
        </p:grpSpPr>
        <p:sp>
          <p:nvSpPr>
            <p:cNvPr id="544" name=""/>
            <p:cNvSpPr/>
            <p:nvPr/>
          </p:nvSpPr>
          <p:spPr>
            <a:xfrm>
              <a:off x="2743200" y="46180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0601600">
              <a:off x="2017800" y="25045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0601600">
              <a:off x="2074320" y="234252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20601600">
              <a:off x="1991160" y="232812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9179c8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 rot="20602200">
              <a:off x="2039760" y="232848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2881e2"/>
                </a:gs>
                <a:gs pos="100000">
                  <a:srgbClr val="1b599d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601600">
              <a:off x="1997640" y="23396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3c217a"/>
                </a:gs>
                <a:gs pos="100000">
                  <a:srgbClr val="542ea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 rot="20602200">
              <a:off x="2007360" y="233820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6b2220"/>
                </a:gs>
                <a:gs pos="100000">
                  <a:srgbClr val="ea4a46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068880" y="37749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a1c244"/>
                </a:gs>
                <a:gs pos="100000">
                  <a:srgbClr val="d3e2a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0539200">
              <a:off x="1624320" y="173484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a1c244"/>
                </a:gs>
                <a:gs pos="100000">
                  <a:srgbClr val="4a591f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9960" y="41148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a1c244"/>
                </a:gs>
                <a:gs pos="100000">
                  <a:srgbClr val="d3e2a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20601600">
              <a:off x="3535200" y="30571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526120" y="3736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431240" y="2517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260040" y="2822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55120" y="40417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745440" y="4727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98960" y="433044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42eaa">
                    <a:alpha val="19215"/>
                  </a:srgbClr>
                </a:gs>
                <a:gs pos="100000">
                  <a:srgbClr val="8c73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20601600">
              <a:off x="3637080" y="330984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3318480" y="2286000"/>
            <a:ext cx="3979800" cy="3652920"/>
            <a:chOff x="3318480" y="2286000"/>
            <a:chExt cx="3979800" cy="3652920"/>
          </a:xfrm>
        </p:grpSpPr>
        <p:sp>
          <p:nvSpPr>
            <p:cNvPr id="567" name=""/>
            <p:cNvSpPr/>
            <p:nvPr/>
          </p:nvSpPr>
          <p:spPr>
            <a:xfrm>
              <a:off x="3881160" y="2586240"/>
              <a:ext cx="2917800" cy="288108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5400000">
              <a:off x="5318280" y="2513880"/>
              <a:ext cx="1436760" cy="14605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7200000">
              <a:off x="5588280" y="2972160"/>
              <a:ext cx="1436400" cy="14605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gradFill rotWithShape="0">
              <a:gsLst>
                <a:gs pos="0">
                  <a:srgbClr val="123b68"/>
                </a:gs>
                <a:gs pos="100000">
                  <a:srgbClr val="2881e2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1800000">
              <a:off x="5668920" y="3970080"/>
              <a:ext cx="1231920" cy="782640"/>
            </a:xfrm>
            <a:prstGeom prst="triangle">
              <a:avLst>
                <a:gd name="adj" fmla="val 50000"/>
              </a:avLst>
            </a:prstGeom>
            <a:solidFill>
              <a:srgbClr val="a1c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4045320" y="3963240"/>
              <a:ext cx="2514240" cy="1975680"/>
              <a:chOff x="4045320" y="3963240"/>
              <a:chExt cx="2514240" cy="1975680"/>
            </a:xfrm>
          </p:grpSpPr>
          <p:sp>
            <p:nvSpPr>
              <p:cNvPr id="572" name=""/>
              <p:cNvSpPr/>
              <p:nvPr/>
            </p:nvSpPr>
            <p:spPr>
              <a:xfrm rot="12600000">
                <a:off x="4840920" y="4230360"/>
                <a:ext cx="1455840" cy="1440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a1c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14400000">
                <a:off x="4317840" y="4222080"/>
                <a:ext cx="1436760" cy="145944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591f"/>
                  </a:gs>
                  <a:gs pos="100000">
                    <a:srgbClr val="a1c244"/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 rot="9000000">
              <a:off x="3809520" y="4230000"/>
              <a:ext cx="1231920" cy="700200"/>
            </a:xfrm>
            <a:prstGeom prst="triangle">
              <a:avLst>
                <a:gd name="adj" fmla="val 50000"/>
              </a:avLst>
            </a:prstGeom>
            <a:solidFill>
              <a:srgbClr val="ea4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3318480" y="2524320"/>
              <a:ext cx="1984680" cy="2165760"/>
              <a:chOff x="3318480" y="2524320"/>
              <a:chExt cx="1984680" cy="2165760"/>
            </a:xfrm>
          </p:grpSpPr>
          <p:sp>
            <p:nvSpPr>
              <p:cNvPr id="576" name=""/>
              <p:cNvSpPr/>
              <p:nvPr/>
            </p:nvSpPr>
            <p:spPr>
              <a:xfrm rot="19800000">
                <a:off x="3580920" y="2981160"/>
                <a:ext cx="145620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ea4a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847320" y="2524320"/>
                <a:ext cx="145584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2220"/>
                  </a:gs>
                  <a:gs pos="100000">
                    <a:srgbClr val="ea4a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 rot="16200000">
              <a:off x="4522320" y="2496960"/>
              <a:ext cx="1216080" cy="793800"/>
            </a:xfrm>
            <a:prstGeom prst="triangle">
              <a:avLst>
                <a:gd name="adj" fmla="val 50000"/>
              </a:avLst>
            </a:pr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6553080" y="2362320"/>
            <a:ext cx="2057400" cy="498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23b68"/>
              </a:gs>
              <a:gs pos="100000">
                <a:srgbClr val="2881e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43400" y="5715000"/>
            <a:ext cx="20574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a591f"/>
              </a:gs>
              <a:gs pos="100000">
                <a:srgbClr val="a1c244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905120" y="2286000"/>
            <a:ext cx="20574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b2220"/>
              </a:gs>
              <a:gs pos="100000">
                <a:srgbClr val="ea4a46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274120" y="2106360"/>
            <a:ext cx="5193000" cy="685440"/>
            <a:chOff x="2274120" y="2106360"/>
            <a:chExt cx="5193000" cy="685440"/>
          </a:xfrm>
        </p:grpSpPr>
        <p:sp>
          <p:nvSpPr>
            <p:cNvPr id="98" name=""/>
            <p:cNvSpPr/>
            <p:nvPr/>
          </p:nvSpPr>
          <p:spPr>
            <a:xfrm>
              <a:off x="2666880" y="276516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3418800">
              <a:off x="2382840" y="218844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23b68"/>
                </a:gs>
              </a:gsLst>
              <a:lin ang="1980000"/>
            </a:gradFill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12760" y="22762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40080" y="223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273760" y="2868840"/>
            <a:ext cx="5193360" cy="690480"/>
            <a:chOff x="2273760" y="2868840"/>
            <a:chExt cx="5193360" cy="690480"/>
          </a:xfrm>
        </p:grpSpPr>
        <p:sp>
          <p:nvSpPr>
            <p:cNvPr id="103" name=""/>
            <p:cNvSpPr/>
            <p:nvPr/>
          </p:nvSpPr>
          <p:spPr>
            <a:xfrm>
              <a:off x="2666880" y="355932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3418800">
              <a:off x="2382480" y="2951280"/>
              <a:ext cx="479520" cy="520560"/>
            </a:xfrm>
            <a:prstGeom prst="rect">
              <a:avLst/>
            </a:prstGeom>
            <a:solidFill>
              <a:srgbClr val="ea4a46"/>
            </a:solidFill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12760" y="3038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40080" y="299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274120" y="3652560"/>
            <a:ext cx="5193000" cy="685440"/>
            <a:chOff x="2274120" y="3652560"/>
            <a:chExt cx="5193000" cy="685440"/>
          </a:xfrm>
        </p:grpSpPr>
        <p:sp>
          <p:nvSpPr>
            <p:cNvPr id="108" name=""/>
            <p:cNvSpPr/>
            <p:nvPr/>
          </p:nvSpPr>
          <p:spPr>
            <a:xfrm>
              <a:off x="2666880" y="431136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3418800">
              <a:off x="2382840" y="373464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23b68"/>
                </a:gs>
              </a:gsLst>
              <a:lin ang="1980000"/>
            </a:gradFill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2760" y="38224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40080" y="3777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274120" y="4491000"/>
            <a:ext cx="5193000" cy="690480"/>
            <a:chOff x="2274120" y="4491000"/>
            <a:chExt cx="5193000" cy="690480"/>
          </a:xfrm>
        </p:grpSpPr>
        <p:sp>
          <p:nvSpPr>
            <p:cNvPr id="113" name=""/>
            <p:cNvSpPr/>
            <p:nvPr/>
          </p:nvSpPr>
          <p:spPr>
            <a:xfrm>
              <a:off x="2666880" y="518148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3418800">
              <a:off x="2382840" y="4573080"/>
              <a:ext cx="479160" cy="520560"/>
            </a:xfrm>
            <a:prstGeom prst="rect">
              <a:avLst/>
            </a:prstGeom>
            <a:solidFill>
              <a:srgbClr val="ea4a46"/>
            </a:solidFill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12760" y="4660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40080" y="4616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2489040" y="5866920"/>
            <a:ext cx="4267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2362320" y="4952880"/>
            <a:ext cx="4647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3f85"/>
                    </a:gs>
                    <a:gs pos="100000">
                      <a:srgbClr val="542eaa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3f85"/>
                  </a:gs>
                  <a:gs pos="100000">
                    <a:srgbClr val="542eaa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52120" y="1828800"/>
            <a:ext cx="67993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View]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Master],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Slide Master]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Notes Master]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3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3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4788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22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08b88"/>
              </a:gs>
              <a:gs pos="100000">
                <a:srgbClr val="ea4a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48424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7bbe3"/>
              </a:gs>
              <a:gs pos="100000">
                <a:srgbClr val="542ea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657600" y="1628640"/>
            <a:ext cx="2998440" cy="1601640"/>
            <a:chOff x="3657600" y="1628640"/>
            <a:chExt cx="2998440" cy="1601640"/>
          </a:xfrm>
        </p:grpSpPr>
        <p:grpSp>
          <p:nvGrpSpPr>
            <p:cNvPr id="127" name=""/>
            <p:cNvGrpSpPr/>
            <p:nvPr/>
          </p:nvGrpSpPr>
          <p:grpSpPr>
            <a:xfrm>
              <a:off x="3657600" y="1771560"/>
              <a:ext cx="2998440" cy="1458720"/>
              <a:chOff x="3657600" y="1771560"/>
              <a:chExt cx="2998440" cy="1458720"/>
            </a:xfrm>
          </p:grpSpPr>
          <p:sp>
            <p:nvSpPr>
              <p:cNvPr id="128" name=""/>
              <p:cNvSpPr/>
              <p:nvPr/>
            </p:nvSpPr>
            <p:spPr>
              <a:xfrm>
                <a:off x="369036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281652"/>
                  </a:gs>
                  <a:gs pos="100000">
                    <a:srgbClr val="542ea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65760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542eaa"/>
                  </a:gs>
                  <a:gs pos="100000">
                    <a:srgbClr val="b2a1d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379908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23b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3400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b3d2f3"/>
                </a:gs>
                <a:gs pos="100000">
                  <a:srgbClr val="2881e2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6100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881e2">
                    <a:alpha val="48235"/>
                  </a:srgbClr>
                </a:gs>
                <a:gs pos="100000">
                  <a:srgbClr val="1f65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9276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2881e2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49244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36291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647000" y="1789200"/>
            <a:ext cx="7130520" cy="4537080"/>
            <a:chOff x="1647000" y="1789200"/>
            <a:chExt cx="7130520" cy="4537080"/>
          </a:xfrm>
        </p:grpSpPr>
        <p:sp>
          <p:nvSpPr>
            <p:cNvPr id="139" name=""/>
            <p:cNvSpPr/>
            <p:nvPr/>
          </p:nvSpPr>
          <p:spPr>
            <a:xfrm rot="20241600">
              <a:off x="2147760" y="2857320"/>
              <a:ext cx="6032520" cy="24001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3e3e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056200">
              <a:off x="5144760" y="272412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056200">
              <a:off x="7708680" y="295128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0056200">
              <a:off x="3711240" y="551484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056200">
              <a:off x="6200280" y="4962240"/>
              <a:ext cx="1055880" cy="3016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056200">
              <a:off x="2881080" y="408132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51480" y="2120760"/>
              <a:ext cx="1131840" cy="1090800"/>
            </a:xfrm>
            <a:prstGeom prst="ellipse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a17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40000" y="3425760"/>
              <a:ext cx="1128600" cy="1089000"/>
            </a:xfrm>
            <a:prstGeom prst="ellipse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64a8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16160" y="4876920"/>
              <a:ext cx="1128960" cy="1090440"/>
            </a:xfrm>
            <a:prstGeom prst="ellipse">
              <a:avLst/>
            </a:prstGeom>
            <a:gradFill rotWithShape="0">
              <a:gsLst>
                <a:gs pos="0">
                  <a:srgbClr val="ea4a46"/>
                </a:gs>
                <a:gs pos="100000">
                  <a:srgbClr val="7725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59480" y="4338720"/>
              <a:ext cx="1128600" cy="10904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68686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67600" y="2316240"/>
              <a:ext cx="1068480" cy="1092240"/>
            </a:xfrm>
            <a:prstGeom prst="ellipse">
              <a:avLst/>
            </a:prstGeom>
            <a:gradFill rotWithShape="0">
              <a:gsLst>
                <a:gs pos="0">
                  <a:srgbClr val="a1c244"/>
                </a:gs>
                <a:gs pos="100000">
                  <a:srgbClr val="4d5d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74360" y="3816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58480" y="2511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49400" y="2749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49200" y="47293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77520" y="5262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64120" y="3705120"/>
              <a:ext cx="22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f3f85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44760" y="2511360"/>
              <a:ext cx="1611360" cy="12384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cxnSp>
          <p:nvCxnSpPr>
            <p:cNvPr id="157" name=""/>
            <p:cNvCxnSpPr/>
            <p:nvPr/>
          </p:nvCxnSpPr>
          <p:spPr>
            <a:xfrm flipH="1">
              <a:off x="1647000" y="2511000"/>
              <a:ext cx="1708920" cy="1080"/>
            </a:xfrm>
            <a:prstGeom prst="straightConnector1">
              <a:avLst/>
            </a:prstGeom>
            <a:ln w="9360">
              <a:solidFill>
                <a:srgbClr val="0f3f85"/>
              </a:solidFill>
              <a:miter/>
            </a:ln>
          </p:spPr>
        </p:cxnSp>
      </p:grpSp>
      <p:sp>
        <p:nvSpPr>
          <p:cNvPr id="158" name=""/>
          <p:cNvSpPr/>
          <p:nvPr/>
        </p:nvSpPr>
        <p:spPr>
          <a:xfrm>
            <a:off x="1523880" y="212076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f85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752480" y="1981080"/>
            <a:ext cx="6476760" cy="4125960"/>
            <a:chOff x="1752480" y="1981080"/>
            <a:chExt cx="6476760" cy="4125960"/>
          </a:xfrm>
        </p:grpSpPr>
        <p:sp>
          <p:nvSpPr>
            <p:cNvPr id="162" name=""/>
            <p:cNvSpPr/>
            <p:nvPr/>
          </p:nvSpPr>
          <p:spPr>
            <a:xfrm>
              <a:off x="4216320" y="42868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91f"/>
                </a:gs>
                <a:gs pos="50000">
                  <a:srgbClr val="a1c244"/>
                </a:gs>
                <a:gs pos="100000">
                  <a:srgbClr val="4a59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16320" y="37800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91f"/>
                </a:gs>
                <a:gs pos="50000">
                  <a:srgbClr val="a1c244"/>
                </a:gs>
                <a:gs pos="100000">
                  <a:srgbClr val="4a59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16320" y="32731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91f"/>
                </a:gs>
                <a:gs pos="50000">
                  <a:srgbClr val="a1c244"/>
                </a:gs>
                <a:gs pos="100000">
                  <a:srgbClr val="4a59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91880" y="349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91880" y="399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91880" y="4505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82720" y="30560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52480" y="25495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2320" y="27666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39760" y="25495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10320" y="27666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909040" y="30560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12160" y="19810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b2220"/>
                </a:gs>
                <a:gs pos="50000">
                  <a:srgbClr val="ea4a46"/>
                </a:gs>
                <a:gs pos="100000">
                  <a:srgbClr val="6b222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85360" y="26942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69920" y="2192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82720" y="55173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23b68"/>
                </a:gs>
                <a:gs pos="50000">
                  <a:srgbClr val="2881e2"/>
                </a:gs>
                <a:gs pos="100000">
                  <a:srgbClr val="123b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69920" y="5738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65200" y="49381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676520" y="8524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752480" y="2286000"/>
            <a:ext cx="6705720" cy="3352320"/>
            <a:chOff x="1752480" y="2286000"/>
            <a:chExt cx="6705720" cy="3352320"/>
          </a:xfrm>
        </p:grpSpPr>
        <p:grpSp>
          <p:nvGrpSpPr>
            <p:cNvPr id="183" name=""/>
            <p:cNvGrpSpPr/>
            <p:nvPr/>
          </p:nvGrpSpPr>
          <p:grpSpPr>
            <a:xfrm>
              <a:off x="3618000" y="2286000"/>
              <a:ext cx="2900520" cy="2705040"/>
              <a:chOff x="3618000" y="2286000"/>
              <a:chExt cx="2900520" cy="2705040"/>
            </a:xfrm>
          </p:grpSpPr>
          <p:sp>
            <p:nvSpPr>
              <p:cNvPr id="184" name=""/>
              <p:cNvSpPr/>
              <p:nvPr/>
            </p:nvSpPr>
            <p:spPr>
              <a:xfrm flipH="1" rot="16200000">
                <a:off x="3536280" y="333576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rot="5400000">
                <a:off x="6140520" y="328536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rot="10800000">
                <a:off x="4847040" y="468540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915000" y="2286000"/>
                <a:ext cx="2325960" cy="23997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047840" y="2421360"/>
                <a:ext cx="2059200" cy="212472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168800" y="254736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42eaa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168800" y="254736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288320" y="267048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2d185b"/>
                  </a:gs>
                  <a:gs pos="50000">
                    <a:srgbClr val="542eaa"/>
                  </a:gs>
                  <a:gs pos="100000">
                    <a:srgbClr val="2d185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288320" y="267048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752480" y="37836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91f"/>
                </a:gs>
                <a:gs pos="50000">
                  <a:srgbClr val="a1c244"/>
                </a:gs>
                <a:gs pos="100000">
                  <a:srgbClr val="4a59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52480" y="328464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91f"/>
                </a:gs>
                <a:gs pos="50000">
                  <a:srgbClr val="a1c244"/>
                </a:gs>
                <a:gs pos="100000">
                  <a:srgbClr val="4a59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52480" y="2785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91f"/>
                </a:gs>
                <a:gs pos="50000">
                  <a:srgbClr val="a1c244"/>
                </a:gs>
                <a:gs pos="100000">
                  <a:srgbClr val="4a59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29840" y="37836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23b68"/>
                </a:gs>
                <a:gs pos="50000">
                  <a:srgbClr val="2881e2"/>
                </a:gs>
                <a:gs pos="100000">
                  <a:srgbClr val="123b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29840" y="328464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23b68"/>
                </a:gs>
                <a:gs pos="50000">
                  <a:srgbClr val="2881e2"/>
                </a:gs>
                <a:gs pos="100000">
                  <a:srgbClr val="123b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29840" y="2785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23b68"/>
                </a:gs>
                <a:gs pos="50000">
                  <a:srgbClr val="2881e2"/>
                </a:gs>
                <a:gs pos="100000">
                  <a:srgbClr val="123b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84800" y="328464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312000" y="513900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09320" y="293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09320" y="3431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09320" y="3930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06920" y="293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06920" y="3431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06920" y="3930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676520" y="2209680"/>
            <a:ext cx="7121520" cy="3581640"/>
            <a:chOff x="1676520" y="2209680"/>
            <a:chExt cx="7121520" cy="3581640"/>
          </a:xfrm>
        </p:grpSpPr>
        <p:sp>
          <p:nvSpPr>
            <p:cNvPr id="211" name=""/>
            <p:cNvSpPr/>
            <p:nvPr/>
          </p:nvSpPr>
          <p:spPr>
            <a:xfrm>
              <a:off x="8215200" y="2219400"/>
              <a:ext cx="576360" cy="9046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881e2"/>
                </a:gs>
                <a:gs pos="100000">
                  <a:srgbClr val="559be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54720" y="2219400"/>
              <a:ext cx="3343320" cy="5778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gradFill rotWithShape="0">
              <a:gsLst>
                <a:gs pos="0">
                  <a:srgbClr val="1f65b1"/>
                </a:gs>
                <a:gs pos="100000">
                  <a:srgbClr val="2881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35960" y="3108240"/>
              <a:ext cx="574560" cy="89856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ee7572"/>
                </a:gs>
                <a:gs pos="100000">
                  <a:srgbClr val="ea4a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24560" y="3108240"/>
              <a:ext cx="3593880" cy="57636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a23330"/>
                </a:gs>
                <a:gs pos="100000">
                  <a:srgbClr val="ea4a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54920" y="3995640"/>
              <a:ext cx="573120" cy="9050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a1c244"/>
                </a:gs>
                <a:gs pos="100000">
                  <a:srgbClr val="4a59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77120" y="4886280"/>
              <a:ext cx="577800" cy="905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6f50b7"/>
                </a:gs>
                <a:gs pos="100000">
                  <a:srgbClr val="542ea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73240" y="4890960"/>
              <a:ext cx="4081680" cy="5778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8c73c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1676520" y="5784840"/>
              <a:ext cx="118584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676520" y="4886280"/>
              <a:ext cx="2014560" cy="18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1676520" y="4000680"/>
              <a:ext cx="284472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1676520" y="3114720"/>
              <a:ext cx="367488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1676520" y="2216160"/>
              <a:ext cx="450360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55800" y="2209680"/>
              <a:ext cx="1440" cy="9320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55800" y="3141720"/>
              <a:ext cx="1440" cy="87156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55800" y="4013280"/>
              <a:ext cx="1440" cy="8730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55800" y="4886280"/>
              <a:ext cx="1440" cy="8730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65440" y="2384280"/>
              <a:ext cx="1836720" cy="29098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f3a6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60840" y="2797200"/>
              <a:ext cx="2767320" cy="325440"/>
            </a:xfrm>
            <a:prstGeom prst="rect">
              <a:avLst/>
            </a:prstGeom>
            <a:gradFill rotWithShape="0">
              <a:gsLst>
                <a:gs pos="0">
                  <a:srgbClr val="68a6e9"/>
                </a:gs>
                <a:gs pos="100000">
                  <a:srgbClr val="2881e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26000" y="3684600"/>
              <a:ext cx="3016080" cy="318960"/>
            </a:xfrm>
            <a:prstGeom prst="rect">
              <a:avLst/>
            </a:prstGeom>
            <a:gradFill rotWithShape="0">
              <a:gsLst>
                <a:gs pos="0">
                  <a:srgbClr val="ee7572"/>
                </a:gs>
                <a:gs pos="100000">
                  <a:srgbClr val="ea4a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00520" y="3995640"/>
              <a:ext cx="3833640" cy="58284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gradFill rotWithShape="0">
              <a:gsLst>
                <a:gs pos="0">
                  <a:srgbClr val="4a591f"/>
                </a:gs>
                <a:gs pos="100000">
                  <a:srgbClr val="a1c24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1960" y="4578480"/>
              <a:ext cx="3265560" cy="317520"/>
            </a:xfrm>
            <a:prstGeom prst="rect">
              <a:avLst/>
            </a:prstGeom>
            <a:gradFill rotWithShape="0">
              <a:gsLst>
                <a:gs pos="0">
                  <a:srgbClr val="a1c244"/>
                </a:gs>
                <a:gs pos="100000">
                  <a:srgbClr val="5769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71800" y="5470560"/>
              <a:ext cx="3513240" cy="317520"/>
            </a:xfrm>
            <a:prstGeom prst="rect">
              <a:avLst/>
            </a:prstGeom>
            <a:gradFill rotWithShape="0">
              <a:gsLst>
                <a:gs pos="0">
                  <a:srgbClr val="ab98d4"/>
                </a:gs>
                <a:gs pos="100000">
                  <a:srgbClr val="542ea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93240" y="2286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93240" y="3276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93240" y="4114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93240" y="502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34960" y="1676520"/>
            <a:ext cx="5270760" cy="4343400"/>
          </a:xfrm>
          <a:prstGeom prst="rightArrow">
            <a:avLst>
              <a:gd name="adj1" fmla="val 79306"/>
              <a:gd name="adj2" fmla="val 30057"/>
            </a:avLst>
          </a:prstGeom>
          <a:gradFill rotWithShape="0">
            <a:gsLst>
              <a:gs pos="0">
                <a:srgbClr val="0f3f85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3880" y="2362320"/>
            <a:ext cx="3886200" cy="838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881e2"/>
              </a:gs>
              <a:gs pos="100000">
                <a:srgbClr val="68a6e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3429000"/>
            <a:ext cx="3886200" cy="838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23880" y="4495680"/>
            <a:ext cx="3886200" cy="8384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42eaa"/>
              </a:gs>
              <a:gs pos="100000">
                <a:srgbClr val="876cc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2448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f85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f85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Sung Ha, Park</dc:creator>
  <dc:description/>
  <dc:language>en-US</dc:language>
  <cp:lastModifiedBy>Sung Ha, Park</cp:lastModifiedBy>
  <dcterms:modified xsi:type="dcterms:W3CDTF">2004-11-23T07:55:44Z</dcterms:modified>
  <cp:revision>35</cp:revision>
  <dc:subject/>
  <dc:title>Slide 1</dc:title>
</cp:coreProperties>
</file>