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laser.wav" ContentType="audio/x-wav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090-F345-426C-B271-C10156F8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ED5-EB9C-4CDE-87C7-C5BF586C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D7E-A7EF-4B2C-9F68-EA1CF9E4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5AA-3708-443C-B8FF-3B700A61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7D3FF-412F-4F9E-9F51-9552DC08A4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CC2A8-E23F-488F-A2B0-3F01B9E1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E74AC-84B6-4380-ACC2-CD55F6F9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C1FCF-CE7C-4153-9C60-31FDFF06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66F19-9B0D-44E8-B84C-008A7610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A4090-7D23-49D1-BAD8-68844E81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81714-34A1-4CCE-A921-F041F5C8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698-0F94-4DBB-94CF-B9B8BC66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B3E22-D96C-459F-A5D2-A7D9C788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1F78C-0EB6-4D3F-9F5D-675ED3E9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FAAAA-3840-41D0-89FC-9DABA755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04919-9C97-408E-B06D-F65AF1F7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66333-A0D1-4069-A7CC-4E930851D6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DEF-B5A7-44E8-BEDA-7BDC63B4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29FF3-CE3F-4042-8214-207F518B20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5CBAB-7500-4254-BAA7-085D3E9E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DF8DF-F72E-489B-86E1-0EFE2629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E3B-CE87-4F00-A957-6A768DAA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C16272-57D5-4100-A1A0-CCCFBF11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4881C-72C0-43AB-AD5E-1555AE94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270A7B-97C9-4968-B556-A0685275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5976EB-9F35-4BD3-BB7B-BE317600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D5DAE-822C-4389-A507-139FF527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C04FD-EDCC-4A24-B482-98EFC083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A0408-3979-47A0-B2DF-239E52EE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23B717-A107-4548-BE0E-EC56F4D3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0F537-34E2-4146-8ECD-D4697A78A1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808-D2FD-4AE4-8D55-0C6414CD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41F-1614-42A1-BFC2-66A61DF9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73B-A858-403E-9362-664B7A0D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D4A-5B3F-4D12-9A30-899F2CDA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14A-FCFF-460D-96AE-FE6655D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A5ACEE8-04D6-4DDF-8B84-DE4DE7AE77A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98805BD-7234-4511-9771-E550E5A7EB9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1" descr=""/>
          <p:cNvPicPr/>
          <p:nvPr/>
        </p:nvPicPr>
        <p:blipFill>
          <a:blip r:embed="rId2"/>
          <a:srcRect l="0" t="7354" r="18733" b="0"/>
          <a:stretch/>
        </p:blipFill>
        <p:spPr>
          <a:xfrm>
            <a:off x="8035920" y="112680"/>
            <a:ext cx="4156200" cy="6210360"/>
          </a:xfrm>
          <a:prstGeom prst="rect">
            <a:avLst/>
          </a:prstGeom>
          <a:ln w="0">
            <a:noFill/>
          </a:ln>
        </p:spPr>
      </p:pic>
      <p:grpSp>
        <p:nvGrpSpPr>
          <p:cNvPr id="42" name="Grupo 8"/>
          <p:cNvGrpSpPr/>
          <p:nvPr/>
        </p:nvGrpSpPr>
        <p:grpSpPr>
          <a:xfrm>
            <a:off x="0" y="5425920"/>
            <a:ext cx="12192120" cy="1470240"/>
            <a:chOff x="0" y="5425920"/>
            <a:chExt cx="12192120" cy="1470240"/>
          </a:xfrm>
        </p:grpSpPr>
        <p:sp>
          <p:nvSpPr>
            <p:cNvPr id="43" name="Entrada manual 6"/>
            <p:cNvSpPr/>
            <p:nvPr/>
          </p:nvSpPr>
          <p:spPr>
            <a:xfrm flipH="1">
              <a:off x="0" y="5425920"/>
              <a:ext cx="3403440" cy="1470240"/>
            </a:xfrm>
            <a:prstGeom prst="flowChartManualInpu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Entrada manual 7"/>
            <p:cNvSpPr/>
            <p:nvPr/>
          </p:nvSpPr>
          <p:spPr>
            <a:xfrm>
              <a:off x="3403440" y="5425920"/>
              <a:ext cx="8788680" cy="1470240"/>
            </a:xfrm>
            <a:prstGeom prst="flowChartManualInpu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Grupo 9"/>
          <p:cNvGrpSpPr/>
          <p:nvPr/>
        </p:nvGrpSpPr>
        <p:grpSpPr>
          <a:xfrm>
            <a:off x="0" y="0"/>
            <a:ext cx="12191760" cy="225360"/>
            <a:chOff x="0" y="0"/>
            <a:chExt cx="12191760" cy="225360"/>
          </a:xfrm>
        </p:grpSpPr>
        <p:sp>
          <p:nvSpPr>
            <p:cNvPr id="46" name="Entrada manual 10"/>
            <p:cNvSpPr/>
            <p:nvPr/>
          </p:nvSpPr>
          <p:spPr>
            <a:xfrm flipV="1">
              <a:off x="0" y="0"/>
              <a:ext cx="3403440" cy="225360"/>
            </a:xfrm>
            <a:prstGeom prst="flowChartManualInpu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Entrada manual 11"/>
            <p:cNvSpPr/>
            <p:nvPr/>
          </p:nvSpPr>
          <p:spPr>
            <a:xfrm rot="10800000">
              <a:off x="3403080" y="0"/>
              <a:ext cx="8788680" cy="225360"/>
            </a:xfrm>
            <a:prstGeom prst="flowChartManualInpu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Imagen 18" descr=""/>
          <p:cNvPicPr/>
          <p:nvPr/>
        </p:nvPicPr>
        <p:blipFill>
          <a:blip r:embed="rId3"/>
          <a:stretch/>
        </p:blipFill>
        <p:spPr>
          <a:xfrm>
            <a:off x="600120" y="512640"/>
            <a:ext cx="2205000" cy="2432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98520" y="61768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1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D3FB700-DE55-4C18-B1AF-5ABACA5C8CCB}" type="datetime">
              <a:rPr b="1" lang="es-ES" sz="12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5011560" y="6178680"/>
            <a:ext cx="636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1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8" descr=""/>
          <p:cNvPicPr/>
          <p:nvPr/>
        </p:nvPicPr>
        <p:blipFill>
          <a:blip r:embed="rId2"/>
          <a:srcRect l="0" t="7354" r="18733" b="0"/>
          <a:stretch/>
        </p:blipFill>
        <p:spPr>
          <a:xfrm>
            <a:off x="7659720" y="112680"/>
            <a:ext cx="4532400" cy="6773760"/>
          </a:xfrm>
          <a:prstGeom prst="rect">
            <a:avLst/>
          </a:prstGeom>
          <a:ln w="0">
            <a:noFill/>
          </a:ln>
        </p:spPr>
      </p:pic>
      <p:grpSp>
        <p:nvGrpSpPr>
          <p:cNvPr id="90" name="Grupo 2"/>
          <p:cNvGrpSpPr/>
          <p:nvPr/>
        </p:nvGrpSpPr>
        <p:grpSpPr>
          <a:xfrm>
            <a:off x="0" y="-3600"/>
            <a:ext cx="12192120" cy="229320"/>
            <a:chOff x="0" y="-3600"/>
            <a:chExt cx="12192120" cy="229320"/>
          </a:xfrm>
        </p:grpSpPr>
        <p:sp>
          <p:nvSpPr>
            <p:cNvPr id="91" name="Rectángulo 3"/>
            <p:cNvSpPr/>
            <p:nvPr/>
          </p:nvSpPr>
          <p:spPr>
            <a:xfrm flipV="1">
              <a:off x="0" y="-3960"/>
              <a:ext cx="6046920" cy="228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ángulo 4"/>
            <p:cNvSpPr/>
            <p:nvPr/>
          </p:nvSpPr>
          <p:spPr>
            <a:xfrm rot="10800000">
              <a:off x="6046920" y="0"/>
              <a:ext cx="6145200" cy="225720"/>
            </a:xfrm>
            <a:prstGeom prst="rec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upo 10"/>
          <p:cNvGrpSpPr/>
          <p:nvPr/>
        </p:nvGrpSpPr>
        <p:grpSpPr>
          <a:xfrm>
            <a:off x="0" y="6645240"/>
            <a:ext cx="12192120" cy="223920"/>
            <a:chOff x="0" y="6645240"/>
            <a:chExt cx="12192120" cy="223920"/>
          </a:xfrm>
        </p:grpSpPr>
        <p:sp>
          <p:nvSpPr>
            <p:cNvPr id="94" name="Rectángulo 11"/>
            <p:cNvSpPr/>
            <p:nvPr/>
          </p:nvSpPr>
          <p:spPr>
            <a:xfrm flipV="1">
              <a:off x="0" y="6645240"/>
              <a:ext cx="604692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ángulo 12"/>
            <p:cNvSpPr/>
            <p:nvPr/>
          </p:nvSpPr>
          <p:spPr>
            <a:xfrm rot="10800000">
              <a:off x="6046920" y="6645240"/>
              <a:ext cx="6145200" cy="223920"/>
            </a:xfrm>
            <a:prstGeom prst="rec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n 1" descr=""/>
          <p:cNvPicPr/>
          <p:nvPr/>
        </p:nvPicPr>
        <p:blipFill>
          <a:blip r:embed="rId2"/>
          <a:srcRect l="0" t="7354" r="18733" b="0"/>
          <a:stretch/>
        </p:blipFill>
        <p:spPr>
          <a:xfrm>
            <a:off x="8035920" y="112680"/>
            <a:ext cx="4156200" cy="62103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upo 8"/>
          <p:cNvGrpSpPr/>
          <p:nvPr/>
        </p:nvGrpSpPr>
        <p:grpSpPr>
          <a:xfrm>
            <a:off x="0" y="5425920"/>
            <a:ext cx="12192120" cy="1470240"/>
            <a:chOff x="0" y="5425920"/>
            <a:chExt cx="12192120" cy="1470240"/>
          </a:xfrm>
        </p:grpSpPr>
        <p:sp>
          <p:nvSpPr>
            <p:cNvPr id="136" name="Entrada manual 6"/>
            <p:cNvSpPr/>
            <p:nvPr/>
          </p:nvSpPr>
          <p:spPr>
            <a:xfrm flipH="1">
              <a:off x="0" y="5425920"/>
              <a:ext cx="3403440" cy="1470240"/>
            </a:xfrm>
            <a:prstGeom prst="flowChartManualInpu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Entrada manual 7"/>
            <p:cNvSpPr/>
            <p:nvPr/>
          </p:nvSpPr>
          <p:spPr>
            <a:xfrm>
              <a:off x="3403440" y="5425920"/>
              <a:ext cx="8788680" cy="1470240"/>
            </a:xfrm>
            <a:prstGeom prst="flowChartManualInpu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upo 9"/>
          <p:cNvGrpSpPr/>
          <p:nvPr/>
        </p:nvGrpSpPr>
        <p:grpSpPr>
          <a:xfrm>
            <a:off x="0" y="0"/>
            <a:ext cx="12191760" cy="225360"/>
            <a:chOff x="0" y="0"/>
            <a:chExt cx="12191760" cy="225360"/>
          </a:xfrm>
        </p:grpSpPr>
        <p:sp>
          <p:nvSpPr>
            <p:cNvPr id="139" name="Entrada manual 10"/>
            <p:cNvSpPr/>
            <p:nvPr/>
          </p:nvSpPr>
          <p:spPr>
            <a:xfrm flipV="1">
              <a:off x="0" y="0"/>
              <a:ext cx="3403440" cy="225360"/>
            </a:xfrm>
            <a:prstGeom prst="flowChartManualInpu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Entrada manual 11"/>
            <p:cNvSpPr/>
            <p:nvPr/>
          </p:nvSpPr>
          <p:spPr>
            <a:xfrm rot="10800000">
              <a:off x="3403080" y="0"/>
              <a:ext cx="8788680" cy="225360"/>
            </a:xfrm>
            <a:prstGeom prst="flowChartManualInpu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Imagen 18" descr=""/>
          <p:cNvPicPr/>
          <p:nvPr/>
        </p:nvPicPr>
        <p:blipFill>
          <a:blip r:embed="rId3"/>
          <a:stretch/>
        </p:blipFill>
        <p:spPr>
          <a:xfrm>
            <a:off x="600120" y="512640"/>
            <a:ext cx="2205000" cy="2432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6"/>
          </p:nvPr>
        </p:nvSpPr>
        <p:spPr>
          <a:xfrm>
            <a:off x="398520" y="61768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1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MES/A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7"/>
          </p:nvPr>
        </p:nvSpPr>
        <p:spPr>
          <a:xfrm>
            <a:off x="5011560" y="6178680"/>
            <a:ext cx="636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1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uadroTexto 1"/>
          <p:cNvSpPr/>
          <p:nvPr/>
        </p:nvSpPr>
        <p:spPr>
          <a:xfrm>
            <a:off x="3405240" y="1849320"/>
            <a:ext cx="75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Bell MT"/>
              </a:rPr>
              <a:t>UNIVERSIDAD DE MATANZ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uadroTexto 6"/>
          <p:cNvSpPr/>
          <p:nvPr/>
        </p:nvSpPr>
        <p:spPr>
          <a:xfrm>
            <a:off x="1717560" y="3387600"/>
            <a:ext cx="8317080" cy="14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MX" sz="2400" spc="-1" strike="noStrike">
                <a:solidFill>
                  <a:srgbClr val="376092"/>
                </a:solidFill>
                <a:latin typeface="Verdana"/>
                <a:ea typeface="Calibri"/>
              </a:rPr>
              <a:t>METODOLOGÍA DE LA INVESTIGACIÓN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1 Rectángulo"/>
          <p:cNvSpPr/>
          <p:nvPr/>
        </p:nvSpPr>
        <p:spPr>
          <a:xfrm>
            <a:off x="2846520" y="3021120"/>
            <a:ext cx="55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70c0"/>
                </a:solidFill>
                <a:latin typeface="Bell MT"/>
              </a:rPr>
              <a:t>COSECHANDO EL SA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図プレースホルダー 27" descr=""/>
          <p:cNvPicPr/>
          <p:nvPr/>
        </p:nvPicPr>
        <p:blipFill>
          <a:blip r:embed="rId1">
            <a:lum bright="70000" contrast="-70000"/>
          </a:blip>
          <a:srcRect l="0" t="55" r="0" b="55"/>
          <a:stretch/>
        </p:blipFill>
        <p:spPr>
          <a:xfrm>
            <a:off x="2403360" y="6016680"/>
            <a:ext cx="658800" cy="657000"/>
          </a:xfrm>
          <a:prstGeom prst="rect">
            <a:avLst/>
          </a:prstGeom>
          <a:ln w="0">
            <a:noFill/>
          </a:ln>
        </p:spPr>
      </p:pic>
      <p:sp>
        <p:nvSpPr>
          <p:cNvPr id="232" name="1 Rectángulo"/>
          <p:cNvSpPr/>
          <p:nvPr/>
        </p:nvSpPr>
        <p:spPr>
          <a:xfrm>
            <a:off x="3662280" y="5904000"/>
            <a:ext cx="7027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Bell MT"/>
              </a:rPr>
              <a:t>Prof. Luis Pérez Oroz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Bell MT"/>
              </a:rPr>
              <a:t>luisperezorozco@yandex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190760" y="2437920"/>
            <a:ext cx="800100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ntes de concretarse el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Calibri"/>
              </a:rPr>
              <a:t>problema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se desarrollan las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Calibri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xisten una gran variedad de fuentes que puede generar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Calibri"/>
              </a:rPr>
              <a:t>ideas de investiga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xperiencias individu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onvers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Debates cientí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ibros, revistas, periodicos, t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Teorías exist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roducto de investig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267080" y="7621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Calibri Light"/>
              </a:rPr>
              <a:t>Profundizando en la Primera Etapa</a:t>
            </a:r>
            <a:br>
              <a:rPr sz="4000"/>
            </a:br>
            <a:r>
              <a:rPr b="0" lang="de-DE" sz="2500" spc="-1" strike="noStrike">
                <a:solidFill>
                  <a:srgbClr val="000000"/>
                </a:solidFill>
                <a:latin typeface="Calibri Light"/>
              </a:rPr>
              <a:t>El diseño Teórico</a:t>
            </a:r>
            <a:r>
              <a:rPr b="0" lang="de-DE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4000"/>
            </a:br>
            <a:r>
              <a:rPr b="0" lang="de-DE" sz="2500" spc="-1" strike="noStrike">
                <a:solidFill>
                  <a:srgbClr val="ff0000"/>
                </a:solidFill>
                <a:latin typeface="Calibri Light"/>
              </a:rPr>
              <a:t>Selección de las Ideas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0" y="6242040"/>
            <a:ext cx="587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8DD2-D419-40F8-9943-6D54173AF6FA}" type="slidenum">
              <a:rPr b="0" lang="es-ES" sz="3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1631880" y="1486080"/>
            <a:ext cx="185436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-360" y="2437920"/>
            <a:ext cx="65530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a mayoría de las ideas son al principio vagas y requieren analizarse cuidadosamente para que sean transformadas en planteamientos más precisos y estructur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e recomienda que una ve que se tenga una idea, se consulte a colegas, libros, artículos científicos hasta lograr realizar una adecuada definición de la mis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267080" y="7621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Calibri Light"/>
              </a:rPr>
              <a:t>Profundizando en la Primera Etapa</a:t>
            </a:r>
            <a:br>
              <a:rPr sz="4000"/>
            </a:br>
            <a:r>
              <a:rPr b="0" lang="de-DE" sz="2500" spc="-1" strike="noStrike">
                <a:solidFill>
                  <a:srgbClr val="000000"/>
                </a:solidFill>
                <a:latin typeface="Calibri Light"/>
              </a:rPr>
              <a:t>El diseño Teórico</a:t>
            </a:r>
            <a:r>
              <a:rPr b="0" lang="de-DE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4000"/>
            </a:br>
            <a:r>
              <a:rPr b="0" lang="de-DE" sz="2500" spc="-1" strike="noStrike">
                <a:solidFill>
                  <a:srgbClr val="ff0000"/>
                </a:solidFill>
                <a:latin typeface="Calibri Light"/>
              </a:rPr>
              <a:t>Profundizar en la Idea de Investigación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0" y="6242040"/>
            <a:ext cx="587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ABE8-5FB2-4B7E-BF26-306FC4D71158}" type="slidenum">
              <a:rPr b="0" lang="es-ES" sz="3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1026" descr=""/>
          <p:cNvPicPr/>
          <p:nvPr/>
        </p:nvPicPr>
        <p:blipFill>
          <a:blip r:embed="rId1"/>
          <a:stretch/>
        </p:blipFill>
        <p:spPr>
          <a:xfrm>
            <a:off x="10337760" y="731880"/>
            <a:ext cx="1854360" cy="1905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29" descr="PE01561_"/>
          <p:cNvPicPr/>
          <p:nvPr/>
        </p:nvPicPr>
        <p:blipFill>
          <a:blip r:embed="rId2"/>
          <a:stretch/>
        </p:blipFill>
        <p:spPr>
          <a:xfrm>
            <a:off x="8512200" y="2971800"/>
            <a:ext cx="2155680" cy="236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190760" y="2437920"/>
            <a:ext cx="800100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ecesario conocer los antecedentes, es decir, investigaciones y trabajos anteriores, pa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No investigar alguna cuestión que ya ha sido estudiada... “no inventar el agua frí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structurar más formalmente la id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leccionar la perspectiva principal sobre la cual se abordará la id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267080" y="7621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Calibri Light"/>
              </a:rPr>
              <a:t>Profundizando en la Primera Etapa</a:t>
            </a:r>
            <a:br>
              <a:rPr sz="4000"/>
            </a:br>
            <a:r>
              <a:rPr b="0" lang="de-DE" sz="2500" spc="-1" strike="noStrike">
                <a:solidFill>
                  <a:srgbClr val="000000"/>
                </a:solidFill>
                <a:latin typeface="Calibri Light"/>
              </a:rPr>
              <a:t>El diseño Teórico</a:t>
            </a:r>
            <a:r>
              <a:rPr b="0" lang="de-DE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4000"/>
            </a:br>
            <a:r>
              <a:rPr b="0" lang="de-DE" sz="2500" spc="-1" strike="noStrike">
                <a:solidFill>
                  <a:srgbClr val="ff0000"/>
                </a:solidFill>
                <a:latin typeface="Calibri Light"/>
              </a:rPr>
              <a:t>Profundizar en la Idea de Investigación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5 Marcador de número de diapositiva"/>
          <p:cNvSpPr/>
          <p:nvPr/>
        </p:nvSpPr>
        <p:spPr>
          <a:xfrm>
            <a:off x="0" y="6242040"/>
            <a:ext cx="587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4FD1-FA51-4F81-88E3-FD28BB95FD56}" type="slidenum">
              <a:rPr b="0" lang="es-ES" sz="3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93760" y="2997360"/>
            <a:ext cx="185400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9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 Light"/>
              </a:rPr>
              <a:t>PARA JUSTIFICAR LA IDEA DEBE TENERSE RESPUESTAS PARA LAS SIGUIENTES PREGUNTAS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9892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Calibri"/>
                <a:ea typeface="Times New Roman"/>
              </a:rPr>
              <a:t>¿ </a:t>
            </a:r>
            <a:r>
              <a:rPr b="0" lang="es-ES_tradnl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A quién o quiénes le interesa la idea escogida?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¿Qué grado de conocimiento tiene usted del tema a que pertenece la idea escogid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¿Puede constituirse o ya es un problema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¿Está bien delimitado el problema a resolv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¿Tiene importancia y actualid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5 Marcador de número de diapositiva"/>
          <p:cNvSpPr/>
          <p:nvPr/>
        </p:nvSpPr>
        <p:spPr>
          <a:xfrm>
            <a:off x="0" y="6242040"/>
            <a:ext cx="587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28E2-F65C-4109-8749-CB213273CE8F}" type="slidenum">
              <a:rPr b="0" lang="es-ES" sz="3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271520" y="3141720"/>
          <a:ext cx="12193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3141720"/>
                    <a:ext cx="12193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49892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¿</a:t>
            </a:r>
            <a:r>
              <a:rPr b="0" lang="es-ES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Q</a:t>
            </a:r>
            <a:r>
              <a:rPr b="0" lang="de-DE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ué beneficios sociales, técnico económicos, ambientales, etc, pudieran obtenerse al final?</a:t>
            </a:r>
            <a:r>
              <a:rPr b="0" lang="es-MX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¿Existen las condiciones humanas, económicas y materiales para la ejecución de la misma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¿Conoce de investigaciones similares realizadas anteriormente en el país o en el mun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¿Qué hacen sobre el tema en otras partes?</a:t>
            </a:r>
            <a:r>
              <a:rPr b="0" lang="es-ES" sz="2800" spc="-1" strike="noStrike">
                <a:solidFill>
                  <a:srgbClr val="a50021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2670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 Light"/>
              </a:rPr>
              <a:t>PARA JUSTIFICAR LA IDEA DEBE TENERSE RESPUESTAS PARA LAS SIGUIENTES PREGUNTAS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5 Marcador de número de diapositiva"/>
          <p:cNvSpPr/>
          <p:nvPr/>
        </p:nvSpPr>
        <p:spPr>
          <a:xfrm>
            <a:off x="0" y="6242040"/>
            <a:ext cx="587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1785-8A80-448B-AE45-7864F17FE25A}" type="slidenum">
              <a:rPr b="0" lang="es-ES" sz="3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2279520" y="1700280"/>
          <a:ext cx="121932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9520" y="1700280"/>
                    <a:ext cx="12193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-360" y="251424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alibri"/>
              </a:rPr>
              <a:t>Las buenas ideas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Nos Intrigan, alientan y exci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No son necesariamente nuevas pero sí novedo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ueden servir para elaborar teorías y para la solución de proble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yudan a resolver proble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Analicemos ahora algunas de sus ideas de problema de investigación y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 BUSQUEMOS ENTRE TODOS IDEAS BRILLANT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267080" y="9410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Calibri Light"/>
              </a:rPr>
              <a:t>Profundizando en la Primera Etapa</a:t>
            </a:r>
            <a:br>
              <a:rPr sz="4000"/>
            </a:br>
            <a:r>
              <a:rPr b="0" lang="de-DE" sz="2500" spc="-1" strike="noStrike">
                <a:solidFill>
                  <a:srgbClr val="000000"/>
                </a:solidFill>
                <a:latin typeface="Calibri Light"/>
              </a:rPr>
              <a:t>El diseño Teórico</a:t>
            </a:r>
            <a:r>
              <a:rPr b="0" lang="de-DE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4000"/>
            </a:br>
            <a:r>
              <a:rPr b="0" lang="de-DE" sz="2500" spc="-1" strike="noStrike">
                <a:solidFill>
                  <a:srgbClr val="ff0000"/>
                </a:solidFill>
                <a:latin typeface="Calibri Light"/>
              </a:rPr>
              <a:t>Como generar buenas Ideas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6 Marcador de número de diapositiva"/>
          <p:cNvSpPr/>
          <p:nvPr/>
        </p:nvSpPr>
        <p:spPr>
          <a:xfrm>
            <a:off x="0" y="6242040"/>
            <a:ext cx="587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A93D-3BA8-468F-B148-4B0FA20456CB}" type="slidenum">
              <a:rPr b="0" lang="es-ES" sz="3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9983880" y="4076640"/>
            <a:ext cx="1854000" cy="1905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8991720" y="2209680"/>
            <a:ext cx="1676160" cy="1551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040" y="5335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 Light"/>
              </a:rPr>
              <a:t>¿QUÉ IDEA USTED TIENE PARA SU INVESTIGACIÓN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6 Marcador de número de diapositiva"/>
          <p:cNvSpPr/>
          <p:nvPr/>
        </p:nvSpPr>
        <p:spPr>
          <a:xfrm>
            <a:off x="0" y="6242040"/>
            <a:ext cx="587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5DE5-E794-4815-9143-FAA9D2FE558D}" type="slidenum">
              <a:rPr b="0" lang="es-ES" sz="3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3886200" y="3276720"/>
          <a:ext cx="4114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76720"/>
                    <a:ext cx="4114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Group 12"/>
          <p:cNvGrpSpPr/>
          <p:nvPr/>
        </p:nvGrpSpPr>
        <p:grpSpPr>
          <a:xfrm>
            <a:off x="1905120" y="1447920"/>
            <a:ext cx="8498880" cy="4417920"/>
            <a:chOff x="1905120" y="1447920"/>
            <a:chExt cx="8498880" cy="4417920"/>
          </a:xfrm>
        </p:grpSpPr>
        <p:pic>
          <p:nvPicPr>
            <p:cNvPr id="217" name="Picture 4" descr="j0167906"/>
            <p:cNvPicPr/>
            <p:nvPr/>
          </p:nvPicPr>
          <p:blipFill>
            <a:blip r:embed="rId3"/>
            <a:stretch/>
          </p:blipFill>
          <p:spPr>
            <a:xfrm>
              <a:off x="7391160" y="2743200"/>
              <a:ext cx="1717560" cy="18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j0167906"/>
            <p:cNvPicPr/>
            <p:nvPr/>
          </p:nvPicPr>
          <p:blipFill>
            <a:blip r:embed="rId4"/>
            <a:stretch/>
          </p:blipFill>
          <p:spPr>
            <a:xfrm>
              <a:off x="4800600" y="1523880"/>
              <a:ext cx="1717200" cy="18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6" descr="j0167906"/>
            <p:cNvPicPr/>
            <p:nvPr/>
          </p:nvPicPr>
          <p:blipFill>
            <a:blip r:embed="rId5"/>
            <a:stretch/>
          </p:blipFill>
          <p:spPr>
            <a:xfrm>
              <a:off x="3276360" y="1447920"/>
              <a:ext cx="1717560" cy="18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7" descr="j0167906"/>
            <p:cNvPicPr/>
            <p:nvPr/>
          </p:nvPicPr>
          <p:blipFill>
            <a:blip r:embed="rId6"/>
            <a:stretch/>
          </p:blipFill>
          <p:spPr>
            <a:xfrm>
              <a:off x="6400800" y="1600200"/>
              <a:ext cx="1717200" cy="18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j0167906"/>
            <p:cNvPicPr/>
            <p:nvPr/>
          </p:nvPicPr>
          <p:blipFill>
            <a:blip r:embed="rId7"/>
            <a:stretch/>
          </p:blipFill>
          <p:spPr>
            <a:xfrm>
              <a:off x="2286000" y="3886200"/>
              <a:ext cx="1717200" cy="18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9" descr="j0167906"/>
            <p:cNvPicPr/>
            <p:nvPr/>
          </p:nvPicPr>
          <p:blipFill>
            <a:blip r:embed="rId8"/>
            <a:stretch/>
          </p:blipFill>
          <p:spPr>
            <a:xfrm>
              <a:off x="8686800" y="4038480"/>
              <a:ext cx="1717200" cy="18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0" descr="j0167906"/>
            <p:cNvPicPr/>
            <p:nvPr/>
          </p:nvPicPr>
          <p:blipFill>
            <a:blip r:embed="rId9"/>
            <a:stretch/>
          </p:blipFill>
          <p:spPr>
            <a:xfrm>
              <a:off x="1905120" y="2209680"/>
              <a:ext cx="1717560" cy="18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1" descr="j0167906"/>
            <p:cNvPicPr/>
            <p:nvPr/>
          </p:nvPicPr>
          <p:blipFill>
            <a:blip r:embed="rId10"/>
            <a:stretch/>
          </p:blipFill>
          <p:spPr>
            <a:xfrm>
              <a:off x="8458200" y="1905120"/>
              <a:ext cx="1717200" cy="1827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241880" y="2361960"/>
            <a:ext cx="79502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33"/>
                </a:solidFill>
                <a:latin typeface="Calibri"/>
                <a:ea typeface="Times New Roman"/>
              </a:rPr>
              <a:t> </a:t>
            </a:r>
            <a:r>
              <a:rPr b="0" lang="es-MX" sz="4400" spc="-1" strike="noStrike">
                <a:solidFill>
                  <a:srgbClr val="ff0033"/>
                </a:solidFill>
                <a:latin typeface="Calibri"/>
                <a:ea typeface="Times New Roman"/>
              </a:rPr>
              <a:t>A PARTIR DE ESA IDEA; EMPIECE A TRABAJAR EN SU PROYECTO DE INVESTIGACIÓ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33"/>
                </a:solidFill>
                <a:latin typeface="Calibri"/>
                <a:ea typeface="Times New Roman"/>
              </a:rPr>
              <a:t>!BUENA SUER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4" descr="PE01756_"/>
          <p:cNvPicPr/>
          <p:nvPr/>
        </p:nvPicPr>
        <p:blipFill>
          <a:blip r:embed="rId1"/>
          <a:stretch/>
        </p:blipFill>
        <p:spPr>
          <a:xfrm flipH="1" rot="20782800">
            <a:off x="10061280" y="358200"/>
            <a:ext cx="1447560" cy="1436400"/>
          </a:xfrm>
          <a:prstGeom prst="rect">
            <a:avLst/>
          </a:prstGeom>
          <a:ln w="0">
            <a:noFill/>
          </a:ln>
        </p:spPr>
      </p:pic>
      <p:sp>
        <p:nvSpPr>
          <p:cNvPr id="227" name="6 Marcador de número de diapositiva"/>
          <p:cNvSpPr/>
          <p:nvPr/>
        </p:nvSpPr>
        <p:spPr>
          <a:xfrm>
            <a:off x="0" y="6242040"/>
            <a:ext cx="587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1728-0874-4B81-B95C-C84D32C78D41}" type="slidenum">
              <a:rPr b="0" lang="es-ES" sz="3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7" descr="BD06517_"/>
          <p:cNvPicPr/>
          <p:nvPr/>
        </p:nvPicPr>
        <p:blipFill>
          <a:blip r:embed="rId2"/>
          <a:stretch/>
        </p:blipFill>
        <p:spPr>
          <a:xfrm>
            <a:off x="5257800" y="68580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PE01760_"/>
          <p:cNvPicPr/>
          <p:nvPr/>
        </p:nvPicPr>
        <p:blipFill>
          <a:blip r:embed="rId3"/>
          <a:stretch/>
        </p:blipFill>
        <p:spPr>
          <a:xfrm>
            <a:off x="2286000" y="533520"/>
            <a:ext cx="954000" cy="1412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7" dur="1" fill="hold"/>
                                  <p:tgtEl>
                                    <p:spTgt spid="2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23:48:35Z</dcterms:created>
  <dc:creator>Dr. Roberto A. González</dc:creator>
  <dc:description/>
  <dc:language>en-US</dc:language>
  <cp:lastModifiedBy>Luiso</cp:lastModifiedBy>
  <dcterms:modified xsi:type="dcterms:W3CDTF">2020-12-23T22:27:58Z</dcterms:modified>
  <cp:revision>129</cp:revision>
  <dc:subject/>
  <dc:title>Tema III: El Diseño Teórico y la Formulación del Proyecto de Investigación</dc:title>
</cp:coreProperties>
</file>