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dt" idx="3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ftr" idx="3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 type="sldNum" idx="3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1010-E104-46EA-82AC-692A3056FF6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AD1A-36DF-4CAB-8524-FF90F173EB1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8FE4B-777B-43C2-8BAE-0FC50A7DC35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A52E-EAFC-4684-AE45-B67C74838E8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B025-AB7E-4E5E-86B1-3AC5D8EDDE8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C394F-2A71-4B47-8883-05DAFFD2AD5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E60D2-AAF3-49B1-8F5F-080591C36C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1E28C-B6FA-4741-A98C-66C5EA132E5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10099C-853E-47AF-91EE-720F62A758E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D8FDB5-8C1A-43BC-A501-716FC5A356C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57C0EB-615D-4A6D-BF9D-D9BFD9470AC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F9ED8F-82CC-428E-9CBE-1528B1F8A29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D6602E-A6EF-4A56-97B1-94A424D75B5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0B9B21-614B-4BBA-96BE-E5E083C9C85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70BD5E-0F54-4109-AFA3-0DD0AFE87AC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6E3849-8D3E-42A3-9A77-E9EA3A1BE65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1BF0A9-7B23-48AB-B94E-1193F0808C8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D9D140-36D0-4538-AD02-2515C2102E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95151-6E90-4B86-957D-0EA69EDD114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B64413-ED22-463E-B621-EAC94C1EA3A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476CA8-F9BA-48A0-9F22-340E6130C24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096486-AA75-4CA1-AFDF-CF51B346BA1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348C5F-9FF9-4F2B-9075-B3C0B1D4EFE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B323D9-D378-46B8-A3E1-C765B98EB6B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A5601A-4638-4E50-97B3-1541B75EEC0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93CDE8-0F67-4119-96BB-3985D44FD5A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ABAB39-6B7B-4105-8BB5-8D773FFB0D6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3BC211-9A7D-4D4A-B85B-3CA8D1894CE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81ABED-009D-430F-9A98-7C771D4677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CCF05-579D-493D-B3BD-2F1B873629B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18218C-EDCE-429D-A11B-D28D2B9F456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13BC5-D048-4CC3-A3C8-9B06838E2A8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2DE83-DDCE-4F40-9FF1-87CB0ABA6C0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B73B2-A862-417C-97FB-40F020E2932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5267B-E7DD-42E8-BDA4-E6E46084DF8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345D8-1188-4386-BE8A-0F82663E268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10019-9FEE-4611-85DD-97705B3E2DB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A169C-3D8F-4A66-90AA-279E0141487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D09ED-EE2A-4CF6-B3F4-A17CFB18A2A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E199B-3FA1-4493-BB80-FDDD50FFC1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0A567E-1E2F-4AE6-BE89-57A9A4359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C00F3-0376-4FF3-A050-395320CC1F9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34DC7-078D-4B41-A6EF-FDE7862BF4C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37A63-48FD-4BF3-86CF-CCF5BC6481D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95F526-D540-47D5-A70E-555DE106C25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DEC6C1-6570-42AA-B4F6-241178011B5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430128-E734-4960-83FD-5E7911CD406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66F218-CCAF-42C9-ACC2-EC5A2E3DEA9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9C939D-117E-450A-8DD2-CC829C97332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1E4F8C-EC26-4029-A0D8-F27367A67A1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3D7431-D966-4990-B535-276E2537AB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CFFD49-4A6D-4779-B83C-F9E7DBC4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CB776C-68F3-4D6F-B3BD-931A8E31072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ED1450-9567-45BD-9E0F-383DDA5A7E5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8C58FA-5ACB-46CA-9AB1-F2AA2C29451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12F368-CBE0-4177-98D8-94882871F46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B1454B-35B9-4BE8-B321-ADD624E777C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B25A83-20D8-40DC-8A89-0636EDF5520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44494A-579D-499F-8CE9-0EA24088A47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2ED863-CE8C-4FE3-815F-B085D19436E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9D7074-5ED8-4A2E-8D51-A620C95EA23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00071B-214D-4CA5-BE2F-56E9C8F6DB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398538-6746-45CE-81F6-2C7BAB78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A3E0FE-994D-470A-9AFA-4691B74FE6C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100BF2-B307-47D1-A9C1-78E79DC51009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6B0805-9FAE-4283-8F20-315F987340D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201C1B-0A71-4F4C-95F3-DEC8AE84932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C039A0-B333-401D-BBAC-353E2C34045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F834AE-754F-47E5-BBEF-EB800A3BBE8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9693EE-91C2-4C6E-8D6C-C0EF91D2026D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D69D9-A39F-4092-BDEE-69FB7B34E942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E1917-79FE-4285-92AB-FC1E079375A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F2745-A5A5-40AE-AD23-A957FD4484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B1E607-22E0-4C9E-8155-AB9042FA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03BC4-5AFF-4BE0-9BA8-673FF366BDB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818C7-6B63-46E5-988E-44A545AB71B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D6D9F-0BAE-4B1B-B175-A5EF29000358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D4BC5-0071-47D1-B5F6-89F5094F48BF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DA61C-3A83-4513-B37A-FE785F08555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D1BB7-E98E-4B07-A864-20DBF7BE6BC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93924-E549-487C-8DC9-83F284B6283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01472-F268-45AD-A790-9ED2D6A65EC4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B2E14-E06E-462D-B935-70BDDF909D82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A049AF-F297-42B9-A342-F02C7D852E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FCA106-2826-4D9D-A2C7-7BF70805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559F4B-34A5-4D41-99B2-635A28579A84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2D4A82-775D-46A5-97DD-FFCE07E6C1D3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D58E79-11FC-42DA-87C2-84714F030CB7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354596-4CBE-413B-9B91-AA884FF70E2A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573A90-7825-41EE-84A5-5F6C875B8DAA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E4BAFA-0622-419F-90FC-2EFF5A33FF3E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3A5C19-C235-4B77-85CF-D25850BA6CF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0BC25A-4553-494F-B1B6-58FF2E164A44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635127-9B94-4D51-862F-D3C6F7EE134E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FCA33A-1F75-481C-BF62-24FC3F6EA6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67CA82-222C-431C-A05C-8DD892A65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BC82D0-62E1-405A-AF07-C14503727AAE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E13250-04EF-42FA-8197-E4B2B72A3571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AB8663-4EA4-4987-A3EF-9DA26DDEC32B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07FC71-F786-4E8E-A779-D7E3D86B1B70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617763-1FE4-4E7B-8EEE-1E3B1614B6C5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DBA534-2ABC-4816-988D-34F71A6F63D8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7D493B-1CDB-49D7-89B5-EF08D45DCFC6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2DDED4-C6AE-4E88-B15C-E78A8D2B17A7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4780AE-AC6C-4A4B-AD7C-501226391BA9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92A267-668C-498A-87E5-AF92EB2FAD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DDBA4D-523A-4BD4-9F13-84505EBF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2E7971-6B00-41F8-A9D0-AD852983876B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1A6670-B266-43C0-B53C-0FFB0455FCD5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58BD1B-9D4F-4999-9863-7F0073939E96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6FA9C2-320E-4195-9F06-20433E1C5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47D6AD-3708-4D53-B035-FEC2452A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82E21E-626B-44F4-9FD3-5BDD7BE7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6C9787-C5A2-4C35-8020-D844020B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005F3F-924D-4BC4-932B-4A4DF043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48814A-15A5-4FA8-AF73-E7C9ACA30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387CA5-7E15-4FA3-A78C-11AEBD4F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3D98B-FA59-4B50-A99F-537C849D04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1D7F43-A35D-4595-82A0-8D1A1503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06FD39-680D-45F7-A405-BB1400A4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0A0978-69FC-4837-89AF-C02CC2FD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3FECA8-E490-481F-9E6D-DEAE5CF8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DC42B5-54D2-4137-880A-82BA5DE5F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9019E0-7F86-4D23-AB0F-ED67B109D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1C1D0F-DFCC-4F99-B09D-35F834908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EA5741-8B61-4D46-8E1A-4F987FFA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7C60B3-15ED-4195-A571-25B6706A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F6BDF0-EDB8-4399-9975-8CC63561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2FD9CE-4631-4A45-ABAE-BCDB4B42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6D7D85-F2EF-491F-AA53-5F0551B4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F17621-6983-478D-AA18-B6174B94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AA5E6D-25A5-448C-86DC-7D10228F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D9F747-C2CB-4284-B85C-969CBB1B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5BB61B-6400-4A89-9307-644B369F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8CF9F1-2485-411A-AE6C-FCBBEB54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B873EE-1CAC-452D-AB23-18A0DCEDA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915215-5EF2-481B-A4B9-5F796FE4F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A2C6AD2-EB0F-4A3F-8A03-C7544CA67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3EB289-D6F9-4E06-84BF-26E3C9951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F451F9-9BFF-48E4-AD21-18BDAB3B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2BB475-72E5-4AED-8CE8-45ACC0A1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EA1032-3336-42B8-9826-C1AFF96C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44D4982-C175-4847-A308-FBBD80CB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F79C20-8528-49C8-886F-107FEB03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4F7D6B0-C10B-4571-B694-061ABA3E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1FE56F-E9C5-4808-A96B-8A4CC4B4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DCB761-D7FD-4D93-8B56-914558DE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34556D-5FBC-4088-9549-2144E8A3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EA966C-DC6F-45EE-8C19-0A17E885E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98DCD8-DF5B-4DC1-8F4F-83A444352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5F03CFB-EF03-4D65-A771-412058BE9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005DA6-975D-4F54-A841-E50AAFD18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E527170-E613-4BC6-B528-9C28084B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3292DDA-7273-4989-88D4-0991B398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97BAD49-5D91-4A55-9112-49102452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FD883B0-62B3-47ED-8A3E-B5C3F504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2E55820-E526-404B-BB5F-7CC97AB2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1C8DC20-6EB0-423B-A358-475EBBF6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0706FC-D2EE-47B6-9A87-E522A5B7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99D2E10-9255-44D1-AE11-97AE8520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2D06A7B-2BBC-4936-88FE-B39F17FD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FBAF564-DC3D-42CF-972E-73718382C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E1169-5BFA-4348-BA29-E0FEF3DC8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ED8D1B1-3998-49B6-A1E6-06270CF06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106F71-3D2C-4A30-B146-276E7925D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DCFA64-B054-4F2D-B221-7A48614C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4F083E-2B55-4BAF-8C91-2FBC7667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A33D8B-6245-4FAA-8109-2C5AC911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1C4577-11B9-4CC2-8D0A-3AC0DE88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9F4F5-A94A-4339-9220-D63B7BE1B45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0E8EBF-1095-428C-A5EA-D9DDA9FB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363EE5-24D9-4836-85A5-43B7C87F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F9F0E7-F64A-4569-98CC-812C9CFF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500E57-72EB-47C6-B8BF-089EC77C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97322F-05AC-476F-8063-8590A758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0E370B-7814-409B-A75C-64C39DF6F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2BBE3B-87D2-490E-90C4-89AC4721E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146FDF-C745-4BD7-88C0-D08C9C704B5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6DE780-3E9D-4DFC-8B63-E0339FBB211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E0E4D0-897F-4FFE-8A26-DF04361C9F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54C2D-3DBD-494C-892C-6E236BA385F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1ECC7B-B932-427B-BECB-DCF1C7A2AA1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023098-1C32-4D8F-9676-5F32E59F623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C4EBB7-6B4E-41B6-959A-16239060850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887BC1-5890-443E-919C-C132E93F740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05A0AE-E7FE-445F-BFAD-A3E001CA7FF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6160BB-B52F-4397-815E-167637C935C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1A7026-1727-4ECB-BC17-CA6320BE396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F1AC7E-8705-4A7B-A586-64A741C0889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86116A-8998-452A-8971-6F7671BFC4E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58BE2-917F-4FE0-A01A-78F3C85881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0797A-6F0A-4E77-A28B-1731A4CEFAA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FB5F3-FBAA-4C43-95AA-CE05124FE0A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4BE9F-708B-42AD-88B1-1D66B102F1E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0626D-2242-4034-B950-517A77BE234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B0687-8528-490C-B198-A416F1955C1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CA7ED-D47E-4A7D-AE2A-C97751CCB8F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5ECDC-8E45-41FF-ABB8-1147EAAD9EA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98F79-353D-4F37-8B4A-AFA99BA8088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968AF-D594-487B-9348-8EA0D14420E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2E549-6C92-445A-BC93-36B44D2BE33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5423C-28D4-40FB-9B06-9B02774883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7B22B-AC1F-4841-922A-096A622AFA5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50A6E-C9A6-41CF-8241-3345FAF3B15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4629F2-1F80-4F6C-8318-83336A841B0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087057-8EED-4C66-BF56-F8972B06C28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C658FD-85BD-40A5-BACE-4F5082095DF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54623A-82A7-4C09-A053-75AF4309727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807075-F628-4D03-BB14-712629A8CEB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DAD98C-434E-4994-9772-0C140E3CB1A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84E5F5-566D-4CB2-8891-A7F1B54B5C7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5FFEC0-A5A9-4ECB-BD5C-935A416279D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9F178B-25F7-4C5E-83F4-F4D1B87DC6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040F1-8F5F-4A11-B5C5-3500F54E8FB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A21D99-1367-47DF-86B9-8FB64BC1931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B8940C-1CAC-4013-B6D3-4897C348C1B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FC75A7-4504-4009-A3B4-6FD6CD2B450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25328C-24CA-42A5-87A9-60CE5312F31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FAAF26-63A5-4FE6-A4DF-70882187C15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8174CD-9796-4162-9C02-C23A347E9FD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6BBB0B-EB6A-4FC9-8E06-EF9562D7BC9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2CB3AD-C498-4F97-A133-6FCAE321B6B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B726EB-2AF1-48DA-9EC3-486A313C663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AA80C7-A659-46E5-8DF2-E93ED3969E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2CD0B-68C4-481B-8B75-9244B1EECDF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7E4238-9C20-499B-A323-975AFABA393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AFBC94-623F-4D32-A878-2FFF9E83C93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3A78C8-7DF8-4FEE-8048-D4871EA9CA7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6018FF-5E77-4AC4-884A-39B6921E9D6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490456-1E07-4B9C-AC11-FFE7008FC62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00DE6-1E3B-4C28-8488-FDBCD745A37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61671-6855-4537-A05B-7F0AA3D7D2D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3FE56-F584-45F3-AAF6-B416C9C11CB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585E9-4A4E-466A-A3AC-4654CBE25E1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2EE3D-5123-44A3-9EE0-738E6A691F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703D7-DC72-4E4A-A0E7-AAF4218A9BC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5818C-BBAD-4371-B9B9-93BA3A81745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4A0A1-841E-415E-BD23-D80DF33E3C0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F377D-E168-47BA-8BCD-B753B2064CF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E1EE5-B006-4A64-9448-6B900AFEB91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0E9A8-76A6-465A-8601-BE82326C7B5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E8C30-8662-4D7B-A8D4-D9592C43392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D00DF-3856-4B55-9C33-C1CF7FB84D5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1EDED8-95C5-4ED3-ABE5-031B2F05438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FFB672-C1AE-41E3-8D77-884F964D43D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221277-82E8-40C4-9CA8-C1C5780208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67402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836640"/>
            <a:ext cx="8407440" cy="56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4280" indent="-31428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0" y="6669000"/>
            <a:ext cx="21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2195640" y="6669000"/>
            <a:ext cx="5976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317080" y="6668640"/>
            <a:ext cx="7984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52AF3-DD64-41D3-B610-A8D615FB1B32}" type="slidenum">
              <a:rPr b="0" lang="es-E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3"/>
          <p:cNvSpPr/>
          <p:nvPr/>
        </p:nvSpPr>
        <p:spPr>
          <a:xfrm>
            <a:off x="0" y="6669000"/>
            <a:ext cx="21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2195640" y="6669000"/>
            <a:ext cx="5976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67402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836640"/>
            <a:ext cx="8407440" cy="56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4280" indent="-31428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sldNum" idx="14"/>
          </p:nvPr>
        </p:nvSpPr>
        <p:spPr>
          <a:xfrm>
            <a:off x="8317080" y="6668640"/>
            <a:ext cx="7984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68B4-30B6-473F-98F4-AFE78EE26F7C}" type="slidenum">
              <a:rPr b="0" lang="es-E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3"/>
          <p:cNvSpPr/>
          <p:nvPr/>
        </p:nvSpPr>
        <p:spPr>
          <a:xfrm>
            <a:off x="0" y="6669000"/>
            <a:ext cx="21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2195640" y="6669000"/>
            <a:ext cx="5976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67402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836640"/>
            <a:ext cx="8407440" cy="56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4280" indent="-31428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sldNum" idx="15"/>
          </p:nvPr>
        </p:nvSpPr>
        <p:spPr>
          <a:xfrm>
            <a:off x="8317080" y="6668640"/>
            <a:ext cx="7984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B23A-888F-4078-B35E-5759C05A3632}" type="slidenum">
              <a:rPr b="0" lang="es-E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3"/>
          <p:cNvSpPr/>
          <p:nvPr/>
        </p:nvSpPr>
        <p:spPr>
          <a:xfrm>
            <a:off x="0" y="6669000"/>
            <a:ext cx="21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2195640" y="6669000"/>
            <a:ext cx="5976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67402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836640"/>
            <a:ext cx="8407440" cy="56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4280" indent="-31428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16"/>
          </p:nvPr>
        </p:nvSpPr>
        <p:spPr>
          <a:xfrm>
            <a:off x="8317080" y="6668640"/>
            <a:ext cx="7984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7EE4-ED0F-4D0C-9F60-A53B845BEBF0}" type="slidenum">
              <a:rPr b="0" lang="es-E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3"/>
          <p:cNvSpPr/>
          <p:nvPr/>
        </p:nvSpPr>
        <p:spPr>
          <a:xfrm>
            <a:off x="0" y="6669000"/>
            <a:ext cx="21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Text Box 4"/>
          <p:cNvSpPr/>
          <p:nvPr/>
        </p:nvSpPr>
        <p:spPr>
          <a:xfrm>
            <a:off x="2195640" y="6669000"/>
            <a:ext cx="5976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67402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836640"/>
            <a:ext cx="8407440" cy="56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4280" indent="-31428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Num" idx="17"/>
          </p:nvPr>
        </p:nvSpPr>
        <p:spPr>
          <a:xfrm>
            <a:off x="8317080" y="6668640"/>
            <a:ext cx="7984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9CF5-735B-4150-85AE-990B325DA78A}" type="slidenum">
              <a:rPr b="0" lang="es-E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3"/>
          <p:cNvSpPr/>
          <p:nvPr/>
        </p:nvSpPr>
        <p:spPr>
          <a:xfrm>
            <a:off x="0" y="6669000"/>
            <a:ext cx="21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Text Box 4"/>
          <p:cNvSpPr/>
          <p:nvPr/>
        </p:nvSpPr>
        <p:spPr>
          <a:xfrm>
            <a:off x="2195640" y="6669000"/>
            <a:ext cx="5976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67402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836640"/>
            <a:ext cx="8407440" cy="56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4280" indent="-31428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sldNum" idx="18"/>
          </p:nvPr>
        </p:nvSpPr>
        <p:spPr>
          <a:xfrm>
            <a:off x="8317080" y="6668640"/>
            <a:ext cx="7984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1D1E-12EB-46C7-859A-6349C517A4A8}" type="slidenum">
              <a:rPr b="0" lang="es-E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3"/>
          <p:cNvSpPr/>
          <p:nvPr/>
        </p:nvSpPr>
        <p:spPr>
          <a:xfrm>
            <a:off x="0" y="6669000"/>
            <a:ext cx="21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Text Box 4"/>
          <p:cNvSpPr/>
          <p:nvPr/>
        </p:nvSpPr>
        <p:spPr>
          <a:xfrm>
            <a:off x="2195640" y="6669000"/>
            <a:ext cx="5976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67402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457200" y="836640"/>
            <a:ext cx="8407440" cy="56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4280" indent="-31428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sldNum" idx="19"/>
          </p:nvPr>
        </p:nvSpPr>
        <p:spPr>
          <a:xfrm>
            <a:off x="8317080" y="6668640"/>
            <a:ext cx="7984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3801-24E0-42AF-94A2-C9F69393E64D}" type="slidenum">
              <a:rPr b="0" lang="es-E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3"/>
          <p:cNvSpPr/>
          <p:nvPr/>
        </p:nvSpPr>
        <p:spPr>
          <a:xfrm>
            <a:off x="0" y="6669000"/>
            <a:ext cx="21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Text Box 4"/>
          <p:cNvSpPr/>
          <p:nvPr/>
        </p:nvSpPr>
        <p:spPr>
          <a:xfrm>
            <a:off x="2195640" y="6669000"/>
            <a:ext cx="5976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67402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457200" y="836640"/>
            <a:ext cx="8407440" cy="56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4280" indent="-31428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sldNum" idx="20"/>
          </p:nvPr>
        </p:nvSpPr>
        <p:spPr>
          <a:xfrm>
            <a:off x="8317080" y="6668640"/>
            <a:ext cx="7984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76AA-F177-4994-9E1D-A0365E102901}" type="slidenum">
              <a:rPr b="0" lang="es-E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2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2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2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7A26-6D8A-4E59-8C82-919B4A677B24}" type="slidenum"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dt" idx="2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ftr" idx="2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 type="sldNum" idx="2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07ED-2EC2-410F-9111-689E5F226FA4}" type="slidenum"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 type="dt" idx="2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 type="ftr" idx="2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 type="sldNum" idx="2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3210-F1F9-4322-A4F2-A6C61A7E2BBB}" type="slidenum">
              <a:rPr b="0" lang="es-ES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7147-EB09-4BA4-8F31-9536174E2BEA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3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ftr" idx="3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 type="sldNum" idx="3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D5F1-A18C-4413-BDB3-8FC4CFEB1CB4}" type="slidenum"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5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6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7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DF2A-ED86-45D2-B566-FF8A59815EB2}" type="slidenum"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0" y="6669000"/>
            <a:ext cx="21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2195640" y="6669000"/>
            <a:ext cx="5976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67402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836640"/>
            <a:ext cx="8407440" cy="56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4280" indent="-31428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8"/>
          </p:nvPr>
        </p:nvSpPr>
        <p:spPr>
          <a:xfrm>
            <a:off x="8317080" y="6668640"/>
            <a:ext cx="7984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4300-D7F5-4BF4-A0CD-712BBCB3976F}" type="slidenum">
              <a:rPr b="0" lang="es-E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3"/>
          <p:cNvSpPr/>
          <p:nvPr/>
        </p:nvSpPr>
        <p:spPr>
          <a:xfrm>
            <a:off x="0" y="6669000"/>
            <a:ext cx="21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2195640" y="6669000"/>
            <a:ext cx="5976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67402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836640"/>
            <a:ext cx="8407440" cy="56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4280" indent="-31428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9"/>
          </p:nvPr>
        </p:nvSpPr>
        <p:spPr>
          <a:xfrm>
            <a:off x="8317080" y="6668640"/>
            <a:ext cx="7984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5D59-AD2D-4F3D-8678-6734124D095D}" type="slidenum">
              <a:rPr b="0" lang="es-E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3"/>
          <p:cNvSpPr/>
          <p:nvPr/>
        </p:nvSpPr>
        <p:spPr>
          <a:xfrm>
            <a:off x="0" y="6669000"/>
            <a:ext cx="21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2195640" y="6669000"/>
            <a:ext cx="5976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67402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836640"/>
            <a:ext cx="8407440" cy="56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4280" indent="-31428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Num" idx="10"/>
          </p:nvPr>
        </p:nvSpPr>
        <p:spPr>
          <a:xfrm>
            <a:off x="8317080" y="6668640"/>
            <a:ext cx="7984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787A-24EB-4D73-A97A-D67E29F5CA05}" type="slidenum">
              <a:rPr b="0" lang="es-E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3"/>
          <p:cNvSpPr/>
          <p:nvPr/>
        </p:nvSpPr>
        <p:spPr>
          <a:xfrm>
            <a:off x="0" y="6669000"/>
            <a:ext cx="21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2195640" y="6669000"/>
            <a:ext cx="5976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67402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836640"/>
            <a:ext cx="8407440" cy="56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4280" indent="-31428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Num" idx="11"/>
          </p:nvPr>
        </p:nvSpPr>
        <p:spPr>
          <a:xfrm>
            <a:off x="8317080" y="6668640"/>
            <a:ext cx="7984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4AC1-771C-47A6-8083-AF4C583067F4}" type="slidenum">
              <a:rPr b="0" lang="es-E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3"/>
          <p:cNvSpPr/>
          <p:nvPr/>
        </p:nvSpPr>
        <p:spPr>
          <a:xfrm>
            <a:off x="0" y="6669000"/>
            <a:ext cx="21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2195640" y="6669000"/>
            <a:ext cx="5976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67402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836640"/>
            <a:ext cx="8407440" cy="56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4280" indent="-31428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Num" idx="12"/>
          </p:nvPr>
        </p:nvSpPr>
        <p:spPr>
          <a:xfrm>
            <a:off x="8317080" y="6668640"/>
            <a:ext cx="7984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E787-714A-4A73-A70F-A77E23738C41}" type="slidenum">
              <a:rPr b="0" lang="es-E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3"/>
          <p:cNvSpPr/>
          <p:nvPr/>
        </p:nvSpPr>
        <p:spPr>
          <a:xfrm>
            <a:off x="0" y="6669000"/>
            <a:ext cx="21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2195640" y="6669000"/>
            <a:ext cx="5976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674028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6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836640"/>
            <a:ext cx="8407440" cy="56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4280" indent="-31428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6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Num" idx="13"/>
          </p:nvPr>
        </p:nvSpPr>
        <p:spPr>
          <a:xfrm>
            <a:off x="8317080" y="6668640"/>
            <a:ext cx="79848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5E99-25CD-4881-B1E1-083B4DB57CA3}" type="slidenum">
              <a:rPr b="0" lang="es-E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120" y="1341360"/>
            <a:ext cx="8642520" cy="39592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000"/>
                </a:solidFill>
                <a:latin typeface="Franklin Gothic Medium"/>
              </a:rPr>
              <a:t>CLASE PRÁCTICA 6</a:t>
            </a:r>
            <a:br>
              <a:rPr sz="3600"/>
            </a:b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Franklin Gothic Medium"/>
              </a:rPr>
              <a:t>TÍTULO: </a:t>
            </a:r>
            <a:r>
              <a:rPr b="0" lang="es-ES" sz="2800" spc="-1" strike="noStrike">
                <a:solidFill>
                  <a:srgbClr val="000000"/>
                </a:solidFill>
                <a:latin typeface="Franklin Gothic Medium"/>
              </a:rPr>
              <a:t>EXTENSIONES DE UML PARA EL DISEÑO DE APLICACIONES WEB .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1" name="1 Image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2" name=""/>
          <p:cNvSpPr txBox="1"/>
          <p:nvPr/>
        </p:nvSpPr>
        <p:spPr>
          <a:xfrm>
            <a:off x="457200" y="1279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Franklin Gothic Book"/>
              </a:rPr>
              <a:t>Diga verdadero a o falso. Fundamente sus declaraciones falsas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3" name="1 CuadroTexto"/>
          <p:cNvSpPr/>
          <p:nvPr/>
        </p:nvSpPr>
        <p:spPr>
          <a:xfrm>
            <a:off x="900000" y="126828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00000"/>
                </a:solidFill>
                <a:latin typeface="Arial"/>
              </a:rPr>
              <a:t>Revisión del Trabajo Independi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1 Image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5" name=""/>
          <p:cNvSpPr txBox="1"/>
          <p:nvPr/>
        </p:nvSpPr>
        <p:spPr>
          <a:xfrm>
            <a:off x="457200" y="1279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799"/>
              </a:spcBef>
              <a:buClr>
                <a:srgbClr val="000000"/>
              </a:buClr>
              <a:buFont typeface="Franklin Gothic 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6" name="1 CuadroTexto"/>
          <p:cNvSpPr/>
          <p:nvPr/>
        </p:nvSpPr>
        <p:spPr>
          <a:xfrm>
            <a:off x="4358160" y="765000"/>
            <a:ext cx="42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7" name="4 Imagen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8208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8" name="1 Image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9" name=""/>
          <p:cNvSpPr txBox="1"/>
          <p:nvPr/>
        </p:nvSpPr>
        <p:spPr>
          <a:xfrm>
            <a:off x="457200" y="1279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799"/>
              </a:spcBef>
              <a:buClr>
                <a:srgbClr val="000000"/>
              </a:buClr>
              <a:buFont typeface="Franklin Gothic 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0" name="1 CuadroTexto"/>
          <p:cNvSpPr/>
          <p:nvPr/>
        </p:nvSpPr>
        <p:spPr>
          <a:xfrm>
            <a:off x="4358520" y="76500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1" name="5 Imagen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77774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1 Image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3" name=""/>
          <p:cNvSpPr txBox="1"/>
          <p:nvPr/>
        </p:nvSpPr>
        <p:spPr>
          <a:xfrm>
            <a:off x="457200" y="1279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799"/>
              </a:spcBef>
              <a:buClr>
                <a:srgbClr val="000000"/>
              </a:buClr>
              <a:buFont typeface="Franklin Gothic 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4" name="1 CuadroTexto"/>
          <p:cNvSpPr/>
          <p:nvPr/>
        </p:nvSpPr>
        <p:spPr>
          <a:xfrm>
            <a:off x="4365360" y="765000"/>
            <a:ext cx="3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5" name="6 Imagen" descr=""/>
          <p:cNvPicPr/>
          <p:nvPr/>
        </p:nvPicPr>
        <p:blipFill>
          <a:blip r:embed="rId2"/>
          <a:stretch/>
        </p:blipFill>
        <p:spPr>
          <a:xfrm>
            <a:off x="1116000" y="1349280"/>
            <a:ext cx="6912000" cy="45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1 Image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7" name=""/>
          <p:cNvSpPr txBox="1"/>
          <p:nvPr/>
        </p:nvSpPr>
        <p:spPr>
          <a:xfrm>
            <a:off x="457200" y="1279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799"/>
              </a:spcBef>
              <a:buClr>
                <a:srgbClr val="000000"/>
              </a:buClr>
              <a:buFont typeface="Franklin Gothic 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8" name="1 CuadroTexto"/>
          <p:cNvSpPr/>
          <p:nvPr/>
        </p:nvSpPr>
        <p:spPr>
          <a:xfrm>
            <a:off x="4358160" y="765000"/>
            <a:ext cx="4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9" name="6 Imagen" descr=""/>
          <p:cNvPicPr/>
          <p:nvPr/>
        </p:nvPicPr>
        <p:blipFill>
          <a:blip r:embed="rId2"/>
          <a:stretch/>
        </p:blipFill>
        <p:spPr>
          <a:xfrm>
            <a:off x="1116000" y="1349280"/>
            <a:ext cx="6912000" cy="45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0" name="1 Image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1" name=""/>
          <p:cNvSpPr txBox="1"/>
          <p:nvPr/>
        </p:nvSpPr>
        <p:spPr>
          <a:xfrm>
            <a:off x="457200" y="1279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799"/>
              </a:spcBef>
              <a:buClr>
                <a:srgbClr val="000000"/>
              </a:buClr>
              <a:buFont typeface="Franklin Gothic 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2" name="1 CuadroTexto"/>
          <p:cNvSpPr/>
          <p:nvPr/>
        </p:nvSpPr>
        <p:spPr>
          <a:xfrm>
            <a:off x="4358520" y="7650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3" name="5 Imagen" descr=""/>
          <p:cNvPicPr/>
          <p:nvPr/>
        </p:nvPicPr>
        <p:blipFill>
          <a:blip r:embed="rId2"/>
          <a:stretch/>
        </p:blipFill>
        <p:spPr>
          <a:xfrm>
            <a:off x="1042920" y="1349280"/>
            <a:ext cx="7489800" cy="48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1 Imagen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5" name=""/>
          <p:cNvSpPr txBox="1"/>
          <p:nvPr/>
        </p:nvSpPr>
        <p:spPr>
          <a:xfrm>
            <a:off x="357120" y="1268280"/>
            <a:ext cx="850104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ada la descripción del caso de uso Autenticar usuario, realizar el diagrama de clases del diseño, con estereotipos web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6" name="1 CuadroTexto"/>
          <p:cNvSpPr/>
          <p:nvPr/>
        </p:nvSpPr>
        <p:spPr>
          <a:xfrm>
            <a:off x="3253320" y="0"/>
            <a:ext cx="18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000"/>
                </a:solidFill>
                <a:latin typeface="Calibri"/>
              </a:rPr>
              <a:t>Ejercicio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7" name="1 Image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8" name=""/>
          <p:cNvSpPr txBox="1"/>
          <p:nvPr/>
        </p:nvSpPr>
        <p:spPr>
          <a:xfrm>
            <a:off x="357120" y="928800"/>
            <a:ext cx="850104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caso de uso se inicia cuando el usuario intenta acceder al sistema, el sistema le muestra un formulario de autenticar. Introduce el nombre de usuario y la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traseña y oprime el botón aceptar para entrar en el sistema.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sistema verifica la existencia del usuario y compara la contraseña insertada. El sistema valida al usuario y le muestra la funcionalidades correspondiente según sus privilegios y finaliza el caso de uso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En caso contrario el sistema responde con un mensaje de err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1 CuadroTexto"/>
          <p:cNvSpPr/>
          <p:nvPr/>
        </p:nvSpPr>
        <p:spPr>
          <a:xfrm>
            <a:off x="2502360" y="84240"/>
            <a:ext cx="38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000"/>
                </a:solidFill>
                <a:latin typeface="Calibri"/>
              </a:rPr>
              <a:t>CU Autenticar usua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1 Image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1" name="1 CuadroTexto"/>
          <p:cNvSpPr/>
          <p:nvPr/>
        </p:nvSpPr>
        <p:spPr>
          <a:xfrm>
            <a:off x="2626200" y="84240"/>
            <a:ext cx="38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000"/>
                </a:solidFill>
                <a:latin typeface="Calibri"/>
              </a:rPr>
              <a:t>CU Autenticar usua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2" name="Picture 5" descr="Class Diagram11.jpg"/>
          <p:cNvPicPr/>
          <p:nvPr/>
        </p:nvPicPr>
        <p:blipFill>
          <a:blip r:embed="rId2"/>
          <a:stretch/>
        </p:blipFill>
        <p:spPr>
          <a:xfrm>
            <a:off x="0" y="836640"/>
            <a:ext cx="9036000" cy="57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1 Image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4" name=""/>
          <p:cNvSpPr txBox="1"/>
          <p:nvPr/>
        </p:nvSpPr>
        <p:spPr>
          <a:xfrm>
            <a:off x="457200" y="1279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Realizar los diagramas de clases de diseño para sus proyectos respetando la arquitectura definid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1 CuadroTexto"/>
          <p:cNvSpPr/>
          <p:nvPr/>
        </p:nvSpPr>
        <p:spPr>
          <a:xfrm>
            <a:off x="2557800" y="115920"/>
            <a:ext cx="40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000"/>
                </a:solidFill>
                <a:latin typeface="Calibri"/>
              </a:rPr>
              <a:t>Trabajo independi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Franklin Gothic Medium"/>
              </a:rPr>
              <a:t>CONTENIDO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822240" y="1100160"/>
            <a:ext cx="75218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Franklin Gothic Book"/>
              </a:rPr>
              <a:t>Ejercicios sobre Diseño de la estructura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Franklin Gothic Book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Franklin Gothic Book"/>
              </a:rPr>
              <a:t>a)Extensiones de UML para el diseño de aplicaciones web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Franklin Gothic Book"/>
              </a:rPr>
              <a:t>Objetivo: 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Franklin Gothic Book"/>
              </a:rPr>
              <a:t>Modelar la estructura de un sistema web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52004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Franklin Gothic Medium"/>
              </a:rPr>
              <a:t>BIBLIOGRAFÍA: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Franklin Gothic Medium"/>
              </a:rPr>
              <a:t>CONALLEN, JIM. 2003. BUILDING WEB APPLICATIONS WITH UML. ADDISON-WESLEY PROFESSIONAL RESUMEN EN ARCHIVO: CONALLEN.RAR DISPONIBLE EN EVA COMO MATERIAL DE ESTA ACTIVIDAD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Franklin Gothic Medium"/>
              </a:rPr>
              <a:t>UML EN ACCIÓN. FRANCO .2005 </a:t>
            </a:r>
            <a:br>
              <a:rPr sz="1800"/>
            </a:br>
            <a:br>
              <a:rPr sz="1800"/>
            </a:br>
            <a:r>
              <a:rPr b="0" i="1" lang="es-ES" sz="1800" spc="-1" strike="noStrike">
                <a:solidFill>
                  <a:srgbClr val="000000"/>
                </a:solidFill>
                <a:latin typeface="Franklin Gothic Medium"/>
              </a:rPr>
              <a:t>SOMMERVILLE, I.; 2005. “INGENIERÍA DE SOFTWARE‖, PARTE III. CAPÍTULO 14. PÁGINAS 219 – 240. </a:t>
            </a:r>
            <a:br>
              <a:rPr sz="1800"/>
            </a:br>
            <a:br>
              <a:rPr sz="1800"/>
            </a:br>
            <a:r>
              <a:rPr b="0" i="1" lang="es-ES" sz="1800" spc="-1" strike="noStrike">
                <a:solidFill>
                  <a:srgbClr val="000000"/>
                </a:solidFill>
                <a:latin typeface="Franklin Gothic Medium"/>
              </a:rPr>
              <a:t>PRESSMAN, ROGER S.; 2007. ‖INGENIERÍA DE SOFTWARE. UN ENFOQUE PRÁCTICO‖. 6TA EDICIÓN. CAPÍTULO 9 </a:t>
            </a:r>
            <a:br>
              <a:rPr sz="1800"/>
            </a:br>
            <a:br>
              <a:rPr sz="1800"/>
            </a:br>
            <a:r>
              <a:rPr b="0" i="1" lang="es-ES" sz="1800" spc="-1" strike="noStrike">
                <a:solidFill>
                  <a:srgbClr val="000000"/>
                </a:solidFill>
                <a:latin typeface="Franklin Gothic Medium"/>
              </a:rPr>
              <a:t>LARMAN, CRAIG; 2004. UML Y PATRONES. INTRODUCCIÓN AL ANÁLISIS Y DISEÑO ORIENTADO A OBJETOS. VOLUMEN I Y II. EDITORIAL FÉLIX VARELA, CIUDAD DE LA HABANA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1" name="Group 8"/>
          <p:cNvGrpSpPr/>
          <p:nvPr/>
        </p:nvGrpSpPr>
        <p:grpSpPr>
          <a:xfrm>
            <a:off x="0" y="1662120"/>
            <a:ext cx="7281360" cy="3796920"/>
            <a:chOff x="0" y="1662120"/>
            <a:chExt cx="7281360" cy="3796920"/>
          </a:xfrm>
        </p:grpSpPr>
        <p:grpSp>
          <p:nvGrpSpPr>
            <p:cNvPr id="842" name="Group 9"/>
            <p:cNvGrpSpPr/>
            <p:nvPr/>
          </p:nvGrpSpPr>
          <p:grpSpPr>
            <a:xfrm>
              <a:off x="4245120" y="2010600"/>
              <a:ext cx="3036240" cy="3268800"/>
              <a:chOff x="4245120" y="2010600"/>
              <a:chExt cx="3036240" cy="3268800"/>
            </a:xfrm>
          </p:grpSpPr>
          <p:grpSp>
            <p:nvGrpSpPr>
              <p:cNvPr id="843" name="Group 10"/>
              <p:cNvGrpSpPr/>
              <p:nvPr/>
            </p:nvGrpSpPr>
            <p:grpSpPr>
              <a:xfrm>
                <a:off x="5397480" y="2010600"/>
                <a:ext cx="1883880" cy="2638800"/>
                <a:chOff x="5397480" y="2010600"/>
                <a:chExt cx="1883880" cy="2638800"/>
              </a:xfrm>
            </p:grpSpPr>
            <p:grpSp>
              <p:nvGrpSpPr>
                <p:cNvPr id="844" name="Group 11"/>
                <p:cNvGrpSpPr/>
                <p:nvPr/>
              </p:nvGrpSpPr>
              <p:grpSpPr>
                <a:xfrm>
                  <a:off x="5872320" y="2349720"/>
                  <a:ext cx="1409040" cy="1950120"/>
                  <a:chOff x="5872320" y="2349720"/>
                  <a:chExt cx="1409040" cy="1950120"/>
                </a:xfrm>
              </p:grpSpPr>
              <p:grpSp>
                <p:nvGrpSpPr>
                  <p:cNvPr id="845" name="Group 12"/>
                  <p:cNvGrpSpPr/>
                  <p:nvPr/>
                </p:nvGrpSpPr>
                <p:grpSpPr>
                  <a:xfrm>
                    <a:off x="5872320" y="2349720"/>
                    <a:ext cx="1409040" cy="1950120"/>
                    <a:chOff x="5872320" y="2349720"/>
                    <a:chExt cx="1409040" cy="1950120"/>
                  </a:xfrm>
                </p:grpSpPr>
                <p:grpSp>
                  <p:nvGrpSpPr>
                    <p:cNvPr id="846" name="Group 13"/>
                    <p:cNvGrpSpPr/>
                    <p:nvPr/>
                  </p:nvGrpSpPr>
                  <p:grpSpPr>
                    <a:xfrm>
                      <a:off x="6222600" y="2464920"/>
                      <a:ext cx="1058760" cy="1600200"/>
                      <a:chOff x="6222600" y="2464920"/>
                      <a:chExt cx="1058760" cy="1600200"/>
                    </a:xfrm>
                  </p:grpSpPr>
                  <p:grpSp>
                    <p:nvGrpSpPr>
                      <p:cNvPr id="847" name="Group 14"/>
                      <p:cNvGrpSpPr/>
                      <p:nvPr/>
                    </p:nvGrpSpPr>
                    <p:grpSpPr>
                      <a:xfrm>
                        <a:off x="6342120" y="2464920"/>
                        <a:ext cx="939240" cy="1600200"/>
                        <a:chOff x="6342120" y="2464920"/>
                        <a:chExt cx="939240" cy="1600200"/>
                      </a:xfrm>
                    </p:grpSpPr>
                    <p:sp>
                      <p:nvSpPr>
                        <p:cNvPr id="848" name="Oval 15"/>
                        <p:cNvSpPr/>
                        <p:nvPr/>
                      </p:nvSpPr>
                      <p:spPr>
                        <a:xfrm>
                          <a:off x="6815880" y="3384000"/>
                          <a:ext cx="465480" cy="4590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849" name="Oval 16"/>
                        <p:cNvSpPr/>
                        <p:nvPr/>
                      </p:nvSpPr>
                      <p:spPr>
                        <a:xfrm>
                          <a:off x="6460920" y="3499200"/>
                          <a:ext cx="581760" cy="565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850" name="Oval 17"/>
                        <p:cNvSpPr/>
                        <p:nvPr/>
                      </p:nvSpPr>
                      <p:spPr>
                        <a:xfrm>
                          <a:off x="6696000" y="2812680"/>
                          <a:ext cx="469440" cy="4507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851" name="Oval 18"/>
                        <p:cNvSpPr/>
                        <p:nvPr/>
                      </p:nvSpPr>
                      <p:spPr>
                        <a:xfrm>
                          <a:off x="6342120" y="2464920"/>
                          <a:ext cx="592560" cy="5752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852" name="Freeform 19"/>
                        <p:cNvSpPr/>
                        <p:nvPr/>
                      </p:nvSpPr>
                      <p:spPr>
                        <a:xfrm>
                          <a:off x="6710760" y="2821680"/>
                          <a:ext cx="400680" cy="914040"/>
                        </a:xfrm>
                        <a:custGeom>
                          <a:avLst/>
                          <a:gdLst>
                            <a:gd name="textAreaLeft" fmla="*/ 0 w 400680"/>
                            <a:gd name="textAreaRight" fmla="*/ 401040 w 400680"/>
                            <a:gd name="textAreaTop" fmla="*/ 0 h 914040"/>
                            <a:gd name="textAreaBottom" fmla="*/ 914400 h 914040"/>
                          </a:gdLst>
                          <a:ahLst/>
                          <a:rect l="textAreaLeft" t="textAreaTop" r="textAreaRight" b="textAreaBottom"/>
                          <a:pathLst>
                            <a:path w="223" h="410">
                              <a:moveTo>
                                <a:pt x="223" y="408"/>
                              </a:moveTo>
                              <a:lnTo>
                                <a:pt x="130" y="410"/>
                              </a:lnTo>
                              <a:lnTo>
                                <a:pt x="0" y="0"/>
                              </a:lnTo>
                              <a:lnTo>
                                <a:pt x="139" y="32"/>
                              </a:lnTo>
                              <a:lnTo>
                                <a:pt x="142" y="233"/>
                              </a:lnTo>
                              <a:lnTo>
                                <a:pt x="223" y="40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sp>
                    <p:nvSpPr>
                      <p:cNvPr id="853" name="Oval 20"/>
                      <p:cNvSpPr/>
                      <p:nvPr/>
                    </p:nvSpPr>
                    <p:spPr>
                      <a:xfrm>
                        <a:off x="6222600" y="2928960"/>
                        <a:ext cx="825120" cy="7981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54" name="Oval 21"/>
                      <p:cNvSpPr/>
                      <p:nvPr/>
                    </p:nvSpPr>
                    <p:spPr>
                      <a:xfrm>
                        <a:off x="6222600" y="3384360"/>
                        <a:ext cx="589680" cy="5752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855" name="Freeform 22"/>
                      <p:cNvSpPr/>
                      <p:nvPr/>
                    </p:nvSpPr>
                    <p:spPr>
                      <a:xfrm>
                        <a:off x="6403680" y="2719800"/>
                        <a:ext cx="419040" cy="984960"/>
                      </a:xfrm>
                      <a:custGeom>
                        <a:avLst/>
                        <a:gdLst>
                          <a:gd name="textAreaLeft" fmla="*/ 0 w 419040"/>
                          <a:gd name="textAreaRight" fmla="*/ 419400 w 419040"/>
                          <a:gd name="textAreaTop" fmla="*/ 0 h 984960"/>
                          <a:gd name="textAreaBottom" fmla="*/ 985320 h 984960"/>
                        </a:gdLst>
                        <a:ahLst/>
                        <a:rect l="textAreaLeft" t="textAreaTop" r="textAreaRight" b="textAreaBottom"/>
                        <a:pathLst>
                          <a:path w="233" h="442">
                            <a:moveTo>
                              <a:pt x="212" y="74"/>
                            </a:moveTo>
                            <a:lnTo>
                              <a:pt x="186" y="169"/>
                            </a:lnTo>
                            <a:lnTo>
                              <a:pt x="233" y="382"/>
                            </a:lnTo>
                            <a:lnTo>
                              <a:pt x="140" y="442"/>
                            </a:lnTo>
                            <a:lnTo>
                              <a:pt x="0" y="186"/>
                            </a:lnTo>
                            <a:lnTo>
                              <a:pt x="112" y="0"/>
                            </a:lnTo>
                            <a:lnTo>
                              <a:pt x="212" y="74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856" name="Oval 23"/>
                    <p:cNvSpPr/>
                    <p:nvPr/>
                  </p:nvSpPr>
                  <p:spPr>
                    <a:xfrm>
                      <a:off x="6222600" y="3844440"/>
                      <a:ext cx="470880" cy="455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857" name="Oval 24"/>
                    <p:cNvSpPr/>
                    <p:nvPr/>
                  </p:nvSpPr>
                  <p:spPr>
                    <a:xfrm>
                      <a:off x="5872320" y="2349720"/>
                      <a:ext cx="589320" cy="575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858" name="Freeform 25"/>
                    <p:cNvSpPr/>
                    <p:nvPr/>
                  </p:nvSpPr>
                  <p:spPr>
                    <a:xfrm>
                      <a:off x="6363720" y="3755160"/>
                      <a:ext cx="315000" cy="205200"/>
                    </a:xfrm>
                    <a:custGeom>
                      <a:avLst/>
                      <a:gdLst>
                        <a:gd name="textAreaLeft" fmla="*/ 0 w 315000"/>
                        <a:gd name="textAreaRight" fmla="*/ 315360 w 315000"/>
                        <a:gd name="textAreaTop" fmla="*/ 0 h 205200"/>
                        <a:gd name="textAreaBottom" fmla="*/ 205560 h 205200"/>
                      </a:gdLst>
                      <a:ahLst/>
                      <a:rect l="textAreaLeft" t="textAreaTop" r="textAreaRight" b="textAreaBottom"/>
                      <a:pathLst>
                        <a:path w="174" h="92">
                          <a:moveTo>
                            <a:pt x="174" y="58"/>
                          </a:moveTo>
                          <a:lnTo>
                            <a:pt x="121" y="92"/>
                          </a:lnTo>
                          <a:lnTo>
                            <a:pt x="0" y="46"/>
                          </a:lnTo>
                          <a:lnTo>
                            <a:pt x="121" y="0"/>
                          </a:lnTo>
                          <a:lnTo>
                            <a:pt x="174" y="58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859" name="Freeform 26"/>
                  <p:cNvSpPr/>
                  <p:nvPr/>
                </p:nvSpPr>
                <p:spPr>
                  <a:xfrm>
                    <a:off x="6320520" y="2612880"/>
                    <a:ext cx="188640" cy="325800"/>
                  </a:xfrm>
                  <a:custGeom>
                    <a:avLst/>
                    <a:gdLst>
                      <a:gd name="textAreaLeft" fmla="*/ 0 w 188640"/>
                      <a:gd name="textAreaRight" fmla="*/ 189000 w 188640"/>
                      <a:gd name="textAreaTop" fmla="*/ 0 h 325800"/>
                      <a:gd name="textAreaBottom" fmla="*/ 326160 h 325800"/>
                    </a:gdLst>
                    <a:ahLst/>
                    <a:rect l="textAreaLeft" t="textAreaTop" r="textAreaRight" b="textAreaBottom"/>
                    <a:pathLst>
                      <a:path w="103" h="145">
                        <a:moveTo>
                          <a:pt x="52" y="0"/>
                        </a:moveTo>
                        <a:lnTo>
                          <a:pt x="103" y="3"/>
                        </a:lnTo>
                        <a:lnTo>
                          <a:pt x="82" y="145"/>
                        </a:lnTo>
                        <a:lnTo>
                          <a:pt x="0" y="117"/>
                        </a:lnTo>
                        <a:lnTo>
                          <a:pt x="5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860" name="Group 27"/>
                <p:cNvGrpSpPr/>
                <p:nvPr/>
              </p:nvGrpSpPr>
              <p:grpSpPr>
                <a:xfrm>
                  <a:off x="5397480" y="2010600"/>
                  <a:ext cx="1296360" cy="2405160"/>
                  <a:chOff x="5397480" y="2010600"/>
                  <a:chExt cx="1296360" cy="2405160"/>
                </a:xfrm>
              </p:grpSpPr>
              <p:sp>
                <p:nvSpPr>
                  <p:cNvPr id="861" name="Oval 28"/>
                  <p:cNvSpPr/>
                  <p:nvPr/>
                </p:nvSpPr>
                <p:spPr>
                  <a:xfrm>
                    <a:off x="5513040" y="3385440"/>
                    <a:ext cx="1064880" cy="1030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62" name="Oval 29"/>
                  <p:cNvSpPr/>
                  <p:nvPr/>
                </p:nvSpPr>
                <p:spPr>
                  <a:xfrm>
                    <a:off x="5632920" y="2697840"/>
                    <a:ext cx="1060920" cy="1030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63" name="Oval 30"/>
                  <p:cNvSpPr/>
                  <p:nvPr/>
                </p:nvSpPr>
                <p:spPr>
                  <a:xfrm>
                    <a:off x="5397480" y="2010600"/>
                    <a:ext cx="829080" cy="802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64" name="Oval 31"/>
                  <p:cNvSpPr/>
                  <p:nvPr/>
                </p:nvSpPr>
                <p:spPr>
                  <a:xfrm>
                    <a:off x="5871960" y="2464920"/>
                    <a:ext cx="470520" cy="455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65" name="Freeform 32"/>
                  <p:cNvSpPr/>
                  <p:nvPr/>
                </p:nvSpPr>
                <p:spPr>
                  <a:xfrm>
                    <a:off x="5639400" y="2388960"/>
                    <a:ext cx="713520" cy="892800"/>
                  </a:xfrm>
                  <a:custGeom>
                    <a:avLst/>
                    <a:gdLst>
                      <a:gd name="textAreaLeft" fmla="*/ 0 w 713520"/>
                      <a:gd name="textAreaRight" fmla="*/ 713880 w 713520"/>
                      <a:gd name="textAreaTop" fmla="*/ 0 h 892800"/>
                      <a:gd name="textAreaBottom" fmla="*/ 893160 h 892800"/>
                    </a:gdLst>
                    <a:ahLst/>
                    <a:rect l="textAreaLeft" t="textAreaTop" r="textAreaRight" b="textAreaBottom"/>
                    <a:pathLst>
                      <a:path w="395" h="401">
                        <a:moveTo>
                          <a:pt x="281" y="16"/>
                        </a:moveTo>
                        <a:lnTo>
                          <a:pt x="276" y="64"/>
                        </a:lnTo>
                        <a:lnTo>
                          <a:pt x="370" y="153"/>
                        </a:lnTo>
                        <a:lnTo>
                          <a:pt x="395" y="163"/>
                        </a:lnTo>
                        <a:lnTo>
                          <a:pt x="256" y="401"/>
                        </a:lnTo>
                        <a:lnTo>
                          <a:pt x="0" y="0"/>
                        </a:lnTo>
                        <a:lnTo>
                          <a:pt x="281" y="1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66" name="Freeform 33"/>
                  <p:cNvSpPr/>
                  <p:nvPr/>
                </p:nvSpPr>
                <p:spPr>
                  <a:xfrm>
                    <a:off x="5972760" y="3581640"/>
                    <a:ext cx="466920" cy="272160"/>
                  </a:xfrm>
                  <a:custGeom>
                    <a:avLst/>
                    <a:gdLst>
                      <a:gd name="textAreaLeft" fmla="*/ 0 w 466920"/>
                      <a:gd name="textAreaRight" fmla="*/ 467280 w 466920"/>
                      <a:gd name="textAreaTop" fmla="*/ 0 h 272160"/>
                      <a:gd name="textAreaBottom" fmla="*/ 272520 h 272160"/>
                    </a:gdLst>
                    <a:ahLst/>
                    <a:rect l="textAreaLeft" t="textAreaTop" r="textAreaRight" b="textAreaBottom"/>
                    <a:pathLst>
                      <a:path w="258" h="121">
                        <a:moveTo>
                          <a:pt x="230" y="16"/>
                        </a:moveTo>
                        <a:lnTo>
                          <a:pt x="258" y="53"/>
                        </a:lnTo>
                        <a:lnTo>
                          <a:pt x="0" y="121"/>
                        </a:lnTo>
                        <a:lnTo>
                          <a:pt x="7" y="0"/>
                        </a:lnTo>
                        <a:lnTo>
                          <a:pt x="230" y="1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867" name="Oval 34"/>
                <p:cNvSpPr/>
                <p:nvPr/>
              </p:nvSpPr>
              <p:spPr>
                <a:xfrm>
                  <a:off x="5397480" y="4077360"/>
                  <a:ext cx="590760" cy="572040"/>
                </a:xfrm>
                <a:prstGeom prst="ellipse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68" name="Freeform 35"/>
                <p:cNvSpPr/>
                <p:nvPr/>
              </p:nvSpPr>
              <p:spPr>
                <a:xfrm>
                  <a:off x="5774400" y="4028760"/>
                  <a:ext cx="321840" cy="311760"/>
                </a:xfrm>
                <a:custGeom>
                  <a:avLst/>
                  <a:gdLst>
                    <a:gd name="textAreaLeft" fmla="*/ 0 w 321840"/>
                    <a:gd name="textAreaRight" fmla="*/ 322200 w 321840"/>
                    <a:gd name="textAreaTop" fmla="*/ 0 h 311760"/>
                    <a:gd name="textAreaBottom" fmla="*/ 312120 h 311760"/>
                  </a:gdLst>
                  <a:ahLst/>
                  <a:rect l="textAreaLeft" t="textAreaTop" r="textAreaRight" b="textAreaBottom"/>
                  <a:pathLst>
                    <a:path w="177" h="140">
                      <a:moveTo>
                        <a:pt x="72" y="140"/>
                      </a:moveTo>
                      <a:lnTo>
                        <a:pt x="177" y="92"/>
                      </a:lnTo>
                      <a:lnTo>
                        <a:pt x="56" y="0"/>
                      </a:lnTo>
                      <a:lnTo>
                        <a:pt x="0" y="50"/>
                      </a:lnTo>
                      <a:lnTo>
                        <a:pt x="72" y="14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69" name="Oval 36"/>
              <p:cNvSpPr/>
              <p:nvPr/>
            </p:nvSpPr>
            <p:spPr>
              <a:xfrm>
                <a:off x="4245120" y="4596840"/>
                <a:ext cx="706680" cy="68256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0" name="Oval 37"/>
              <p:cNvSpPr/>
              <p:nvPr/>
            </p:nvSpPr>
            <p:spPr>
              <a:xfrm>
                <a:off x="4806360" y="4596840"/>
                <a:ext cx="590760" cy="57132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1" name="Oval 38"/>
              <p:cNvSpPr/>
              <p:nvPr/>
            </p:nvSpPr>
            <p:spPr>
              <a:xfrm>
                <a:off x="5129280" y="4409280"/>
                <a:ext cx="594000" cy="5752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2" name="Freeform 39"/>
              <p:cNvSpPr/>
              <p:nvPr/>
            </p:nvSpPr>
            <p:spPr>
              <a:xfrm>
                <a:off x="4669200" y="4333320"/>
                <a:ext cx="1144800" cy="758520"/>
              </a:xfrm>
              <a:custGeom>
                <a:avLst/>
                <a:gdLst>
                  <a:gd name="textAreaLeft" fmla="*/ 0 w 1144800"/>
                  <a:gd name="textAreaRight" fmla="*/ 1145160 w 1144800"/>
                  <a:gd name="textAreaTop" fmla="*/ 0 h 758520"/>
                  <a:gd name="textAreaBottom" fmla="*/ 758880 h 758520"/>
                </a:gdLst>
                <a:ahLst/>
                <a:rect l="textAreaLeft" t="textAreaTop" r="textAreaRight" b="textAreaBottom"/>
                <a:pathLst>
                  <a:path w="633" h="339">
                    <a:moveTo>
                      <a:pt x="589" y="98"/>
                    </a:moveTo>
                    <a:lnTo>
                      <a:pt x="531" y="121"/>
                    </a:lnTo>
                    <a:lnTo>
                      <a:pt x="361" y="255"/>
                    </a:lnTo>
                    <a:lnTo>
                      <a:pt x="321" y="313"/>
                    </a:lnTo>
                    <a:lnTo>
                      <a:pt x="133" y="313"/>
                    </a:lnTo>
                    <a:lnTo>
                      <a:pt x="93" y="339"/>
                    </a:lnTo>
                    <a:lnTo>
                      <a:pt x="0" y="239"/>
                    </a:lnTo>
                    <a:lnTo>
                      <a:pt x="428" y="0"/>
                    </a:lnTo>
                    <a:lnTo>
                      <a:pt x="633" y="54"/>
                    </a:lnTo>
                    <a:lnTo>
                      <a:pt x="589" y="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73" name="Group 40"/>
            <p:cNvGrpSpPr/>
            <p:nvPr/>
          </p:nvGrpSpPr>
          <p:grpSpPr>
            <a:xfrm>
              <a:off x="0" y="2027880"/>
              <a:ext cx="1847160" cy="2282040"/>
              <a:chOff x="0" y="2027880"/>
              <a:chExt cx="1847160" cy="2282040"/>
            </a:xfrm>
          </p:grpSpPr>
          <p:grpSp>
            <p:nvGrpSpPr>
              <p:cNvPr id="874" name="Group 41"/>
              <p:cNvGrpSpPr/>
              <p:nvPr/>
            </p:nvGrpSpPr>
            <p:grpSpPr>
              <a:xfrm>
                <a:off x="0" y="2349720"/>
                <a:ext cx="1017360" cy="1378800"/>
                <a:chOff x="0" y="2349720"/>
                <a:chExt cx="1017360" cy="1378800"/>
              </a:xfrm>
            </p:grpSpPr>
            <p:sp>
              <p:nvSpPr>
                <p:cNvPr id="875" name="Oval 42"/>
                <p:cNvSpPr/>
                <p:nvPr/>
              </p:nvSpPr>
              <p:spPr>
                <a:xfrm>
                  <a:off x="0" y="2813040"/>
                  <a:ext cx="470520" cy="451440"/>
                </a:xfrm>
                <a:prstGeom prst="ellipse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6" name="Oval 43"/>
                <p:cNvSpPr/>
                <p:nvPr/>
              </p:nvSpPr>
              <p:spPr>
                <a:xfrm>
                  <a:off x="76320" y="3157560"/>
                  <a:ext cx="589680" cy="570960"/>
                </a:xfrm>
                <a:prstGeom prst="ellipse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7" name="Oval 44"/>
                <p:cNvSpPr/>
                <p:nvPr/>
              </p:nvSpPr>
              <p:spPr>
                <a:xfrm>
                  <a:off x="187920" y="2349720"/>
                  <a:ext cx="829440" cy="802800"/>
                </a:xfrm>
                <a:prstGeom prst="ellipse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8" name="Freeform 45"/>
                <p:cNvSpPr/>
                <p:nvPr/>
              </p:nvSpPr>
              <p:spPr>
                <a:xfrm>
                  <a:off x="144360" y="2872080"/>
                  <a:ext cx="311760" cy="437040"/>
                </a:xfrm>
                <a:custGeom>
                  <a:avLst/>
                  <a:gdLst>
                    <a:gd name="textAreaLeft" fmla="*/ 0 w 311760"/>
                    <a:gd name="textAreaRight" fmla="*/ 311760 w 311760"/>
                    <a:gd name="textAreaTop" fmla="*/ 0 h 437040"/>
                    <a:gd name="textAreaBottom" fmla="*/ 437400 h 437040"/>
                  </a:gdLst>
                  <a:ahLst/>
                  <a:rect l="textAreaLeft" t="textAreaTop" r="textAreaRight" b="textAreaBottom"/>
                  <a:pathLst>
                    <a:path w="172" h="197">
                      <a:moveTo>
                        <a:pt x="100" y="0"/>
                      </a:moveTo>
                      <a:lnTo>
                        <a:pt x="0" y="38"/>
                      </a:lnTo>
                      <a:lnTo>
                        <a:pt x="3" y="158"/>
                      </a:lnTo>
                      <a:lnTo>
                        <a:pt x="37" y="197"/>
                      </a:lnTo>
                      <a:lnTo>
                        <a:pt x="172" y="158"/>
                      </a:lnTo>
                      <a:lnTo>
                        <a:pt x="10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79" name="Group 46"/>
              <p:cNvGrpSpPr/>
              <p:nvPr/>
            </p:nvGrpSpPr>
            <p:grpSpPr>
              <a:xfrm>
                <a:off x="311400" y="2027880"/>
                <a:ext cx="1535760" cy="2282040"/>
                <a:chOff x="311400" y="2027880"/>
                <a:chExt cx="1535760" cy="2282040"/>
              </a:xfrm>
            </p:grpSpPr>
            <p:sp>
              <p:nvSpPr>
                <p:cNvPr id="880" name="Oval 47"/>
                <p:cNvSpPr/>
                <p:nvPr/>
              </p:nvSpPr>
              <p:spPr>
                <a:xfrm>
                  <a:off x="781920" y="2121840"/>
                  <a:ext cx="1065240" cy="1030680"/>
                </a:xfrm>
                <a:prstGeom prst="ellipse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1" name="Oval 48"/>
                <p:cNvSpPr/>
                <p:nvPr/>
              </p:nvSpPr>
              <p:spPr>
                <a:xfrm>
                  <a:off x="311400" y="2813400"/>
                  <a:ext cx="590400" cy="572040"/>
                </a:xfrm>
                <a:prstGeom prst="ellipse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2" name="Oval 49"/>
                <p:cNvSpPr/>
                <p:nvPr/>
              </p:nvSpPr>
              <p:spPr>
                <a:xfrm>
                  <a:off x="426960" y="3157920"/>
                  <a:ext cx="832680" cy="803880"/>
                </a:xfrm>
                <a:prstGeom prst="ellipse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3" name="Oval 50"/>
                <p:cNvSpPr/>
                <p:nvPr/>
              </p:nvSpPr>
              <p:spPr>
                <a:xfrm>
                  <a:off x="662760" y="3501000"/>
                  <a:ext cx="829440" cy="808920"/>
                </a:xfrm>
                <a:prstGeom prst="ellipse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4" name="Oval 51"/>
                <p:cNvSpPr/>
                <p:nvPr/>
              </p:nvSpPr>
              <p:spPr>
                <a:xfrm>
                  <a:off x="724320" y="2599920"/>
                  <a:ext cx="742320" cy="696600"/>
                </a:xfrm>
                <a:prstGeom prst="ellipse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5" name="Oval 52"/>
                <p:cNvSpPr/>
                <p:nvPr/>
              </p:nvSpPr>
              <p:spPr>
                <a:xfrm>
                  <a:off x="1315080" y="2027880"/>
                  <a:ext cx="470520" cy="455400"/>
                </a:xfrm>
                <a:prstGeom prst="ellipse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6" name="Freeform 53"/>
                <p:cNvSpPr/>
                <p:nvPr/>
              </p:nvSpPr>
              <p:spPr>
                <a:xfrm>
                  <a:off x="956160" y="2474280"/>
                  <a:ext cx="518040" cy="366480"/>
                </a:xfrm>
                <a:custGeom>
                  <a:avLst/>
                  <a:gdLst>
                    <a:gd name="textAreaLeft" fmla="*/ 0 w 518040"/>
                    <a:gd name="textAreaRight" fmla="*/ 518400 w 518040"/>
                    <a:gd name="textAreaTop" fmla="*/ 0 h 366480"/>
                    <a:gd name="textAreaBottom" fmla="*/ 366840 h 366480"/>
                  </a:gdLst>
                  <a:ahLst/>
                  <a:rect l="textAreaLeft" t="textAreaTop" r="textAreaRight" b="textAreaBottom"/>
                  <a:pathLst>
                    <a:path w="288" h="162">
                      <a:moveTo>
                        <a:pt x="0" y="44"/>
                      </a:moveTo>
                      <a:lnTo>
                        <a:pt x="37" y="121"/>
                      </a:lnTo>
                      <a:lnTo>
                        <a:pt x="288" y="162"/>
                      </a:lnTo>
                      <a:lnTo>
                        <a:pt x="288" y="60"/>
                      </a:lnTo>
                      <a:lnTo>
                        <a:pt x="18" y="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7" name="Freeform 54"/>
                <p:cNvSpPr/>
                <p:nvPr/>
              </p:nvSpPr>
              <p:spPr>
                <a:xfrm>
                  <a:off x="474840" y="3063600"/>
                  <a:ext cx="593640" cy="709560"/>
                </a:xfrm>
                <a:custGeom>
                  <a:avLst/>
                  <a:gdLst>
                    <a:gd name="textAreaLeft" fmla="*/ 0 w 593640"/>
                    <a:gd name="textAreaRight" fmla="*/ 594000 w 593640"/>
                    <a:gd name="textAreaTop" fmla="*/ 0 h 709560"/>
                    <a:gd name="textAreaBottom" fmla="*/ 709920 h 709560"/>
                  </a:gdLst>
                  <a:ahLst/>
                  <a:rect l="textAreaLeft" t="textAreaTop" r="textAreaRight" b="textAreaBottom"/>
                  <a:pathLst>
                    <a:path w="328" h="317">
                      <a:moveTo>
                        <a:pt x="204" y="0"/>
                      </a:moveTo>
                      <a:lnTo>
                        <a:pt x="0" y="80"/>
                      </a:lnTo>
                      <a:lnTo>
                        <a:pt x="85" y="144"/>
                      </a:lnTo>
                      <a:lnTo>
                        <a:pt x="97" y="299"/>
                      </a:lnTo>
                      <a:lnTo>
                        <a:pt x="146" y="317"/>
                      </a:lnTo>
                      <a:lnTo>
                        <a:pt x="316" y="219"/>
                      </a:lnTo>
                      <a:lnTo>
                        <a:pt x="328" y="32"/>
                      </a:lnTo>
                      <a:lnTo>
                        <a:pt x="20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88" name="Freeform 55"/>
              <p:cNvSpPr/>
              <p:nvPr/>
            </p:nvSpPr>
            <p:spPr>
              <a:xfrm>
                <a:off x="1293120" y="2273760"/>
                <a:ext cx="329400" cy="356400"/>
              </a:xfrm>
              <a:custGeom>
                <a:avLst/>
                <a:gdLst>
                  <a:gd name="textAreaLeft" fmla="*/ 0 w 329400"/>
                  <a:gd name="textAreaRight" fmla="*/ 329760 w 329400"/>
                  <a:gd name="textAreaTop" fmla="*/ 0 h 356400"/>
                  <a:gd name="textAreaBottom" fmla="*/ 356760 h 356400"/>
                </a:gdLst>
                <a:ahLst/>
                <a:rect l="textAreaLeft" t="textAreaTop" r="textAreaRight" b="textAreaBottom"/>
                <a:pathLst>
                  <a:path w="180" h="160">
                    <a:moveTo>
                      <a:pt x="0" y="87"/>
                    </a:moveTo>
                    <a:lnTo>
                      <a:pt x="77" y="0"/>
                    </a:lnTo>
                    <a:lnTo>
                      <a:pt x="180" y="87"/>
                    </a:lnTo>
                    <a:lnTo>
                      <a:pt x="93" y="160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89" name="Group 56"/>
            <p:cNvGrpSpPr/>
            <p:nvPr/>
          </p:nvGrpSpPr>
          <p:grpSpPr>
            <a:xfrm>
              <a:off x="902520" y="1662120"/>
              <a:ext cx="5324760" cy="3796920"/>
              <a:chOff x="902520" y="1662120"/>
              <a:chExt cx="5324760" cy="3796920"/>
            </a:xfrm>
          </p:grpSpPr>
          <p:sp>
            <p:nvSpPr>
              <p:cNvPr id="890" name="Oval 57"/>
              <p:cNvSpPr/>
              <p:nvPr/>
            </p:nvSpPr>
            <p:spPr>
              <a:xfrm>
                <a:off x="2558880" y="1777320"/>
                <a:ext cx="1301040" cy="126432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1" name="Oval 58"/>
              <p:cNvSpPr/>
              <p:nvPr/>
            </p:nvSpPr>
            <p:spPr>
              <a:xfrm>
                <a:off x="3624840" y="1662120"/>
                <a:ext cx="1062000" cy="103140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2" name="Oval 59"/>
              <p:cNvSpPr/>
              <p:nvPr/>
            </p:nvSpPr>
            <p:spPr>
              <a:xfrm>
                <a:off x="4570920" y="2698560"/>
                <a:ext cx="1656360" cy="161280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3" name="Oval 60"/>
              <p:cNvSpPr/>
              <p:nvPr/>
            </p:nvSpPr>
            <p:spPr>
              <a:xfrm>
                <a:off x="1493280" y="3386520"/>
                <a:ext cx="1892160" cy="18406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4" name="Oval 61"/>
              <p:cNvSpPr/>
              <p:nvPr/>
            </p:nvSpPr>
            <p:spPr>
              <a:xfrm>
                <a:off x="4095720" y="3618360"/>
                <a:ext cx="1416960" cy="137556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5" name="Oval 62"/>
              <p:cNvSpPr/>
              <p:nvPr/>
            </p:nvSpPr>
            <p:spPr>
              <a:xfrm>
                <a:off x="1018080" y="3735000"/>
                <a:ext cx="1065240" cy="10270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6" name="Oval 63"/>
              <p:cNvSpPr/>
              <p:nvPr/>
            </p:nvSpPr>
            <p:spPr>
              <a:xfrm>
                <a:off x="902520" y="2930400"/>
                <a:ext cx="1062000" cy="10270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7" name="Oval 64"/>
              <p:cNvSpPr/>
              <p:nvPr/>
            </p:nvSpPr>
            <p:spPr>
              <a:xfrm>
                <a:off x="1377360" y="2010600"/>
                <a:ext cx="1656360" cy="160380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8" name="Oval 65"/>
              <p:cNvSpPr/>
              <p:nvPr/>
            </p:nvSpPr>
            <p:spPr>
              <a:xfrm>
                <a:off x="2797920" y="3846240"/>
                <a:ext cx="1652760" cy="161280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9" name="Oval 66"/>
              <p:cNvSpPr/>
              <p:nvPr/>
            </p:nvSpPr>
            <p:spPr>
              <a:xfrm>
                <a:off x="4806000" y="2121840"/>
                <a:ext cx="1301040" cy="126432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0" name="Oval 67"/>
              <p:cNvSpPr/>
              <p:nvPr/>
            </p:nvSpPr>
            <p:spPr>
              <a:xfrm>
                <a:off x="4451040" y="1662120"/>
                <a:ext cx="1181880" cy="11426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1" name="Freeform 68"/>
              <p:cNvSpPr/>
              <p:nvPr/>
            </p:nvSpPr>
            <p:spPr>
              <a:xfrm>
                <a:off x="1333800" y="1964880"/>
                <a:ext cx="4592520" cy="3002760"/>
              </a:xfrm>
              <a:custGeom>
                <a:avLst/>
                <a:gdLst>
                  <a:gd name="textAreaLeft" fmla="*/ 0 w 4592520"/>
                  <a:gd name="textAreaRight" fmla="*/ 4592880 w 4592520"/>
                  <a:gd name="textAreaTop" fmla="*/ 0 h 3002760"/>
                  <a:gd name="textAreaBottom" fmla="*/ 3003120 h 3002760"/>
                </a:gdLst>
                <a:ahLst/>
                <a:rect l="textAreaLeft" t="textAreaTop" r="textAreaRight" b="textAreaBottom"/>
                <a:pathLst>
                  <a:path w="2534" h="1343">
                    <a:moveTo>
                      <a:pt x="782" y="135"/>
                    </a:moveTo>
                    <a:lnTo>
                      <a:pt x="887" y="38"/>
                    </a:lnTo>
                    <a:lnTo>
                      <a:pt x="1361" y="45"/>
                    </a:lnTo>
                    <a:lnTo>
                      <a:pt x="1696" y="0"/>
                    </a:lnTo>
                    <a:lnTo>
                      <a:pt x="2118" y="161"/>
                    </a:lnTo>
                    <a:lnTo>
                      <a:pt x="2331" y="116"/>
                    </a:lnTo>
                    <a:lnTo>
                      <a:pt x="2445" y="135"/>
                    </a:lnTo>
                    <a:lnTo>
                      <a:pt x="2469" y="534"/>
                    </a:lnTo>
                    <a:lnTo>
                      <a:pt x="2534" y="598"/>
                    </a:lnTo>
                    <a:lnTo>
                      <a:pt x="2339" y="907"/>
                    </a:lnTo>
                    <a:lnTo>
                      <a:pt x="2127" y="695"/>
                    </a:lnTo>
                    <a:lnTo>
                      <a:pt x="2069" y="804"/>
                    </a:lnTo>
                    <a:lnTo>
                      <a:pt x="1769" y="1227"/>
                    </a:lnTo>
                    <a:lnTo>
                      <a:pt x="766" y="1343"/>
                    </a:lnTo>
                    <a:lnTo>
                      <a:pt x="245" y="1261"/>
                    </a:lnTo>
                    <a:lnTo>
                      <a:pt x="81" y="997"/>
                    </a:lnTo>
                    <a:lnTo>
                      <a:pt x="81" y="727"/>
                    </a:lnTo>
                    <a:lnTo>
                      <a:pt x="0" y="502"/>
                    </a:lnTo>
                    <a:lnTo>
                      <a:pt x="782" y="1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02" name="Rectangle 69"/>
          <p:cNvSpPr/>
          <p:nvPr/>
        </p:nvSpPr>
        <p:spPr>
          <a:xfrm>
            <a:off x="1284120" y="2179800"/>
            <a:ext cx="464364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99"/>
                </a:solidFill>
                <a:latin typeface="Calibri"/>
              </a:rPr>
              <a:t>¿Cómo se representan las clases en un diagrama de clases para aplicaciones web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3" name="64 Imagen" descr="Imagen1.jpg"/>
          <p:cNvPicPr/>
          <p:nvPr/>
        </p:nvPicPr>
        <p:blipFill>
          <a:blip r:embed="rId1"/>
          <a:stretch/>
        </p:blipFill>
        <p:spPr>
          <a:xfrm>
            <a:off x="7413480" y="1057320"/>
            <a:ext cx="160020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4" name="1 Imagen" descr=""/>
          <p:cNvPicPr/>
          <p:nvPr/>
        </p:nvPicPr>
        <p:blipFill>
          <a:blip r:embed="rId1"/>
          <a:stretch/>
        </p:blipFill>
        <p:spPr>
          <a:xfrm>
            <a:off x="0" y="507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5" name="1 CuadroTexto"/>
          <p:cNvSpPr/>
          <p:nvPr/>
        </p:nvSpPr>
        <p:spPr>
          <a:xfrm>
            <a:off x="3019680" y="69840"/>
            <a:ext cx="30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000"/>
                </a:solidFill>
                <a:latin typeface="Calibri"/>
              </a:rPr>
              <a:t>Pagina Servid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Rectangle 3"/>
          <p:cNvSpPr/>
          <p:nvPr/>
        </p:nvSpPr>
        <p:spPr>
          <a:xfrm>
            <a:off x="684360" y="1413000"/>
            <a:ext cx="7775280" cy="13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Representa la página Web que tiene 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código que se ejecuta en el servido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7" name="Picture 5" descr=""/>
          <p:cNvPicPr/>
          <p:nvPr/>
        </p:nvPicPr>
        <p:blipFill>
          <a:blip r:embed="rId2"/>
          <a:stretch/>
        </p:blipFill>
        <p:spPr>
          <a:xfrm>
            <a:off x="1042920" y="3213000"/>
            <a:ext cx="3943440" cy="259236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6" descr=""/>
          <p:cNvPicPr/>
          <p:nvPr/>
        </p:nvPicPr>
        <p:blipFill>
          <a:blip r:embed="rId3"/>
          <a:stretch/>
        </p:blipFill>
        <p:spPr>
          <a:xfrm>
            <a:off x="5364000" y="3240000"/>
            <a:ext cx="2592720" cy="2363760"/>
          </a:xfrm>
          <a:prstGeom prst="rect">
            <a:avLst/>
          </a:prstGeom>
          <a:ln w="0">
            <a:noFill/>
          </a:ln>
        </p:spPr>
      </p:pic>
      <p:sp>
        <p:nvSpPr>
          <p:cNvPr id="909" name="AutoShape 9"/>
          <p:cNvSpPr/>
          <p:nvPr/>
        </p:nvSpPr>
        <p:spPr>
          <a:xfrm>
            <a:off x="3851280" y="5675400"/>
            <a:ext cx="1906560" cy="609480"/>
          </a:xfrm>
          <a:prstGeom prst="borderCallout2">
            <a:avLst>
              <a:gd name="adj1" fmla="val 18750"/>
              <a:gd name="adj2" fmla="val -8333"/>
              <a:gd name="adj3" fmla="val -23250"/>
              <a:gd name="adj4" fmla="val -26893"/>
              <a:gd name="adj5" fmla="val -141856"/>
              <a:gd name="adj6" fmla="val -43824"/>
            </a:avLst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Atribut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AutoShape 10"/>
          <p:cNvSpPr/>
          <p:nvPr/>
        </p:nvSpPr>
        <p:spPr>
          <a:xfrm flipH="1">
            <a:off x="277920" y="5854680"/>
            <a:ext cx="273672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4388"/>
              <a:gd name="adj5" fmla="val -78273"/>
              <a:gd name="adj6" fmla="val 606"/>
            </a:avLst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Operacio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1" name="1 Imagen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2" name="1 CuadroTexto"/>
          <p:cNvSpPr/>
          <p:nvPr/>
        </p:nvSpPr>
        <p:spPr>
          <a:xfrm>
            <a:off x="3429360" y="9360"/>
            <a:ext cx="275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000"/>
                </a:solidFill>
                <a:latin typeface="Calibri"/>
              </a:rPr>
              <a:t>Páginas Cli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Rectangle 4"/>
          <p:cNvSpPr/>
          <p:nvPr/>
        </p:nvSpPr>
        <p:spPr>
          <a:xfrm>
            <a:off x="557280" y="1231920"/>
            <a:ext cx="80280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presenta una página Web, con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formato HTML.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on interpretadas por el navegador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4" name="7 Imagen" descr=""/>
          <p:cNvPicPr/>
          <p:nvPr/>
        </p:nvPicPr>
        <p:blipFill>
          <a:blip r:embed="rId2"/>
          <a:stretch/>
        </p:blipFill>
        <p:spPr>
          <a:xfrm>
            <a:off x="1360440" y="3141720"/>
            <a:ext cx="2376360" cy="2016000"/>
          </a:xfrm>
          <a:prstGeom prst="rect">
            <a:avLst/>
          </a:prstGeom>
          <a:ln w="0">
            <a:noFill/>
          </a:ln>
        </p:spPr>
      </p:pic>
      <p:pic>
        <p:nvPicPr>
          <p:cNvPr id="915" name="8 Imagen" descr=""/>
          <p:cNvPicPr/>
          <p:nvPr/>
        </p:nvPicPr>
        <p:blipFill>
          <a:blip r:embed="rId3"/>
          <a:stretch/>
        </p:blipFill>
        <p:spPr>
          <a:xfrm>
            <a:off x="4788000" y="2944800"/>
            <a:ext cx="2232000" cy="2212920"/>
          </a:xfrm>
          <a:prstGeom prst="rect">
            <a:avLst/>
          </a:prstGeom>
          <a:ln w="0">
            <a:noFill/>
          </a:ln>
        </p:spPr>
      </p:pic>
      <p:sp>
        <p:nvSpPr>
          <p:cNvPr id="916" name="AutoShape 9"/>
          <p:cNvSpPr/>
          <p:nvPr/>
        </p:nvSpPr>
        <p:spPr>
          <a:xfrm>
            <a:off x="3851280" y="5675400"/>
            <a:ext cx="1906560" cy="609480"/>
          </a:xfrm>
          <a:prstGeom prst="borderCallout2">
            <a:avLst>
              <a:gd name="adj1" fmla="val 18750"/>
              <a:gd name="adj2" fmla="val -8333"/>
              <a:gd name="adj3" fmla="val -23250"/>
              <a:gd name="adj4" fmla="val -26893"/>
              <a:gd name="adj5" fmla="val -225856"/>
              <a:gd name="adj6" fmla="val -56300"/>
            </a:avLst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Atribut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AutoShape 10"/>
          <p:cNvSpPr/>
          <p:nvPr/>
        </p:nvSpPr>
        <p:spPr>
          <a:xfrm flipH="1">
            <a:off x="581760" y="5819760"/>
            <a:ext cx="2737080" cy="609480"/>
          </a:xfrm>
          <a:prstGeom prst="borderCallout2">
            <a:avLst>
              <a:gd name="adj1" fmla="val 18750"/>
              <a:gd name="adj2" fmla="val -8333"/>
              <a:gd name="adj3" fmla="val -68250"/>
              <a:gd name="adj4" fmla="val 18351"/>
              <a:gd name="adj5" fmla="val -168273"/>
              <a:gd name="adj6" fmla="val 24662"/>
            </a:avLst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Operacio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1 Imagen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9" name="1 CuadroTexto"/>
          <p:cNvSpPr/>
          <p:nvPr/>
        </p:nvSpPr>
        <p:spPr>
          <a:xfrm>
            <a:off x="5085000" y="23760"/>
            <a:ext cx="22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000"/>
                </a:solidFill>
                <a:latin typeface="Calibri"/>
              </a:rPr>
              <a:t>Formular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Rectangle 4"/>
          <p:cNvSpPr/>
          <p:nvPr/>
        </p:nvSpPr>
        <p:spPr>
          <a:xfrm>
            <a:off x="557280" y="1071720"/>
            <a:ext cx="802944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Colección de </a:t>
            </a:r>
            <a:r>
              <a:rPr b="1" lang="es-ES" sz="2400" spc="-1" strike="noStrike">
                <a:solidFill>
                  <a:srgbClr val="ff0000"/>
                </a:solidFill>
                <a:latin typeface="Calibri"/>
              </a:rPr>
              <a:t>elementos de entrada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que son parte de una página cliente. Sus atributos son los elementos de entrada del formulario. No tienen operacion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1" name="6 Imagen" descr=""/>
          <p:cNvPicPr/>
          <p:nvPr/>
        </p:nvPicPr>
        <p:blipFill>
          <a:blip r:embed="rId2"/>
          <a:stretch/>
        </p:blipFill>
        <p:spPr>
          <a:xfrm>
            <a:off x="1187280" y="3213000"/>
            <a:ext cx="2592720" cy="2303640"/>
          </a:xfrm>
          <a:prstGeom prst="rect">
            <a:avLst/>
          </a:prstGeom>
          <a:ln w="0">
            <a:noFill/>
          </a:ln>
        </p:spPr>
      </p:pic>
      <p:pic>
        <p:nvPicPr>
          <p:cNvPr id="922" name="7 Imagen" descr=""/>
          <p:cNvPicPr/>
          <p:nvPr/>
        </p:nvPicPr>
        <p:blipFill>
          <a:blip r:embed="rId3"/>
          <a:stretch/>
        </p:blipFill>
        <p:spPr>
          <a:xfrm>
            <a:off x="5059440" y="3213000"/>
            <a:ext cx="2243160" cy="2274840"/>
          </a:xfrm>
          <a:prstGeom prst="rect">
            <a:avLst/>
          </a:prstGeom>
          <a:ln w="0">
            <a:noFill/>
          </a:ln>
        </p:spPr>
      </p:pic>
      <p:sp>
        <p:nvSpPr>
          <p:cNvPr id="923" name="AutoShape 9"/>
          <p:cNvSpPr/>
          <p:nvPr/>
        </p:nvSpPr>
        <p:spPr>
          <a:xfrm>
            <a:off x="3851280" y="5819760"/>
            <a:ext cx="2160720" cy="609480"/>
          </a:xfrm>
          <a:prstGeom prst="borderCallout2">
            <a:avLst>
              <a:gd name="adj1" fmla="val 18750"/>
              <a:gd name="adj2" fmla="val -8333"/>
              <a:gd name="adj3" fmla="val -23250"/>
              <a:gd name="adj4" fmla="val -26893"/>
              <a:gd name="adj5" fmla="val -183856"/>
              <a:gd name="adj6" fmla="val -49583"/>
            </a:avLst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Atribu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AutoShape 10"/>
          <p:cNvSpPr/>
          <p:nvPr/>
        </p:nvSpPr>
        <p:spPr>
          <a:xfrm flipH="1">
            <a:off x="581760" y="5819760"/>
            <a:ext cx="2737080" cy="609480"/>
          </a:xfrm>
          <a:prstGeom prst="borderCallout2">
            <a:avLst>
              <a:gd name="adj1" fmla="val 18750"/>
              <a:gd name="adj2" fmla="val -8333"/>
              <a:gd name="adj3" fmla="val -68250"/>
              <a:gd name="adj4" fmla="val 18351"/>
              <a:gd name="adj5" fmla="val -102273"/>
              <a:gd name="adj6" fmla="val 25328"/>
            </a:avLst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alibri"/>
              </a:rPr>
              <a:t>Operacio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5" name="Group 8"/>
          <p:cNvGrpSpPr/>
          <p:nvPr/>
        </p:nvGrpSpPr>
        <p:grpSpPr>
          <a:xfrm>
            <a:off x="0" y="1662120"/>
            <a:ext cx="7281360" cy="3796920"/>
            <a:chOff x="0" y="1662120"/>
            <a:chExt cx="7281360" cy="3796920"/>
          </a:xfrm>
        </p:grpSpPr>
        <p:grpSp>
          <p:nvGrpSpPr>
            <p:cNvPr id="926" name="Group 9"/>
            <p:cNvGrpSpPr/>
            <p:nvPr/>
          </p:nvGrpSpPr>
          <p:grpSpPr>
            <a:xfrm>
              <a:off x="4245120" y="2010600"/>
              <a:ext cx="3036240" cy="3268800"/>
              <a:chOff x="4245120" y="2010600"/>
              <a:chExt cx="3036240" cy="3268800"/>
            </a:xfrm>
          </p:grpSpPr>
          <p:grpSp>
            <p:nvGrpSpPr>
              <p:cNvPr id="927" name="Group 10"/>
              <p:cNvGrpSpPr/>
              <p:nvPr/>
            </p:nvGrpSpPr>
            <p:grpSpPr>
              <a:xfrm>
                <a:off x="5397480" y="2010600"/>
                <a:ext cx="1883880" cy="2638800"/>
                <a:chOff x="5397480" y="2010600"/>
                <a:chExt cx="1883880" cy="2638800"/>
              </a:xfrm>
            </p:grpSpPr>
            <p:grpSp>
              <p:nvGrpSpPr>
                <p:cNvPr id="928" name="Group 11"/>
                <p:cNvGrpSpPr/>
                <p:nvPr/>
              </p:nvGrpSpPr>
              <p:grpSpPr>
                <a:xfrm>
                  <a:off x="5872320" y="2349720"/>
                  <a:ext cx="1409040" cy="1950120"/>
                  <a:chOff x="5872320" y="2349720"/>
                  <a:chExt cx="1409040" cy="1950120"/>
                </a:xfrm>
              </p:grpSpPr>
              <p:grpSp>
                <p:nvGrpSpPr>
                  <p:cNvPr id="929" name="Group 12"/>
                  <p:cNvGrpSpPr/>
                  <p:nvPr/>
                </p:nvGrpSpPr>
                <p:grpSpPr>
                  <a:xfrm>
                    <a:off x="5872320" y="2349720"/>
                    <a:ext cx="1409040" cy="1950120"/>
                    <a:chOff x="5872320" y="2349720"/>
                    <a:chExt cx="1409040" cy="1950120"/>
                  </a:xfrm>
                </p:grpSpPr>
                <p:grpSp>
                  <p:nvGrpSpPr>
                    <p:cNvPr id="930" name="Group 13"/>
                    <p:cNvGrpSpPr/>
                    <p:nvPr/>
                  </p:nvGrpSpPr>
                  <p:grpSpPr>
                    <a:xfrm>
                      <a:off x="6222600" y="2464920"/>
                      <a:ext cx="1058760" cy="1600200"/>
                      <a:chOff x="6222600" y="2464920"/>
                      <a:chExt cx="1058760" cy="1600200"/>
                    </a:xfrm>
                  </p:grpSpPr>
                  <p:grpSp>
                    <p:nvGrpSpPr>
                      <p:cNvPr id="931" name="Group 14"/>
                      <p:cNvGrpSpPr/>
                      <p:nvPr/>
                    </p:nvGrpSpPr>
                    <p:grpSpPr>
                      <a:xfrm>
                        <a:off x="6342120" y="2464920"/>
                        <a:ext cx="939240" cy="1600200"/>
                        <a:chOff x="6342120" y="2464920"/>
                        <a:chExt cx="939240" cy="1600200"/>
                      </a:xfrm>
                    </p:grpSpPr>
                    <p:sp>
                      <p:nvSpPr>
                        <p:cNvPr id="932" name="Oval 15"/>
                        <p:cNvSpPr/>
                        <p:nvPr/>
                      </p:nvSpPr>
                      <p:spPr>
                        <a:xfrm>
                          <a:off x="6815880" y="3384000"/>
                          <a:ext cx="465480" cy="4590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933" name="Oval 16"/>
                        <p:cNvSpPr/>
                        <p:nvPr/>
                      </p:nvSpPr>
                      <p:spPr>
                        <a:xfrm>
                          <a:off x="6460920" y="3499200"/>
                          <a:ext cx="581760" cy="565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934" name="Oval 17"/>
                        <p:cNvSpPr/>
                        <p:nvPr/>
                      </p:nvSpPr>
                      <p:spPr>
                        <a:xfrm>
                          <a:off x="6696000" y="2812680"/>
                          <a:ext cx="469440" cy="4507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935" name="Oval 18"/>
                        <p:cNvSpPr/>
                        <p:nvPr/>
                      </p:nvSpPr>
                      <p:spPr>
                        <a:xfrm>
                          <a:off x="6342120" y="2464920"/>
                          <a:ext cx="592560" cy="5752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936" name="Freeform 19"/>
                        <p:cNvSpPr/>
                        <p:nvPr/>
                      </p:nvSpPr>
                      <p:spPr>
                        <a:xfrm>
                          <a:off x="6710760" y="2821680"/>
                          <a:ext cx="400680" cy="914040"/>
                        </a:xfrm>
                        <a:custGeom>
                          <a:avLst/>
                          <a:gdLst>
                            <a:gd name="textAreaLeft" fmla="*/ 0 w 400680"/>
                            <a:gd name="textAreaRight" fmla="*/ 401040 w 400680"/>
                            <a:gd name="textAreaTop" fmla="*/ 0 h 914040"/>
                            <a:gd name="textAreaBottom" fmla="*/ 914400 h 914040"/>
                          </a:gdLst>
                          <a:ahLst/>
                          <a:rect l="textAreaLeft" t="textAreaTop" r="textAreaRight" b="textAreaBottom"/>
                          <a:pathLst>
                            <a:path w="223" h="410">
                              <a:moveTo>
                                <a:pt x="223" y="408"/>
                              </a:moveTo>
                              <a:lnTo>
                                <a:pt x="130" y="410"/>
                              </a:lnTo>
                              <a:lnTo>
                                <a:pt x="0" y="0"/>
                              </a:lnTo>
                              <a:lnTo>
                                <a:pt x="139" y="32"/>
                              </a:lnTo>
                              <a:lnTo>
                                <a:pt x="142" y="233"/>
                              </a:lnTo>
                              <a:lnTo>
                                <a:pt x="223" y="40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sp>
                    <p:nvSpPr>
                      <p:cNvPr id="937" name="Oval 20"/>
                      <p:cNvSpPr/>
                      <p:nvPr/>
                    </p:nvSpPr>
                    <p:spPr>
                      <a:xfrm>
                        <a:off x="6222600" y="2928960"/>
                        <a:ext cx="825120" cy="7981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938" name="Oval 21"/>
                      <p:cNvSpPr/>
                      <p:nvPr/>
                    </p:nvSpPr>
                    <p:spPr>
                      <a:xfrm>
                        <a:off x="6222600" y="3384360"/>
                        <a:ext cx="589680" cy="57528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939" name="Freeform 22"/>
                      <p:cNvSpPr/>
                      <p:nvPr/>
                    </p:nvSpPr>
                    <p:spPr>
                      <a:xfrm>
                        <a:off x="6403680" y="2719800"/>
                        <a:ext cx="419040" cy="984960"/>
                      </a:xfrm>
                      <a:custGeom>
                        <a:avLst/>
                        <a:gdLst>
                          <a:gd name="textAreaLeft" fmla="*/ 0 w 419040"/>
                          <a:gd name="textAreaRight" fmla="*/ 419400 w 419040"/>
                          <a:gd name="textAreaTop" fmla="*/ 0 h 984960"/>
                          <a:gd name="textAreaBottom" fmla="*/ 985320 h 984960"/>
                        </a:gdLst>
                        <a:ahLst/>
                        <a:rect l="textAreaLeft" t="textAreaTop" r="textAreaRight" b="textAreaBottom"/>
                        <a:pathLst>
                          <a:path w="233" h="442">
                            <a:moveTo>
                              <a:pt x="212" y="74"/>
                            </a:moveTo>
                            <a:lnTo>
                              <a:pt x="186" y="169"/>
                            </a:lnTo>
                            <a:lnTo>
                              <a:pt x="233" y="382"/>
                            </a:lnTo>
                            <a:lnTo>
                              <a:pt x="140" y="442"/>
                            </a:lnTo>
                            <a:lnTo>
                              <a:pt x="0" y="186"/>
                            </a:lnTo>
                            <a:lnTo>
                              <a:pt x="112" y="0"/>
                            </a:lnTo>
                            <a:lnTo>
                              <a:pt x="212" y="74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940" name="Oval 23"/>
                    <p:cNvSpPr/>
                    <p:nvPr/>
                  </p:nvSpPr>
                  <p:spPr>
                    <a:xfrm>
                      <a:off x="6222600" y="3844440"/>
                      <a:ext cx="470880" cy="455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941" name="Oval 24"/>
                    <p:cNvSpPr/>
                    <p:nvPr/>
                  </p:nvSpPr>
                  <p:spPr>
                    <a:xfrm>
                      <a:off x="5872320" y="2349720"/>
                      <a:ext cx="589320" cy="575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942" name="Freeform 25"/>
                    <p:cNvSpPr/>
                    <p:nvPr/>
                  </p:nvSpPr>
                  <p:spPr>
                    <a:xfrm>
                      <a:off x="6363720" y="3755160"/>
                      <a:ext cx="315000" cy="205200"/>
                    </a:xfrm>
                    <a:custGeom>
                      <a:avLst/>
                      <a:gdLst>
                        <a:gd name="textAreaLeft" fmla="*/ 0 w 315000"/>
                        <a:gd name="textAreaRight" fmla="*/ 315360 w 315000"/>
                        <a:gd name="textAreaTop" fmla="*/ 0 h 205200"/>
                        <a:gd name="textAreaBottom" fmla="*/ 205560 h 205200"/>
                      </a:gdLst>
                      <a:ahLst/>
                      <a:rect l="textAreaLeft" t="textAreaTop" r="textAreaRight" b="textAreaBottom"/>
                      <a:pathLst>
                        <a:path w="174" h="92">
                          <a:moveTo>
                            <a:pt x="174" y="58"/>
                          </a:moveTo>
                          <a:lnTo>
                            <a:pt x="121" y="92"/>
                          </a:lnTo>
                          <a:lnTo>
                            <a:pt x="0" y="46"/>
                          </a:lnTo>
                          <a:lnTo>
                            <a:pt x="121" y="0"/>
                          </a:lnTo>
                          <a:lnTo>
                            <a:pt x="174" y="58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943" name="Freeform 26"/>
                  <p:cNvSpPr/>
                  <p:nvPr/>
                </p:nvSpPr>
                <p:spPr>
                  <a:xfrm>
                    <a:off x="6320520" y="2612880"/>
                    <a:ext cx="188640" cy="325800"/>
                  </a:xfrm>
                  <a:custGeom>
                    <a:avLst/>
                    <a:gdLst>
                      <a:gd name="textAreaLeft" fmla="*/ 0 w 188640"/>
                      <a:gd name="textAreaRight" fmla="*/ 189000 w 188640"/>
                      <a:gd name="textAreaTop" fmla="*/ 0 h 325800"/>
                      <a:gd name="textAreaBottom" fmla="*/ 326160 h 325800"/>
                    </a:gdLst>
                    <a:ahLst/>
                    <a:rect l="textAreaLeft" t="textAreaTop" r="textAreaRight" b="textAreaBottom"/>
                    <a:pathLst>
                      <a:path w="103" h="145">
                        <a:moveTo>
                          <a:pt x="52" y="0"/>
                        </a:moveTo>
                        <a:lnTo>
                          <a:pt x="103" y="3"/>
                        </a:lnTo>
                        <a:lnTo>
                          <a:pt x="82" y="145"/>
                        </a:lnTo>
                        <a:lnTo>
                          <a:pt x="0" y="117"/>
                        </a:lnTo>
                        <a:lnTo>
                          <a:pt x="5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44" name="Group 27"/>
                <p:cNvGrpSpPr/>
                <p:nvPr/>
              </p:nvGrpSpPr>
              <p:grpSpPr>
                <a:xfrm>
                  <a:off x="5397480" y="2010600"/>
                  <a:ext cx="1296360" cy="2405160"/>
                  <a:chOff x="5397480" y="2010600"/>
                  <a:chExt cx="1296360" cy="2405160"/>
                </a:xfrm>
              </p:grpSpPr>
              <p:sp>
                <p:nvSpPr>
                  <p:cNvPr id="945" name="Oval 28"/>
                  <p:cNvSpPr/>
                  <p:nvPr/>
                </p:nvSpPr>
                <p:spPr>
                  <a:xfrm>
                    <a:off x="5513040" y="3385440"/>
                    <a:ext cx="1064880" cy="1030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46" name="Oval 29"/>
                  <p:cNvSpPr/>
                  <p:nvPr/>
                </p:nvSpPr>
                <p:spPr>
                  <a:xfrm>
                    <a:off x="5632920" y="2697840"/>
                    <a:ext cx="1060920" cy="1030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47" name="Oval 30"/>
                  <p:cNvSpPr/>
                  <p:nvPr/>
                </p:nvSpPr>
                <p:spPr>
                  <a:xfrm>
                    <a:off x="5397480" y="2010600"/>
                    <a:ext cx="829080" cy="802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48" name="Oval 31"/>
                  <p:cNvSpPr/>
                  <p:nvPr/>
                </p:nvSpPr>
                <p:spPr>
                  <a:xfrm>
                    <a:off x="5871960" y="2464920"/>
                    <a:ext cx="470520" cy="455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49" name="Freeform 32"/>
                  <p:cNvSpPr/>
                  <p:nvPr/>
                </p:nvSpPr>
                <p:spPr>
                  <a:xfrm>
                    <a:off x="5639400" y="2388960"/>
                    <a:ext cx="713520" cy="892800"/>
                  </a:xfrm>
                  <a:custGeom>
                    <a:avLst/>
                    <a:gdLst>
                      <a:gd name="textAreaLeft" fmla="*/ 0 w 713520"/>
                      <a:gd name="textAreaRight" fmla="*/ 713880 w 713520"/>
                      <a:gd name="textAreaTop" fmla="*/ 0 h 892800"/>
                      <a:gd name="textAreaBottom" fmla="*/ 893160 h 892800"/>
                    </a:gdLst>
                    <a:ahLst/>
                    <a:rect l="textAreaLeft" t="textAreaTop" r="textAreaRight" b="textAreaBottom"/>
                    <a:pathLst>
                      <a:path w="395" h="401">
                        <a:moveTo>
                          <a:pt x="281" y="16"/>
                        </a:moveTo>
                        <a:lnTo>
                          <a:pt x="276" y="64"/>
                        </a:lnTo>
                        <a:lnTo>
                          <a:pt x="370" y="153"/>
                        </a:lnTo>
                        <a:lnTo>
                          <a:pt x="395" y="163"/>
                        </a:lnTo>
                        <a:lnTo>
                          <a:pt x="256" y="401"/>
                        </a:lnTo>
                        <a:lnTo>
                          <a:pt x="0" y="0"/>
                        </a:lnTo>
                        <a:lnTo>
                          <a:pt x="281" y="1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50" name="Freeform 33"/>
                  <p:cNvSpPr/>
                  <p:nvPr/>
                </p:nvSpPr>
                <p:spPr>
                  <a:xfrm>
                    <a:off x="5972760" y="3581640"/>
                    <a:ext cx="466920" cy="272160"/>
                  </a:xfrm>
                  <a:custGeom>
                    <a:avLst/>
                    <a:gdLst>
                      <a:gd name="textAreaLeft" fmla="*/ 0 w 466920"/>
                      <a:gd name="textAreaRight" fmla="*/ 467280 w 466920"/>
                      <a:gd name="textAreaTop" fmla="*/ 0 h 272160"/>
                      <a:gd name="textAreaBottom" fmla="*/ 272520 h 272160"/>
                    </a:gdLst>
                    <a:ahLst/>
                    <a:rect l="textAreaLeft" t="textAreaTop" r="textAreaRight" b="textAreaBottom"/>
                    <a:pathLst>
                      <a:path w="258" h="121">
                        <a:moveTo>
                          <a:pt x="230" y="16"/>
                        </a:moveTo>
                        <a:lnTo>
                          <a:pt x="258" y="53"/>
                        </a:lnTo>
                        <a:lnTo>
                          <a:pt x="0" y="121"/>
                        </a:lnTo>
                        <a:lnTo>
                          <a:pt x="7" y="0"/>
                        </a:lnTo>
                        <a:lnTo>
                          <a:pt x="230" y="1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951" name="Oval 34"/>
                <p:cNvSpPr/>
                <p:nvPr/>
              </p:nvSpPr>
              <p:spPr>
                <a:xfrm>
                  <a:off x="5397480" y="4077360"/>
                  <a:ext cx="590760" cy="572040"/>
                </a:xfrm>
                <a:prstGeom prst="ellipse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52" name="Freeform 35"/>
                <p:cNvSpPr/>
                <p:nvPr/>
              </p:nvSpPr>
              <p:spPr>
                <a:xfrm>
                  <a:off x="5774400" y="4028760"/>
                  <a:ext cx="321840" cy="311760"/>
                </a:xfrm>
                <a:custGeom>
                  <a:avLst/>
                  <a:gdLst>
                    <a:gd name="textAreaLeft" fmla="*/ 0 w 321840"/>
                    <a:gd name="textAreaRight" fmla="*/ 322200 w 321840"/>
                    <a:gd name="textAreaTop" fmla="*/ 0 h 311760"/>
                    <a:gd name="textAreaBottom" fmla="*/ 312120 h 311760"/>
                  </a:gdLst>
                  <a:ahLst/>
                  <a:rect l="textAreaLeft" t="textAreaTop" r="textAreaRight" b="textAreaBottom"/>
                  <a:pathLst>
                    <a:path w="177" h="140">
                      <a:moveTo>
                        <a:pt x="72" y="140"/>
                      </a:moveTo>
                      <a:lnTo>
                        <a:pt x="177" y="92"/>
                      </a:lnTo>
                      <a:lnTo>
                        <a:pt x="56" y="0"/>
                      </a:lnTo>
                      <a:lnTo>
                        <a:pt x="0" y="50"/>
                      </a:lnTo>
                      <a:lnTo>
                        <a:pt x="72" y="14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53" name="Oval 36"/>
              <p:cNvSpPr/>
              <p:nvPr/>
            </p:nvSpPr>
            <p:spPr>
              <a:xfrm>
                <a:off x="4245120" y="4596840"/>
                <a:ext cx="706680" cy="68256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4" name="Oval 37"/>
              <p:cNvSpPr/>
              <p:nvPr/>
            </p:nvSpPr>
            <p:spPr>
              <a:xfrm>
                <a:off x="4806360" y="4596840"/>
                <a:ext cx="590760" cy="57132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5" name="Oval 38"/>
              <p:cNvSpPr/>
              <p:nvPr/>
            </p:nvSpPr>
            <p:spPr>
              <a:xfrm>
                <a:off x="5129280" y="4409280"/>
                <a:ext cx="594000" cy="5752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6" name="Freeform 39"/>
              <p:cNvSpPr/>
              <p:nvPr/>
            </p:nvSpPr>
            <p:spPr>
              <a:xfrm>
                <a:off x="4669200" y="4333320"/>
                <a:ext cx="1144800" cy="758520"/>
              </a:xfrm>
              <a:custGeom>
                <a:avLst/>
                <a:gdLst>
                  <a:gd name="textAreaLeft" fmla="*/ 0 w 1144800"/>
                  <a:gd name="textAreaRight" fmla="*/ 1145160 w 1144800"/>
                  <a:gd name="textAreaTop" fmla="*/ 0 h 758520"/>
                  <a:gd name="textAreaBottom" fmla="*/ 758880 h 758520"/>
                </a:gdLst>
                <a:ahLst/>
                <a:rect l="textAreaLeft" t="textAreaTop" r="textAreaRight" b="textAreaBottom"/>
                <a:pathLst>
                  <a:path w="633" h="339">
                    <a:moveTo>
                      <a:pt x="589" y="98"/>
                    </a:moveTo>
                    <a:lnTo>
                      <a:pt x="531" y="121"/>
                    </a:lnTo>
                    <a:lnTo>
                      <a:pt x="361" y="255"/>
                    </a:lnTo>
                    <a:lnTo>
                      <a:pt x="321" y="313"/>
                    </a:lnTo>
                    <a:lnTo>
                      <a:pt x="133" y="313"/>
                    </a:lnTo>
                    <a:lnTo>
                      <a:pt x="93" y="339"/>
                    </a:lnTo>
                    <a:lnTo>
                      <a:pt x="0" y="239"/>
                    </a:lnTo>
                    <a:lnTo>
                      <a:pt x="428" y="0"/>
                    </a:lnTo>
                    <a:lnTo>
                      <a:pt x="633" y="54"/>
                    </a:lnTo>
                    <a:lnTo>
                      <a:pt x="589" y="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57" name="Group 40"/>
            <p:cNvGrpSpPr/>
            <p:nvPr/>
          </p:nvGrpSpPr>
          <p:grpSpPr>
            <a:xfrm>
              <a:off x="0" y="2027880"/>
              <a:ext cx="1847160" cy="2282040"/>
              <a:chOff x="0" y="2027880"/>
              <a:chExt cx="1847160" cy="2282040"/>
            </a:xfrm>
          </p:grpSpPr>
          <p:grpSp>
            <p:nvGrpSpPr>
              <p:cNvPr id="958" name="Group 41"/>
              <p:cNvGrpSpPr/>
              <p:nvPr/>
            </p:nvGrpSpPr>
            <p:grpSpPr>
              <a:xfrm>
                <a:off x="0" y="2349720"/>
                <a:ext cx="1017360" cy="1378800"/>
                <a:chOff x="0" y="2349720"/>
                <a:chExt cx="1017360" cy="1378800"/>
              </a:xfrm>
            </p:grpSpPr>
            <p:sp>
              <p:nvSpPr>
                <p:cNvPr id="959" name="Oval 42"/>
                <p:cNvSpPr/>
                <p:nvPr/>
              </p:nvSpPr>
              <p:spPr>
                <a:xfrm>
                  <a:off x="0" y="2813040"/>
                  <a:ext cx="470520" cy="451440"/>
                </a:xfrm>
                <a:prstGeom prst="ellipse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60" name="Oval 43"/>
                <p:cNvSpPr/>
                <p:nvPr/>
              </p:nvSpPr>
              <p:spPr>
                <a:xfrm>
                  <a:off x="76320" y="3157560"/>
                  <a:ext cx="589680" cy="570960"/>
                </a:xfrm>
                <a:prstGeom prst="ellipse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61" name="Oval 44"/>
                <p:cNvSpPr/>
                <p:nvPr/>
              </p:nvSpPr>
              <p:spPr>
                <a:xfrm>
                  <a:off x="187920" y="2349720"/>
                  <a:ext cx="829440" cy="802800"/>
                </a:xfrm>
                <a:prstGeom prst="ellipse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62" name="Freeform 45"/>
                <p:cNvSpPr/>
                <p:nvPr/>
              </p:nvSpPr>
              <p:spPr>
                <a:xfrm>
                  <a:off x="144360" y="2872080"/>
                  <a:ext cx="311760" cy="437040"/>
                </a:xfrm>
                <a:custGeom>
                  <a:avLst/>
                  <a:gdLst>
                    <a:gd name="textAreaLeft" fmla="*/ 0 w 311760"/>
                    <a:gd name="textAreaRight" fmla="*/ 311760 w 311760"/>
                    <a:gd name="textAreaTop" fmla="*/ 0 h 437040"/>
                    <a:gd name="textAreaBottom" fmla="*/ 437400 h 437040"/>
                  </a:gdLst>
                  <a:ahLst/>
                  <a:rect l="textAreaLeft" t="textAreaTop" r="textAreaRight" b="textAreaBottom"/>
                  <a:pathLst>
                    <a:path w="172" h="197">
                      <a:moveTo>
                        <a:pt x="100" y="0"/>
                      </a:moveTo>
                      <a:lnTo>
                        <a:pt x="0" y="38"/>
                      </a:lnTo>
                      <a:lnTo>
                        <a:pt x="3" y="158"/>
                      </a:lnTo>
                      <a:lnTo>
                        <a:pt x="37" y="197"/>
                      </a:lnTo>
                      <a:lnTo>
                        <a:pt x="172" y="158"/>
                      </a:lnTo>
                      <a:lnTo>
                        <a:pt x="10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63" name="Group 46"/>
              <p:cNvGrpSpPr/>
              <p:nvPr/>
            </p:nvGrpSpPr>
            <p:grpSpPr>
              <a:xfrm>
                <a:off x="311400" y="2027880"/>
                <a:ext cx="1535760" cy="2282040"/>
                <a:chOff x="311400" y="2027880"/>
                <a:chExt cx="1535760" cy="2282040"/>
              </a:xfrm>
            </p:grpSpPr>
            <p:sp>
              <p:nvSpPr>
                <p:cNvPr id="964" name="Oval 47"/>
                <p:cNvSpPr/>
                <p:nvPr/>
              </p:nvSpPr>
              <p:spPr>
                <a:xfrm>
                  <a:off x="781920" y="2121840"/>
                  <a:ext cx="1065240" cy="1030680"/>
                </a:xfrm>
                <a:prstGeom prst="ellipse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65" name="Oval 48"/>
                <p:cNvSpPr/>
                <p:nvPr/>
              </p:nvSpPr>
              <p:spPr>
                <a:xfrm>
                  <a:off x="311400" y="2813400"/>
                  <a:ext cx="590400" cy="572040"/>
                </a:xfrm>
                <a:prstGeom prst="ellipse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66" name="Oval 49"/>
                <p:cNvSpPr/>
                <p:nvPr/>
              </p:nvSpPr>
              <p:spPr>
                <a:xfrm>
                  <a:off x="426960" y="3157920"/>
                  <a:ext cx="832680" cy="803880"/>
                </a:xfrm>
                <a:prstGeom prst="ellipse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67" name="Oval 50"/>
                <p:cNvSpPr/>
                <p:nvPr/>
              </p:nvSpPr>
              <p:spPr>
                <a:xfrm>
                  <a:off x="662760" y="3501000"/>
                  <a:ext cx="829440" cy="808920"/>
                </a:xfrm>
                <a:prstGeom prst="ellipse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68" name="Oval 51"/>
                <p:cNvSpPr/>
                <p:nvPr/>
              </p:nvSpPr>
              <p:spPr>
                <a:xfrm>
                  <a:off x="724320" y="2599920"/>
                  <a:ext cx="742320" cy="696600"/>
                </a:xfrm>
                <a:prstGeom prst="ellipse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69" name="Oval 52"/>
                <p:cNvSpPr/>
                <p:nvPr/>
              </p:nvSpPr>
              <p:spPr>
                <a:xfrm>
                  <a:off x="1315080" y="2027880"/>
                  <a:ext cx="470520" cy="455400"/>
                </a:xfrm>
                <a:prstGeom prst="ellipse">
                  <a:avLst/>
                </a:prstGeom>
                <a:solidFill>
                  <a:srgbClr val="ffffff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70" name="Freeform 53"/>
                <p:cNvSpPr/>
                <p:nvPr/>
              </p:nvSpPr>
              <p:spPr>
                <a:xfrm>
                  <a:off x="956160" y="2474280"/>
                  <a:ext cx="518040" cy="366480"/>
                </a:xfrm>
                <a:custGeom>
                  <a:avLst/>
                  <a:gdLst>
                    <a:gd name="textAreaLeft" fmla="*/ 0 w 518040"/>
                    <a:gd name="textAreaRight" fmla="*/ 518400 w 518040"/>
                    <a:gd name="textAreaTop" fmla="*/ 0 h 366480"/>
                    <a:gd name="textAreaBottom" fmla="*/ 366840 h 366480"/>
                  </a:gdLst>
                  <a:ahLst/>
                  <a:rect l="textAreaLeft" t="textAreaTop" r="textAreaRight" b="textAreaBottom"/>
                  <a:pathLst>
                    <a:path w="288" h="162">
                      <a:moveTo>
                        <a:pt x="0" y="44"/>
                      </a:moveTo>
                      <a:lnTo>
                        <a:pt x="37" y="121"/>
                      </a:lnTo>
                      <a:lnTo>
                        <a:pt x="288" y="162"/>
                      </a:lnTo>
                      <a:lnTo>
                        <a:pt x="288" y="60"/>
                      </a:lnTo>
                      <a:lnTo>
                        <a:pt x="18" y="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71" name="Freeform 54"/>
                <p:cNvSpPr/>
                <p:nvPr/>
              </p:nvSpPr>
              <p:spPr>
                <a:xfrm>
                  <a:off x="474840" y="3063600"/>
                  <a:ext cx="593640" cy="709560"/>
                </a:xfrm>
                <a:custGeom>
                  <a:avLst/>
                  <a:gdLst>
                    <a:gd name="textAreaLeft" fmla="*/ 0 w 593640"/>
                    <a:gd name="textAreaRight" fmla="*/ 594000 w 593640"/>
                    <a:gd name="textAreaTop" fmla="*/ 0 h 709560"/>
                    <a:gd name="textAreaBottom" fmla="*/ 709920 h 709560"/>
                  </a:gdLst>
                  <a:ahLst/>
                  <a:rect l="textAreaLeft" t="textAreaTop" r="textAreaRight" b="textAreaBottom"/>
                  <a:pathLst>
                    <a:path w="328" h="317">
                      <a:moveTo>
                        <a:pt x="204" y="0"/>
                      </a:moveTo>
                      <a:lnTo>
                        <a:pt x="0" y="80"/>
                      </a:lnTo>
                      <a:lnTo>
                        <a:pt x="85" y="144"/>
                      </a:lnTo>
                      <a:lnTo>
                        <a:pt x="97" y="299"/>
                      </a:lnTo>
                      <a:lnTo>
                        <a:pt x="146" y="317"/>
                      </a:lnTo>
                      <a:lnTo>
                        <a:pt x="316" y="219"/>
                      </a:lnTo>
                      <a:lnTo>
                        <a:pt x="328" y="32"/>
                      </a:lnTo>
                      <a:lnTo>
                        <a:pt x="20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972" name="Freeform 55"/>
              <p:cNvSpPr/>
              <p:nvPr/>
            </p:nvSpPr>
            <p:spPr>
              <a:xfrm>
                <a:off x="1293120" y="2273760"/>
                <a:ext cx="329400" cy="356400"/>
              </a:xfrm>
              <a:custGeom>
                <a:avLst/>
                <a:gdLst>
                  <a:gd name="textAreaLeft" fmla="*/ 0 w 329400"/>
                  <a:gd name="textAreaRight" fmla="*/ 329760 w 329400"/>
                  <a:gd name="textAreaTop" fmla="*/ 0 h 356400"/>
                  <a:gd name="textAreaBottom" fmla="*/ 356760 h 356400"/>
                </a:gdLst>
                <a:ahLst/>
                <a:rect l="textAreaLeft" t="textAreaTop" r="textAreaRight" b="textAreaBottom"/>
                <a:pathLst>
                  <a:path w="180" h="160">
                    <a:moveTo>
                      <a:pt x="0" y="87"/>
                    </a:moveTo>
                    <a:lnTo>
                      <a:pt x="77" y="0"/>
                    </a:lnTo>
                    <a:lnTo>
                      <a:pt x="180" y="87"/>
                    </a:lnTo>
                    <a:lnTo>
                      <a:pt x="93" y="160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73" name="Group 56"/>
            <p:cNvGrpSpPr/>
            <p:nvPr/>
          </p:nvGrpSpPr>
          <p:grpSpPr>
            <a:xfrm>
              <a:off x="902520" y="1662120"/>
              <a:ext cx="5324760" cy="3796920"/>
              <a:chOff x="902520" y="1662120"/>
              <a:chExt cx="5324760" cy="3796920"/>
            </a:xfrm>
          </p:grpSpPr>
          <p:sp>
            <p:nvSpPr>
              <p:cNvPr id="974" name="Oval 57"/>
              <p:cNvSpPr/>
              <p:nvPr/>
            </p:nvSpPr>
            <p:spPr>
              <a:xfrm>
                <a:off x="2558880" y="1777320"/>
                <a:ext cx="1301040" cy="126432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5" name="Oval 58"/>
              <p:cNvSpPr/>
              <p:nvPr/>
            </p:nvSpPr>
            <p:spPr>
              <a:xfrm>
                <a:off x="3624840" y="1662120"/>
                <a:ext cx="1062000" cy="103140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6" name="Oval 59"/>
              <p:cNvSpPr/>
              <p:nvPr/>
            </p:nvSpPr>
            <p:spPr>
              <a:xfrm>
                <a:off x="4570920" y="2698560"/>
                <a:ext cx="1656360" cy="161280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7" name="Oval 60"/>
              <p:cNvSpPr/>
              <p:nvPr/>
            </p:nvSpPr>
            <p:spPr>
              <a:xfrm>
                <a:off x="1493280" y="3386520"/>
                <a:ext cx="1892160" cy="18406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8" name="Oval 61"/>
              <p:cNvSpPr/>
              <p:nvPr/>
            </p:nvSpPr>
            <p:spPr>
              <a:xfrm>
                <a:off x="4095720" y="3618360"/>
                <a:ext cx="1416960" cy="137556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9" name="Oval 62"/>
              <p:cNvSpPr/>
              <p:nvPr/>
            </p:nvSpPr>
            <p:spPr>
              <a:xfrm>
                <a:off x="1018080" y="3735000"/>
                <a:ext cx="1065240" cy="10270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0" name="Oval 63"/>
              <p:cNvSpPr/>
              <p:nvPr/>
            </p:nvSpPr>
            <p:spPr>
              <a:xfrm>
                <a:off x="902520" y="2930400"/>
                <a:ext cx="1062000" cy="102708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1" name="Oval 64"/>
              <p:cNvSpPr/>
              <p:nvPr/>
            </p:nvSpPr>
            <p:spPr>
              <a:xfrm>
                <a:off x="1377360" y="2010600"/>
                <a:ext cx="1656360" cy="160380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2" name="Oval 65"/>
              <p:cNvSpPr/>
              <p:nvPr/>
            </p:nvSpPr>
            <p:spPr>
              <a:xfrm>
                <a:off x="2797920" y="3846240"/>
                <a:ext cx="1652760" cy="161280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3" name="Oval 66"/>
              <p:cNvSpPr/>
              <p:nvPr/>
            </p:nvSpPr>
            <p:spPr>
              <a:xfrm>
                <a:off x="4806000" y="2121840"/>
                <a:ext cx="1301040" cy="126432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4" name="Oval 67"/>
              <p:cNvSpPr/>
              <p:nvPr/>
            </p:nvSpPr>
            <p:spPr>
              <a:xfrm>
                <a:off x="4451040" y="1662120"/>
                <a:ext cx="1181880" cy="11426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5" name="Freeform 68"/>
              <p:cNvSpPr/>
              <p:nvPr/>
            </p:nvSpPr>
            <p:spPr>
              <a:xfrm>
                <a:off x="1333800" y="1964880"/>
                <a:ext cx="4592520" cy="3002760"/>
              </a:xfrm>
              <a:custGeom>
                <a:avLst/>
                <a:gdLst>
                  <a:gd name="textAreaLeft" fmla="*/ 0 w 4592520"/>
                  <a:gd name="textAreaRight" fmla="*/ 4592880 w 4592520"/>
                  <a:gd name="textAreaTop" fmla="*/ 0 h 3002760"/>
                  <a:gd name="textAreaBottom" fmla="*/ 3003120 h 3002760"/>
                </a:gdLst>
                <a:ahLst/>
                <a:rect l="textAreaLeft" t="textAreaTop" r="textAreaRight" b="textAreaBottom"/>
                <a:pathLst>
                  <a:path w="2534" h="1343">
                    <a:moveTo>
                      <a:pt x="782" y="135"/>
                    </a:moveTo>
                    <a:lnTo>
                      <a:pt x="887" y="38"/>
                    </a:lnTo>
                    <a:lnTo>
                      <a:pt x="1361" y="45"/>
                    </a:lnTo>
                    <a:lnTo>
                      <a:pt x="1696" y="0"/>
                    </a:lnTo>
                    <a:lnTo>
                      <a:pt x="2118" y="161"/>
                    </a:lnTo>
                    <a:lnTo>
                      <a:pt x="2331" y="116"/>
                    </a:lnTo>
                    <a:lnTo>
                      <a:pt x="2445" y="135"/>
                    </a:lnTo>
                    <a:lnTo>
                      <a:pt x="2469" y="534"/>
                    </a:lnTo>
                    <a:lnTo>
                      <a:pt x="2534" y="598"/>
                    </a:lnTo>
                    <a:lnTo>
                      <a:pt x="2339" y="907"/>
                    </a:lnTo>
                    <a:lnTo>
                      <a:pt x="2127" y="695"/>
                    </a:lnTo>
                    <a:lnTo>
                      <a:pt x="2069" y="804"/>
                    </a:lnTo>
                    <a:lnTo>
                      <a:pt x="1769" y="1227"/>
                    </a:lnTo>
                    <a:lnTo>
                      <a:pt x="766" y="1343"/>
                    </a:lnTo>
                    <a:lnTo>
                      <a:pt x="245" y="1261"/>
                    </a:lnTo>
                    <a:lnTo>
                      <a:pt x="81" y="997"/>
                    </a:lnTo>
                    <a:lnTo>
                      <a:pt x="81" y="727"/>
                    </a:lnTo>
                    <a:lnTo>
                      <a:pt x="0" y="502"/>
                    </a:lnTo>
                    <a:lnTo>
                      <a:pt x="782" y="1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86" name="Rectangle 69"/>
          <p:cNvSpPr/>
          <p:nvPr/>
        </p:nvSpPr>
        <p:spPr>
          <a:xfrm>
            <a:off x="1246320" y="2244600"/>
            <a:ext cx="46432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alibri"/>
              </a:rPr>
              <a:t>¿Cuáles son las relaciones más comunes que se establecen entre las clases que propone la extensión UML para web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7" name="64 Imagen" descr="Imagen1.jpg"/>
          <p:cNvPicPr/>
          <p:nvPr/>
        </p:nvPicPr>
        <p:blipFill>
          <a:blip r:embed="rId1"/>
          <a:stretch/>
        </p:blipFill>
        <p:spPr>
          <a:xfrm>
            <a:off x="7413480" y="1057320"/>
            <a:ext cx="160020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8" name="1 Image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9" name="1 CuadroTexto"/>
          <p:cNvSpPr/>
          <p:nvPr/>
        </p:nvSpPr>
        <p:spPr>
          <a:xfrm>
            <a:off x="6665760" y="23760"/>
            <a:ext cx="19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000"/>
                </a:solidFill>
                <a:latin typeface="Calibri"/>
              </a:rPr>
              <a:t>Relaci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0" name=""/>
          <p:cNvGraphicFramePr/>
          <p:nvPr/>
        </p:nvGraphicFramePr>
        <p:xfrm>
          <a:off x="250920" y="1071720"/>
          <a:ext cx="8607240" cy="4748040"/>
        </p:xfrm>
        <a:graphic>
          <a:graphicData uri="http://schemas.openxmlformats.org/drawingml/2006/table">
            <a:tbl>
              <a:tblPr/>
              <a:tblGrid>
                <a:gridCol w="1728720"/>
                <a:gridCol w="2592360"/>
                <a:gridCol w="1871640"/>
                <a:gridCol w="2414520"/>
              </a:tblGrid>
              <a:tr h="1114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: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om: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ientPage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erPage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47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ient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ge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ir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ir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greg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er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ge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ilds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ir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ir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lu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45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gregated 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m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16:16:19Z</dcterms:created>
  <dc:creator>adeho</dc:creator>
  <dc:description/>
  <dc:language>en-US</dc:language>
  <cp:lastModifiedBy>Omar Rivero Muniz</cp:lastModifiedBy>
  <dcterms:modified xsi:type="dcterms:W3CDTF">2014-10-21T19:50:18Z</dcterms:modified>
  <cp:revision>683</cp:revision>
  <dc:subject/>
  <dc:title>Agregar título de la presentación</dc:title>
</cp:coreProperties>
</file>