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.png" ContentType="image/png"/>
  <Override PartName="/ppt/media/image13.png" ContentType="image/png"/>
  <Override PartName="/ppt/media/image10.gif" ContentType="image/gif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4.gif" ContentType="image/gif"/>
  <Override PartName="/ppt/media/image47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1106-7C25-4313-8B0E-AF792CF079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8F4-98F9-4F42-9E3D-066EDD18D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F89C-2A3B-414F-BCAB-93DCA08F6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8ACC-2D14-4584-9691-5A3D98A43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FE-B598-4E84-A9DC-66308ABB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B07-32C0-4B19-AE0A-2F6D25B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2DC-8BE9-449C-9427-2C350A30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E25-88D2-4410-B3AD-D215DF5D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9D88-9778-43A3-B7A9-B2686AC6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9254-2B27-44B0-B884-04C94F6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CEC9-7EEB-48FD-B0D3-B39247A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596-CF5B-4A40-A069-331CC91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AB7E-4DC6-4A70-94F0-FF545050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0F5-3E69-4310-8BD8-4B7038D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F35B-EB87-4128-B6B3-95E0ADD5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DDB-26B7-4CB0-AD88-464BFAF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1B0-5547-49DD-A14D-74AB0CE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65D4-B7F5-4CA7-876A-C209811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275-86B7-4B6F-9B22-8A24BE2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9AF6-35E4-4BD5-8891-80E87D0D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2C4-E81D-4699-A79D-14AAE033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2EB-373A-4116-940A-2908A446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94D-44F0-4AAA-BE11-1DF7AF9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C60-930A-4435-8F74-E7535B15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BB2-3B67-4315-9BC2-CCD3E852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DF9-A852-44EB-A0E2-D280BCC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6FD-E05B-4DB2-89C3-9BE9A6D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D33-6E06-44B4-A711-E0FD505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81EC-C243-4653-A06A-984F3C942E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79A2-C55D-4E91-8543-D7739877AB8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&#10;F08-04.GIF009                                                  00004F26Sumanas' Hard Drive            B4EBCDA7:"/>
          <p:cNvPicPr/>
          <p:nvPr/>
        </p:nvPicPr>
        <p:blipFill>
          <a:blip r:embed="rId1"/>
          <a:stretch/>
        </p:blipFill>
        <p:spPr>
          <a:xfrm>
            <a:off x="558720" y="1752480"/>
            <a:ext cx="8026560" cy="3353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7680" y="1213920"/>
            <a:ext cx="307152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NZI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8"/>
          <p:cNvSpPr/>
          <p:nvPr/>
        </p:nvSpPr>
        <p:spPr>
          <a:xfrm>
            <a:off x="500040" y="785880"/>
            <a:ext cx="8175600" cy="15001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iferencia entre los niveles de energía del estado basal y del estado de transición (complejo activad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 alteran el equilibrio de la 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12 CuadroTexto" descr=""/>
          <p:cNvPicPr/>
          <p:nvPr/>
        </p:nvPicPr>
        <p:blipFill>
          <a:blip r:embed="rId1"/>
          <a:stretch/>
        </p:blipFill>
        <p:spPr>
          <a:xfrm>
            <a:off x="2584440" y="96840"/>
            <a:ext cx="4065480" cy="70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" descr=""/>
          <p:cNvPicPr/>
          <p:nvPr/>
        </p:nvPicPr>
        <p:blipFill>
          <a:blip r:embed="rId2"/>
          <a:stretch/>
        </p:blipFill>
        <p:spPr>
          <a:xfrm>
            <a:off x="1214280" y="2395440"/>
            <a:ext cx="6042240" cy="43912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omb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25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850" autoRev="1" fill="hold">
                                          <p:stCondLst>
                                            <p:cond delay="25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850" autoRev="1" fill="hold">
                                          <p:stCondLst>
                                            <p:cond delay="25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850" autoRev="1" fill="hold">
                                          <p:stCondLst>
                                            <p:cond delay="25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ítulo 8"/>
          <p:cNvGrpSpPr/>
          <p:nvPr/>
        </p:nvGrpSpPr>
        <p:grpSpPr>
          <a:xfrm>
            <a:off x="231840" y="-36360"/>
            <a:ext cx="4260960" cy="931680"/>
            <a:chOff x="231840" y="-36360"/>
            <a:chExt cx="4260960" cy="931680"/>
          </a:xfrm>
        </p:grpSpPr>
        <p:pic>
          <p:nvPicPr>
            <p:cNvPr id="209" name="Título 8" descr=""/>
            <p:cNvPicPr/>
            <p:nvPr/>
          </p:nvPicPr>
          <p:blipFill>
            <a:blip r:embed="rId1"/>
            <a:stretch/>
          </p:blipFill>
          <p:spPr>
            <a:xfrm>
              <a:off x="231840" y="-36360"/>
              <a:ext cx="42609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28760" y="71280"/>
              <a:ext cx="4000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000" spc="-1" strike="noStrike">
                  <a:solidFill>
                    <a:srgbClr val="0066ff"/>
                  </a:solidFill>
                  <a:latin typeface="Arial Rounded MT Bold"/>
                </a:rPr>
                <a:t>CATALISIS ENZIMÁTIC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4 Rectángulo"/>
          <p:cNvSpPr/>
          <p:nvPr/>
        </p:nvSpPr>
        <p:spPr>
          <a:xfrm>
            <a:off x="2286000" y="5084640"/>
            <a:ext cx="4572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 + S                     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S                     P +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2" name="7 Conector recto de flecha"/>
          <p:cNvCxnSpPr/>
          <p:nvPr/>
        </p:nvCxnSpPr>
        <p:spPr>
          <a:xfrm>
            <a:off x="4214520" y="5284800"/>
            <a:ext cx="1215000" cy="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3" name="8 Conector recto de flecha"/>
          <p:cNvCxnSpPr/>
          <p:nvPr/>
        </p:nvCxnSpPr>
        <p:spPr>
          <a:xfrm>
            <a:off x="4000320" y="5784840"/>
            <a:ext cx="1143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4" name="CuadroTexto 1"/>
          <p:cNvSpPr/>
          <p:nvPr/>
        </p:nvSpPr>
        <p:spPr>
          <a:xfrm>
            <a:off x="3814920" y="4137120"/>
            <a:ext cx="158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Imagen 2" descr=""/>
          <p:cNvPicPr/>
          <p:nvPr/>
        </p:nvPicPr>
        <p:blipFill>
          <a:blip r:embed="rId2"/>
          <a:stretch/>
        </p:blipFill>
        <p:spPr>
          <a:xfrm>
            <a:off x="571680" y="1150920"/>
            <a:ext cx="800100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394280" y="71280"/>
            <a:ext cx="4473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48a54"/>
                </a:solidFill>
                <a:latin typeface="Arial"/>
              </a:rPr>
              <a:t>Cinética Enzim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5524200" cy="80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6286680" y="2786040"/>
                <a:ext cx="24336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6 CuadroTexto"/>
          <p:cNvSpPr/>
          <p:nvPr/>
        </p:nvSpPr>
        <p:spPr>
          <a:xfrm>
            <a:off x="6000840" y="17622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ichaelis-Men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7 CuadroTexto"/>
          <p:cNvSpPr/>
          <p:nvPr/>
        </p:nvSpPr>
        <p:spPr>
          <a:xfrm>
            <a:off x="5340240" y="4572000"/>
            <a:ext cx="3579480" cy="1313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0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Velocidad de reac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ax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Velocidad máx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ante de Michael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i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centración de Sustr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Imagen 1" descr=""/>
          <p:cNvPicPr/>
          <p:nvPr/>
        </p:nvPicPr>
        <p:blipFill>
          <a:blip r:embed="rId2"/>
          <a:stretch/>
        </p:blipFill>
        <p:spPr>
          <a:xfrm>
            <a:off x="250920" y="1771560"/>
            <a:ext cx="4819680" cy="4781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158840" y="262080"/>
            <a:ext cx="6954840" cy="609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2120760" y="5900760"/>
            <a:ext cx="509436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 proporcional a [E]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n 2" descr=""/>
          <p:cNvPicPr/>
          <p:nvPr/>
        </p:nvPicPr>
        <p:blipFill>
          <a:blip r:embed="rId2"/>
          <a:stretch/>
        </p:blipFill>
        <p:spPr>
          <a:xfrm>
            <a:off x="1967040" y="1309680"/>
            <a:ext cx="5209920" cy="4238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00160" y="142560"/>
            <a:ext cx="5500800" cy="571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1859c"/>
                </a:solidFill>
                <a:latin typeface="Calibri"/>
              </a:rPr>
              <a:t>Parametros Cinét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33720" y="1000080"/>
            <a:ext cx="38098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eweaver-Bu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5445000" y="1655640"/>
                <a:ext cx="2095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1071720" y="1500120"/>
                <a:ext cx="2433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8 Rectángulo"/>
          <p:cNvSpPr/>
          <p:nvPr/>
        </p:nvSpPr>
        <p:spPr>
          <a:xfrm>
            <a:off x="857160" y="1468440"/>
            <a:ext cx="2714760" cy="92880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28760" y="1000080"/>
            <a:ext cx="3143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haelis-M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Imagen 10" descr=""/>
          <p:cNvPicPr/>
          <p:nvPr/>
        </p:nvPicPr>
        <p:blipFill>
          <a:blip r:embed="rId1"/>
          <a:stretch/>
        </p:blipFill>
        <p:spPr>
          <a:xfrm>
            <a:off x="250920" y="2838600"/>
            <a:ext cx="4105080" cy="371448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2" descr=""/>
          <p:cNvPicPr/>
          <p:nvPr/>
        </p:nvPicPr>
        <p:blipFill>
          <a:blip r:embed="rId2"/>
          <a:stretch/>
        </p:blipFill>
        <p:spPr>
          <a:xfrm>
            <a:off x="4486320" y="2886120"/>
            <a:ext cx="4505400" cy="36194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54"/>
          <p:cNvGrpSpPr/>
          <p:nvPr/>
        </p:nvGrpSpPr>
        <p:grpSpPr>
          <a:xfrm>
            <a:off x="1843200" y="2239560"/>
            <a:ext cx="4639680" cy="3452760"/>
            <a:chOff x="1843200" y="2239560"/>
            <a:chExt cx="4639680" cy="3452760"/>
          </a:xfrm>
        </p:grpSpPr>
        <p:sp>
          <p:nvSpPr>
            <p:cNvPr id="235" name="Rectangle 55"/>
            <p:cNvSpPr/>
            <p:nvPr/>
          </p:nvSpPr>
          <p:spPr>
            <a:xfrm>
              <a:off x="1860480" y="3146760"/>
              <a:ext cx="18504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6" name="Picture 56" descr="pHoptimo"/>
            <p:cNvPicPr/>
            <p:nvPr/>
          </p:nvPicPr>
          <p:blipFill>
            <a:blip r:embed="rId1"/>
            <a:stretch/>
          </p:blipFill>
          <p:spPr>
            <a:xfrm>
              <a:off x="1856880" y="2391480"/>
              <a:ext cx="4626000" cy="33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7"/>
            <p:cNvSpPr/>
            <p:nvPr/>
          </p:nvSpPr>
          <p:spPr>
            <a:xfrm rot="16200000">
              <a:off x="441000" y="3641400"/>
              <a:ext cx="317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alibri"/>
                </a:rPr>
                <a:t>% atividade enzimática máxi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11"/>
          <p:cNvSpPr/>
          <p:nvPr/>
        </p:nvSpPr>
        <p:spPr>
          <a:xfrm>
            <a:off x="-2224080" y="2152800"/>
            <a:ext cx="1785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462960" y="268200"/>
            <a:ext cx="811944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ctores que controlan la actividad enzimát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571680" y="1000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ciones de pH:  pH ópt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53"/>
          <p:cNvGrpSpPr/>
          <p:nvPr/>
        </p:nvGrpSpPr>
        <p:grpSpPr>
          <a:xfrm>
            <a:off x="2205360" y="2708280"/>
            <a:ext cx="4731480" cy="3306600"/>
            <a:chOff x="2205360" y="2708280"/>
            <a:chExt cx="4731480" cy="3306600"/>
          </a:xfrm>
        </p:grpSpPr>
        <p:sp>
          <p:nvSpPr>
            <p:cNvPr id="242" name="Line 43"/>
            <p:cNvSpPr/>
            <p:nvPr/>
          </p:nvSpPr>
          <p:spPr>
            <a:xfrm flipH="1">
              <a:off x="4727520" y="2727360"/>
              <a:ext cx="12600" cy="2908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47"/>
            <p:cNvSpPr/>
            <p:nvPr/>
          </p:nvSpPr>
          <p:spPr>
            <a:xfrm flipH="1">
              <a:off x="5881680" y="2714760"/>
              <a:ext cx="12960" cy="289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8"/>
            <p:cNvSpPr/>
            <p:nvPr/>
          </p:nvSpPr>
          <p:spPr>
            <a:xfrm flipH="1">
              <a:off x="2757240" y="2708280"/>
              <a:ext cx="12600" cy="283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50"/>
            <p:cNvSpPr/>
            <p:nvPr/>
          </p:nvSpPr>
          <p:spPr>
            <a:xfrm>
              <a:off x="2205360" y="56275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alibri"/>
                </a:rPr>
                <a:t>pH óptimo=1,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51"/>
            <p:cNvSpPr/>
            <p:nvPr/>
          </p:nvSpPr>
          <p:spPr>
            <a:xfrm>
              <a:off x="3934080" y="56466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alibri"/>
                </a:rPr>
                <a:t>pH óptimo=6,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52"/>
            <p:cNvSpPr/>
            <p:nvPr/>
          </p:nvSpPr>
          <p:spPr>
            <a:xfrm>
              <a:off x="5367600" y="563256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alibri"/>
                </a:rPr>
                <a:t>pH óptimo=9,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Imagen 1" descr=""/>
          <p:cNvPicPr/>
          <p:nvPr/>
        </p:nvPicPr>
        <p:blipFill>
          <a:blip r:embed="rId1"/>
          <a:stretch/>
        </p:blipFill>
        <p:spPr>
          <a:xfrm>
            <a:off x="771480" y="2185920"/>
            <a:ext cx="51721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-2224080" y="2152800"/>
            <a:ext cx="1785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Text Box 4"/>
          <p:cNvGrpSpPr/>
          <p:nvPr/>
        </p:nvGrpSpPr>
        <p:grpSpPr>
          <a:xfrm>
            <a:off x="755640" y="463680"/>
            <a:ext cx="7443720" cy="865080"/>
            <a:chOff x="755640" y="463680"/>
            <a:chExt cx="7443720" cy="865080"/>
          </a:xfrm>
        </p:grpSpPr>
        <p:pic>
          <p:nvPicPr>
            <p:cNvPr id="251" name="Text Box 4" descr=""/>
            <p:cNvPicPr/>
            <p:nvPr/>
          </p:nvPicPr>
          <p:blipFill>
            <a:blip r:embed="rId2"/>
            <a:stretch/>
          </p:blipFill>
          <p:spPr>
            <a:xfrm>
              <a:off x="755640" y="463680"/>
              <a:ext cx="74437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059120" y="547560"/>
              <a:ext cx="695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604a7b"/>
                  </a:solidFill>
                  <a:latin typeface="Calibri"/>
                </a:rPr>
                <a:t>Factores que controlan la atividad enzimática</a:t>
              </a:r>
              <a:r>
                <a:rPr b="0" lang="pt-PT" sz="2800" spc="-1" strike="noStrike">
                  <a:solidFill>
                    <a:srgbClr val="604a7b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Text Box 5"/>
          <p:cNvSpPr/>
          <p:nvPr/>
        </p:nvSpPr>
        <p:spPr>
          <a:xfrm>
            <a:off x="399960" y="1263600"/>
            <a:ext cx="83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ariaciones de temperatura:  temperatura óp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4428720" y="2714760"/>
            <a:ext cx="50760" cy="2865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302000" y="6093000"/>
            <a:ext cx="214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mperatura ót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4786200" y="2687760"/>
            <a:ext cx="2786040" cy="2736720"/>
            <a:chOff x="4786200" y="2687760"/>
            <a:chExt cx="2786040" cy="2736720"/>
          </a:xfrm>
        </p:grpSpPr>
        <p:sp>
          <p:nvSpPr>
            <p:cNvPr id="257" name="Line 15"/>
            <p:cNvSpPr/>
            <p:nvPr/>
          </p:nvSpPr>
          <p:spPr>
            <a:xfrm>
              <a:off x="4786200" y="2687760"/>
              <a:ext cx="571680" cy="2571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H="1">
              <a:off x="6211800" y="3328920"/>
              <a:ext cx="76320" cy="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H="1">
              <a:off x="6630840" y="5386320"/>
              <a:ext cx="75960" cy="3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14"/>
            <p:cNvSpPr/>
            <p:nvPr/>
          </p:nvSpPr>
          <p:spPr>
            <a:xfrm>
              <a:off x="6529320" y="3925800"/>
              <a:ext cx="71136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 flipV="1">
              <a:off x="6491160" y="4294080"/>
              <a:ext cx="38160" cy="1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19"/>
            <p:cNvSpPr/>
            <p:nvPr/>
          </p:nvSpPr>
          <p:spPr>
            <a:xfrm>
              <a:off x="5143680" y="2973600"/>
              <a:ext cx="24285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alibri"/>
                </a:rPr>
                <a:t>Desnaturalización térmica de la proteí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63" name="AutoShape 20"/>
            <p:cNvCxnSpPr/>
            <p:nvPr/>
          </p:nvCxnSpPr>
          <p:spPr>
            <a:xfrm flipH="1" flipV="1" rot="5400000">
              <a:off x="5652720" y="3391920"/>
              <a:ext cx="623160" cy="1641960"/>
            </a:xfrm>
            <a:prstGeom prst="curvedConnector5">
              <a:avLst>
                <a:gd name="adj1" fmla="val 20115"/>
                <a:gd name="adj2" fmla="val 56907"/>
                <a:gd name="adj3" fmla="val 2011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64" name="Line 39"/>
          <p:cNvSpPr/>
          <p:nvPr/>
        </p:nvSpPr>
        <p:spPr>
          <a:xfrm flipV="1">
            <a:off x="2571840" y="2785680"/>
            <a:ext cx="1643040" cy="2109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1428840" y="3286080"/>
            <a:ext cx="15541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Poca energía para que la reacción se produz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val 41"/>
          <p:cNvSpPr/>
          <p:nvPr/>
        </p:nvSpPr>
        <p:spPr>
          <a:xfrm>
            <a:off x="4216320" y="3111480"/>
            <a:ext cx="13968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20 CuadroTexto"/>
          <p:cNvSpPr/>
          <p:nvPr/>
        </p:nvSpPr>
        <p:spPr>
          <a:xfrm>
            <a:off x="4143240" y="55008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21 Rectángulo"/>
          <p:cNvSpPr/>
          <p:nvPr/>
        </p:nvSpPr>
        <p:spPr>
          <a:xfrm>
            <a:off x="4199040" y="5610240"/>
            <a:ext cx="357120" cy="285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4 Rectángulo" descr=""/>
          <p:cNvPicPr/>
          <p:nvPr/>
        </p:nvPicPr>
        <p:blipFill>
          <a:blip r:embed="rId1"/>
          <a:stretch/>
        </p:blipFill>
        <p:spPr>
          <a:xfrm>
            <a:off x="1663560" y="103320"/>
            <a:ext cx="5889600" cy="1433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5"/>
          <p:cNvSpPr/>
          <p:nvPr/>
        </p:nvSpPr>
        <p:spPr>
          <a:xfrm>
            <a:off x="357120" y="2000160"/>
            <a:ext cx="8210520" cy="43599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ibido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reversibles: no protéicos y proté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rsibles: competitivo, no competitivo o mixto, incompeti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stér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adores e inhibi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perativ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ción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ación de zimóge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forilación y desfosfor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wipe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25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25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25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25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2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2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25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25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25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25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25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25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25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25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25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25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25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25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Rectangle 2"/>
          <p:cNvGrpSpPr/>
          <p:nvPr/>
        </p:nvGrpSpPr>
        <p:grpSpPr>
          <a:xfrm>
            <a:off x="1682640" y="30240"/>
            <a:ext cx="5175360" cy="1049400"/>
            <a:chOff x="1682640" y="30240"/>
            <a:chExt cx="5175360" cy="1049400"/>
          </a:xfrm>
        </p:grpSpPr>
        <p:pic>
          <p:nvPicPr>
            <p:cNvPr id="272" name="Rectangle 2" descr=""/>
            <p:cNvPicPr/>
            <p:nvPr/>
          </p:nvPicPr>
          <p:blipFill>
            <a:blip r:embed="rId1"/>
            <a:stretch/>
          </p:blipFill>
          <p:spPr>
            <a:xfrm>
              <a:off x="1682640" y="30240"/>
              <a:ext cx="51753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28880" y="274680"/>
              <a:ext cx="46861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Calibri"/>
                </a:rPr>
                <a:t>INHIBIDORES IRREVERSIBLES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250920" y="1696680"/>
            <a:ext cx="5464080" cy="330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Se unen a las enzimas con alta afinidad llevando a la inactivaión definitiva de es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Muy tóxicos para el organismo, siendo capaces de inactivar cualquier enzi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Group 53"/>
          <p:cNvGrpSpPr/>
          <p:nvPr/>
        </p:nvGrpSpPr>
        <p:grpSpPr>
          <a:xfrm>
            <a:off x="6000840" y="928800"/>
            <a:ext cx="2714040" cy="2071080"/>
            <a:chOff x="6000840" y="928800"/>
            <a:chExt cx="2714040" cy="2071080"/>
          </a:xfrm>
        </p:grpSpPr>
        <p:pic>
          <p:nvPicPr>
            <p:cNvPr id="276" name="Picture 54" descr=""/>
            <p:cNvPicPr/>
            <p:nvPr/>
          </p:nvPicPr>
          <p:blipFill>
            <a:blip r:embed="rId2"/>
            <a:stretch/>
          </p:blipFill>
          <p:spPr>
            <a:xfrm>
              <a:off x="6005520" y="928800"/>
              <a:ext cx="2709360" cy="207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angle 55"/>
            <p:cNvSpPr/>
            <p:nvPr/>
          </p:nvSpPr>
          <p:spPr>
            <a:xfrm>
              <a:off x="6000840" y="1929960"/>
              <a:ext cx="1014120" cy="4179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Group 61"/>
          <p:cNvGrpSpPr/>
          <p:nvPr/>
        </p:nvGrpSpPr>
        <p:grpSpPr>
          <a:xfrm>
            <a:off x="5929200" y="3786120"/>
            <a:ext cx="3071520" cy="2153880"/>
            <a:chOff x="5929200" y="3786120"/>
            <a:chExt cx="3071520" cy="2153880"/>
          </a:xfrm>
        </p:grpSpPr>
        <p:pic>
          <p:nvPicPr>
            <p:cNvPr id="279" name="Picture 62" descr="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5929200" y="3786120"/>
              <a:ext cx="3071520" cy="16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63"/>
            <p:cNvSpPr/>
            <p:nvPr/>
          </p:nvSpPr>
          <p:spPr>
            <a:xfrm>
              <a:off x="6496560" y="5062680"/>
              <a:ext cx="834480" cy="3056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64"/>
            <p:cNvSpPr/>
            <p:nvPr/>
          </p:nvSpPr>
          <p:spPr>
            <a:xfrm>
              <a:off x="6365520" y="557172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ida media – 23 an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ext Box 23" descr=""/>
          <p:cNvPicPr/>
          <p:nvPr/>
        </p:nvPicPr>
        <p:blipFill>
          <a:blip r:embed="rId1"/>
          <a:stretch/>
        </p:blipFill>
        <p:spPr>
          <a:xfrm>
            <a:off x="1889280" y="-244440"/>
            <a:ext cx="5254560" cy="23652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4"/>
          <p:cNvSpPr/>
          <p:nvPr/>
        </p:nvSpPr>
        <p:spPr>
          <a:xfrm>
            <a:off x="500040" y="1714680"/>
            <a:ext cx="8286840" cy="454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inhibidor es análogo estructural al sustrato y compite con este por la unión al centro activo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 el aumento del sustrato disminuye la inhibición realizándose una competencia entre el sustrato y el inhibid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hay alteración de la Vma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y un aumento de K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randomBar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NCEP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Rectangle 3"/>
          <p:cNvGrpSpPr/>
          <p:nvPr/>
        </p:nvGrpSpPr>
        <p:grpSpPr>
          <a:xfrm>
            <a:off x="304920" y="1450800"/>
            <a:ext cx="8534160" cy="3846600"/>
            <a:chOff x="304920" y="1450800"/>
            <a:chExt cx="8534160" cy="3846600"/>
          </a:xfrm>
        </p:grpSpPr>
        <p:pic>
          <p:nvPicPr>
            <p:cNvPr id="93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450800"/>
              <a:ext cx="853416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1600200"/>
              <a:ext cx="822960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Calibri"/>
                </a:rPr>
                <a:t>Las enzimas son  proteínas especializadas en catalizar reacciones biológicas, o sea aumentan la velocidad de una reacción química sin interferir en el  proceso.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10000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7"/>
          <p:cNvGrpSpPr/>
          <p:nvPr/>
        </p:nvGrpSpPr>
        <p:grpSpPr>
          <a:xfrm>
            <a:off x="2230560" y="1398600"/>
            <a:ext cx="736560" cy="398880"/>
            <a:chOff x="2230560" y="1398600"/>
            <a:chExt cx="736560" cy="398880"/>
          </a:xfrm>
        </p:grpSpPr>
        <p:sp>
          <p:nvSpPr>
            <p:cNvPr id="285" name="Oval 11"/>
            <p:cNvSpPr/>
            <p:nvPr/>
          </p:nvSpPr>
          <p:spPr>
            <a:xfrm>
              <a:off x="2230560" y="143820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 Box 16"/>
            <p:cNvSpPr/>
            <p:nvPr/>
          </p:nvSpPr>
          <p:spPr>
            <a:xfrm>
              <a:off x="2448720" y="139860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9"/>
          <p:cNvGrpSpPr/>
          <p:nvPr/>
        </p:nvGrpSpPr>
        <p:grpSpPr>
          <a:xfrm>
            <a:off x="522360" y="1698480"/>
            <a:ext cx="1523880" cy="1231920"/>
            <a:chOff x="522360" y="1698480"/>
            <a:chExt cx="1523880" cy="1231920"/>
          </a:xfrm>
        </p:grpSpPr>
        <p:sp>
          <p:nvSpPr>
            <p:cNvPr id="288" name="Oval 4"/>
            <p:cNvSpPr/>
            <p:nvPr/>
          </p:nvSpPr>
          <p:spPr>
            <a:xfrm>
              <a:off x="522360" y="1698480"/>
              <a:ext cx="1320840" cy="12319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>
              <a:off x="1309680" y="2130120"/>
              <a:ext cx="736560" cy="34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947880" y="206820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22"/>
          <p:cNvGrpSpPr/>
          <p:nvPr/>
        </p:nvGrpSpPr>
        <p:grpSpPr>
          <a:xfrm>
            <a:off x="2416320" y="2492280"/>
            <a:ext cx="736560" cy="622440"/>
            <a:chOff x="2416320" y="2492280"/>
            <a:chExt cx="736560" cy="622440"/>
          </a:xfrm>
        </p:grpSpPr>
        <p:sp>
          <p:nvSpPr>
            <p:cNvPr id="292" name="Oval 12"/>
            <p:cNvSpPr/>
            <p:nvPr/>
          </p:nvSpPr>
          <p:spPr>
            <a:xfrm>
              <a:off x="2416320" y="2631960"/>
              <a:ext cx="736560" cy="3430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2911680" y="2492280"/>
              <a:ext cx="241200" cy="622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20"/>
            <p:cNvSpPr/>
            <p:nvPr/>
          </p:nvSpPr>
          <p:spPr>
            <a:xfrm>
              <a:off x="2674800" y="2604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 Box 23"/>
          <p:cNvSpPr/>
          <p:nvPr/>
        </p:nvSpPr>
        <p:spPr>
          <a:xfrm>
            <a:off x="510840" y="195120"/>
            <a:ext cx="385524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ción compet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Line 26"/>
          <p:cNvSpPr/>
          <p:nvPr/>
        </p:nvSpPr>
        <p:spPr>
          <a:xfrm flipH="1">
            <a:off x="2082960" y="4559400"/>
            <a:ext cx="10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28"/>
          <p:cNvGrpSpPr/>
          <p:nvPr/>
        </p:nvGrpSpPr>
        <p:grpSpPr>
          <a:xfrm>
            <a:off x="1461960" y="1628640"/>
            <a:ext cx="1143000" cy="628560"/>
            <a:chOff x="1461960" y="1628640"/>
            <a:chExt cx="1143000" cy="628560"/>
          </a:xfrm>
        </p:grpSpPr>
        <p:sp>
          <p:nvSpPr>
            <p:cNvPr id="298" name="Freeform 25"/>
            <p:cNvSpPr/>
            <p:nvPr/>
          </p:nvSpPr>
          <p:spPr>
            <a:xfrm>
              <a:off x="1487160" y="1628640"/>
              <a:ext cx="1117800" cy="622080"/>
            </a:xfrm>
            <a:custGeom>
              <a:avLst/>
              <a:gdLst/>
              <a:ahLst/>
              <a:rect l="l" t="t" r="r" b="b"/>
              <a:pathLst>
                <a:path w="704" h="392">
                  <a:moveTo>
                    <a:pt x="704" y="0"/>
                  </a:moveTo>
                  <a:cubicBezTo>
                    <a:pt x="606" y="119"/>
                    <a:pt x="509" y="239"/>
                    <a:pt x="392" y="304"/>
                  </a:cubicBezTo>
                  <a:cubicBezTo>
                    <a:pt x="275" y="369"/>
                    <a:pt x="57" y="377"/>
                    <a:pt x="0" y="392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1461960" y="2219040"/>
              <a:ext cx="247680" cy="381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Line 29"/>
          <p:cNvSpPr/>
          <p:nvPr/>
        </p:nvSpPr>
        <p:spPr>
          <a:xfrm flipV="1">
            <a:off x="1528920" y="2168280"/>
            <a:ext cx="1228680" cy="6012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33"/>
          <p:cNvSpPr/>
          <p:nvPr/>
        </p:nvSpPr>
        <p:spPr>
          <a:xfrm>
            <a:off x="1620720" y="2378160"/>
            <a:ext cx="836640" cy="3618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34"/>
          <p:cNvGrpSpPr/>
          <p:nvPr/>
        </p:nvGrpSpPr>
        <p:grpSpPr>
          <a:xfrm>
            <a:off x="1316160" y="1987560"/>
            <a:ext cx="736560" cy="622440"/>
            <a:chOff x="1316160" y="1987560"/>
            <a:chExt cx="736560" cy="622440"/>
          </a:xfrm>
        </p:grpSpPr>
        <p:sp>
          <p:nvSpPr>
            <p:cNvPr id="303" name="Oval 35"/>
            <p:cNvSpPr/>
            <p:nvPr/>
          </p:nvSpPr>
          <p:spPr>
            <a:xfrm>
              <a:off x="1316160" y="2127240"/>
              <a:ext cx="736560" cy="3430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Oval 36"/>
            <p:cNvSpPr/>
            <p:nvPr/>
          </p:nvSpPr>
          <p:spPr>
            <a:xfrm>
              <a:off x="1811520" y="1987560"/>
              <a:ext cx="241200" cy="622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37"/>
            <p:cNvSpPr/>
            <p:nvPr/>
          </p:nvSpPr>
          <p:spPr>
            <a:xfrm>
              <a:off x="1574640" y="21002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42"/>
          <p:cNvGrpSpPr/>
          <p:nvPr/>
        </p:nvGrpSpPr>
        <p:grpSpPr>
          <a:xfrm>
            <a:off x="1382760" y="1025640"/>
            <a:ext cx="736560" cy="622080"/>
            <a:chOff x="1382760" y="1025640"/>
            <a:chExt cx="736560" cy="622080"/>
          </a:xfrm>
        </p:grpSpPr>
        <p:sp>
          <p:nvSpPr>
            <p:cNvPr id="307" name="Oval 43"/>
            <p:cNvSpPr/>
            <p:nvPr/>
          </p:nvSpPr>
          <p:spPr>
            <a:xfrm>
              <a:off x="1382760" y="1164960"/>
              <a:ext cx="736560" cy="34272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4"/>
            <p:cNvSpPr/>
            <p:nvPr/>
          </p:nvSpPr>
          <p:spPr>
            <a:xfrm>
              <a:off x="1878120" y="1025640"/>
              <a:ext cx="241200" cy="6220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5"/>
            <p:cNvSpPr/>
            <p:nvPr/>
          </p:nvSpPr>
          <p:spPr>
            <a:xfrm>
              <a:off x="1641240" y="1137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46"/>
          <p:cNvGrpSpPr/>
          <p:nvPr/>
        </p:nvGrpSpPr>
        <p:grpSpPr>
          <a:xfrm>
            <a:off x="1658880" y="2695680"/>
            <a:ext cx="736560" cy="398880"/>
            <a:chOff x="1658880" y="2695680"/>
            <a:chExt cx="736560" cy="398880"/>
          </a:xfrm>
        </p:grpSpPr>
        <p:sp>
          <p:nvSpPr>
            <p:cNvPr id="311" name="Oval 47"/>
            <p:cNvSpPr/>
            <p:nvPr/>
          </p:nvSpPr>
          <p:spPr>
            <a:xfrm>
              <a:off x="1658880" y="273528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8"/>
            <p:cNvSpPr/>
            <p:nvPr/>
          </p:nvSpPr>
          <p:spPr>
            <a:xfrm>
              <a:off x="1877040" y="269568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90"/>
          <p:cNvGrpSpPr/>
          <p:nvPr/>
        </p:nvGrpSpPr>
        <p:grpSpPr>
          <a:xfrm>
            <a:off x="2637000" y="1838160"/>
            <a:ext cx="736560" cy="398880"/>
            <a:chOff x="2637000" y="1838160"/>
            <a:chExt cx="736560" cy="398880"/>
          </a:xfrm>
        </p:grpSpPr>
        <p:sp>
          <p:nvSpPr>
            <p:cNvPr id="314" name="Oval 74"/>
            <p:cNvSpPr/>
            <p:nvPr/>
          </p:nvSpPr>
          <p:spPr>
            <a:xfrm>
              <a:off x="2637000" y="1865160"/>
              <a:ext cx="736560" cy="343080"/>
            </a:xfrm>
            <a:prstGeom prst="ellipse">
              <a:avLst/>
            </a:prstGeom>
            <a:solidFill>
              <a:srgbClr val="f6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75"/>
            <p:cNvSpPr/>
            <p:nvPr/>
          </p:nvSpPr>
          <p:spPr>
            <a:xfrm>
              <a:off x="2853000" y="1838160"/>
              <a:ext cx="353880" cy="398880"/>
            </a:xfrm>
            <a:prstGeom prst="rect">
              <a:avLst/>
            </a:prstGeom>
            <a:solidFill>
              <a:srgbClr val="f6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79" descr=""/>
          <p:cNvPicPr/>
          <p:nvPr/>
        </p:nvPicPr>
        <p:blipFill>
          <a:blip r:embed="rId1"/>
          <a:stretch/>
        </p:blipFill>
        <p:spPr>
          <a:xfrm>
            <a:off x="200160" y="3683160"/>
            <a:ext cx="3011400" cy="2735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1" descr=""/>
          <p:cNvPicPr/>
          <p:nvPr/>
        </p:nvPicPr>
        <p:blipFill>
          <a:blip r:embed="rId2"/>
          <a:stretch/>
        </p:blipFill>
        <p:spPr>
          <a:xfrm>
            <a:off x="5146560" y="5873760"/>
            <a:ext cx="3778200" cy="797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2" descr=""/>
          <p:cNvPicPr/>
          <p:nvPr/>
        </p:nvPicPr>
        <p:blipFill>
          <a:blip r:embed="rId3"/>
          <a:stretch/>
        </p:blipFill>
        <p:spPr>
          <a:xfrm>
            <a:off x="1593720" y="5146560"/>
            <a:ext cx="1722600" cy="811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4" descr=""/>
          <p:cNvPicPr/>
          <p:nvPr/>
        </p:nvPicPr>
        <p:blipFill>
          <a:blip r:embed="rId4"/>
          <a:srcRect l="41379" t="48892" r="0" b="6519"/>
          <a:stretch/>
        </p:blipFill>
        <p:spPr>
          <a:xfrm>
            <a:off x="8021520" y="4357800"/>
            <a:ext cx="1122480" cy="72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5" descr=""/>
          <p:cNvPicPr/>
          <p:nvPr/>
        </p:nvPicPr>
        <p:blipFill>
          <a:blip r:embed="rId5"/>
          <a:srcRect l="8276" t="0" r="0" b="55411"/>
          <a:stretch/>
        </p:blipFill>
        <p:spPr>
          <a:xfrm>
            <a:off x="2940120" y="5946840"/>
            <a:ext cx="2004840" cy="825480"/>
          </a:xfrm>
          <a:prstGeom prst="rect">
            <a:avLst/>
          </a:prstGeom>
          <a:ln w="0">
            <a:noFill/>
          </a:ln>
        </p:spPr>
      </p:pic>
      <p:sp>
        <p:nvSpPr>
          <p:cNvPr id="321" name="Oval 87"/>
          <p:cNvSpPr/>
          <p:nvPr/>
        </p:nvSpPr>
        <p:spPr>
          <a:xfrm>
            <a:off x="3713040" y="6386400"/>
            <a:ext cx="204840" cy="4716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Oval 88"/>
          <p:cNvSpPr/>
          <p:nvPr/>
        </p:nvSpPr>
        <p:spPr>
          <a:xfrm>
            <a:off x="6296040" y="5919840"/>
            <a:ext cx="263520" cy="4716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91"/>
          <p:cNvGrpSpPr/>
          <p:nvPr/>
        </p:nvGrpSpPr>
        <p:grpSpPr>
          <a:xfrm>
            <a:off x="1176480" y="1214280"/>
            <a:ext cx="1790640" cy="2340360"/>
            <a:chOff x="1176480" y="1214280"/>
            <a:chExt cx="1790640" cy="2340360"/>
          </a:xfrm>
        </p:grpSpPr>
        <p:grpSp>
          <p:nvGrpSpPr>
            <p:cNvPr id="324" name="Group 92"/>
            <p:cNvGrpSpPr/>
            <p:nvPr/>
          </p:nvGrpSpPr>
          <p:grpSpPr>
            <a:xfrm>
              <a:off x="2017800" y="1214280"/>
              <a:ext cx="736560" cy="398880"/>
              <a:chOff x="2017800" y="1214280"/>
              <a:chExt cx="736560" cy="398880"/>
            </a:xfrm>
          </p:grpSpPr>
          <p:sp>
            <p:nvSpPr>
              <p:cNvPr id="325" name="Oval 93"/>
              <p:cNvSpPr/>
              <p:nvPr/>
            </p:nvSpPr>
            <p:spPr>
              <a:xfrm>
                <a:off x="2017800" y="1253880"/>
                <a:ext cx="736560" cy="3423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Text Box 94"/>
              <p:cNvSpPr/>
              <p:nvPr/>
            </p:nvSpPr>
            <p:spPr>
              <a:xfrm>
                <a:off x="2235960" y="121428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7" name="Group 95"/>
            <p:cNvGrpSpPr/>
            <p:nvPr/>
          </p:nvGrpSpPr>
          <p:grpSpPr>
            <a:xfrm>
              <a:off x="1454040" y="2039760"/>
              <a:ext cx="736560" cy="398880"/>
              <a:chOff x="1454040" y="2039760"/>
              <a:chExt cx="736560" cy="398880"/>
            </a:xfrm>
          </p:grpSpPr>
          <p:sp>
            <p:nvSpPr>
              <p:cNvPr id="328" name="Oval 96"/>
              <p:cNvSpPr/>
              <p:nvPr/>
            </p:nvSpPr>
            <p:spPr>
              <a:xfrm>
                <a:off x="1454040" y="2079360"/>
                <a:ext cx="736560" cy="3423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Text Box 97"/>
              <p:cNvSpPr/>
              <p:nvPr/>
            </p:nvSpPr>
            <p:spPr>
              <a:xfrm>
                <a:off x="1672200" y="203976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0" name="Group 98"/>
            <p:cNvGrpSpPr/>
            <p:nvPr/>
          </p:nvGrpSpPr>
          <p:grpSpPr>
            <a:xfrm>
              <a:off x="1176480" y="2720520"/>
              <a:ext cx="736560" cy="398880"/>
              <a:chOff x="1176480" y="2720520"/>
              <a:chExt cx="736560" cy="398880"/>
            </a:xfrm>
          </p:grpSpPr>
          <p:sp>
            <p:nvSpPr>
              <p:cNvPr id="331" name="Oval 99"/>
              <p:cNvSpPr/>
              <p:nvPr/>
            </p:nvSpPr>
            <p:spPr>
              <a:xfrm>
                <a:off x="1176480" y="2760480"/>
                <a:ext cx="736560" cy="3427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Text Box 100"/>
              <p:cNvSpPr/>
              <p:nvPr/>
            </p:nvSpPr>
            <p:spPr>
              <a:xfrm>
                <a:off x="1394640" y="272052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3" name="Group 101"/>
            <p:cNvGrpSpPr/>
            <p:nvPr/>
          </p:nvGrpSpPr>
          <p:grpSpPr>
            <a:xfrm>
              <a:off x="1398600" y="1525320"/>
              <a:ext cx="736560" cy="398880"/>
              <a:chOff x="1398600" y="1525320"/>
              <a:chExt cx="736560" cy="398880"/>
            </a:xfrm>
          </p:grpSpPr>
          <p:sp>
            <p:nvSpPr>
              <p:cNvPr id="334" name="Oval 102"/>
              <p:cNvSpPr/>
              <p:nvPr/>
            </p:nvSpPr>
            <p:spPr>
              <a:xfrm>
                <a:off x="1398600" y="1564920"/>
                <a:ext cx="736560" cy="3423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Text Box 103"/>
              <p:cNvSpPr/>
              <p:nvPr/>
            </p:nvSpPr>
            <p:spPr>
              <a:xfrm>
                <a:off x="1616760" y="152532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6" name="Group 104"/>
            <p:cNvGrpSpPr/>
            <p:nvPr/>
          </p:nvGrpSpPr>
          <p:grpSpPr>
            <a:xfrm>
              <a:off x="1833480" y="3155760"/>
              <a:ext cx="736560" cy="398880"/>
              <a:chOff x="1833480" y="3155760"/>
              <a:chExt cx="736560" cy="398880"/>
            </a:xfrm>
          </p:grpSpPr>
          <p:sp>
            <p:nvSpPr>
              <p:cNvPr id="337" name="Oval 105"/>
              <p:cNvSpPr/>
              <p:nvPr/>
            </p:nvSpPr>
            <p:spPr>
              <a:xfrm>
                <a:off x="1833480" y="3195360"/>
                <a:ext cx="736560" cy="3423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Text Box 106"/>
              <p:cNvSpPr/>
              <p:nvPr/>
            </p:nvSpPr>
            <p:spPr>
              <a:xfrm>
                <a:off x="2051640" y="315576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Group 107"/>
            <p:cNvGrpSpPr/>
            <p:nvPr/>
          </p:nvGrpSpPr>
          <p:grpSpPr>
            <a:xfrm>
              <a:off x="2152800" y="1876320"/>
              <a:ext cx="736560" cy="398880"/>
              <a:chOff x="2152800" y="1876320"/>
              <a:chExt cx="736560" cy="398880"/>
            </a:xfrm>
          </p:grpSpPr>
          <p:sp>
            <p:nvSpPr>
              <p:cNvPr id="340" name="Oval 108"/>
              <p:cNvSpPr/>
              <p:nvPr/>
            </p:nvSpPr>
            <p:spPr>
              <a:xfrm>
                <a:off x="2152800" y="1915920"/>
                <a:ext cx="736560" cy="3423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Text Box 109"/>
              <p:cNvSpPr/>
              <p:nvPr/>
            </p:nvSpPr>
            <p:spPr>
              <a:xfrm>
                <a:off x="2370960" y="187632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" name="Group 110"/>
            <p:cNvGrpSpPr/>
            <p:nvPr/>
          </p:nvGrpSpPr>
          <p:grpSpPr>
            <a:xfrm>
              <a:off x="2230560" y="2263320"/>
              <a:ext cx="736560" cy="398880"/>
              <a:chOff x="2230560" y="2263320"/>
              <a:chExt cx="736560" cy="398880"/>
            </a:xfrm>
          </p:grpSpPr>
          <p:sp>
            <p:nvSpPr>
              <p:cNvPr id="343" name="Oval 111"/>
              <p:cNvSpPr/>
              <p:nvPr/>
            </p:nvSpPr>
            <p:spPr>
              <a:xfrm>
                <a:off x="2230560" y="2303280"/>
                <a:ext cx="736560" cy="3427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Text Box 112"/>
              <p:cNvSpPr/>
              <p:nvPr/>
            </p:nvSpPr>
            <p:spPr>
              <a:xfrm>
                <a:off x="2448720" y="2263320"/>
                <a:ext cx="29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5" name="Group 113"/>
          <p:cNvGrpSpPr/>
          <p:nvPr/>
        </p:nvGrpSpPr>
        <p:grpSpPr>
          <a:xfrm>
            <a:off x="2128680" y="2187720"/>
            <a:ext cx="736560" cy="398880"/>
            <a:chOff x="2128680" y="2187720"/>
            <a:chExt cx="736560" cy="398880"/>
          </a:xfrm>
        </p:grpSpPr>
        <p:sp>
          <p:nvSpPr>
            <p:cNvPr id="346" name="Oval 114"/>
            <p:cNvSpPr/>
            <p:nvPr/>
          </p:nvSpPr>
          <p:spPr>
            <a:xfrm>
              <a:off x="2128680" y="222732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 Box 115"/>
            <p:cNvSpPr/>
            <p:nvPr/>
          </p:nvSpPr>
          <p:spPr>
            <a:xfrm>
              <a:off x="2346840" y="218772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30"/>
          <p:cNvGrpSpPr/>
          <p:nvPr/>
        </p:nvGrpSpPr>
        <p:grpSpPr>
          <a:xfrm>
            <a:off x="1508760" y="1950120"/>
            <a:ext cx="1352160" cy="1144080"/>
            <a:chOff x="1508760" y="1950120"/>
            <a:chExt cx="1352160" cy="1144080"/>
          </a:xfrm>
        </p:grpSpPr>
        <p:sp>
          <p:nvSpPr>
            <p:cNvPr id="349" name="Freeform 31"/>
            <p:cNvSpPr/>
            <p:nvPr/>
          </p:nvSpPr>
          <p:spPr>
            <a:xfrm flipV="1" rot="20251800">
              <a:off x="1641240" y="2133360"/>
              <a:ext cx="1113120" cy="777600"/>
            </a:xfrm>
            <a:custGeom>
              <a:avLst/>
              <a:gdLst/>
              <a:ahLst/>
              <a:rect l="l" t="t" r="r" b="b"/>
              <a:pathLst>
                <a:path w="704" h="392">
                  <a:moveTo>
                    <a:pt x="704" y="0"/>
                  </a:moveTo>
                  <a:cubicBezTo>
                    <a:pt x="606" y="119"/>
                    <a:pt x="509" y="239"/>
                    <a:pt x="392" y="304"/>
                  </a:cubicBezTo>
                  <a:cubicBezTo>
                    <a:pt x="275" y="369"/>
                    <a:pt x="57" y="377"/>
                    <a:pt x="0" y="39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 flipH="1">
              <a:off x="1508760" y="2327760"/>
              <a:ext cx="246240" cy="50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116"/>
          <p:cNvGrpSpPr/>
          <p:nvPr/>
        </p:nvGrpSpPr>
        <p:grpSpPr>
          <a:xfrm>
            <a:off x="609480" y="1876320"/>
            <a:ext cx="1142640" cy="888840"/>
            <a:chOff x="609480" y="1876320"/>
            <a:chExt cx="1142640" cy="888840"/>
          </a:xfrm>
        </p:grpSpPr>
        <p:sp>
          <p:nvSpPr>
            <p:cNvPr id="352" name="Line 117"/>
            <p:cNvSpPr/>
            <p:nvPr/>
          </p:nvSpPr>
          <p:spPr>
            <a:xfrm>
              <a:off x="609480" y="1944360"/>
              <a:ext cx="1142640" cy="73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Line 118"/>
            <p:cNvSpPr/>
            <p:nvPr/>
          </p:nvSpPr>
          <p:spPr>
            <a:xfrm flipH="1">
              <a:off x="659880" y="1876320"/>
              <a:ext cx="907200" cy="88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4" name="Picture 2" descr="F08-15c.1.GIF036                                               00004F26Sumanas' Hard Drive            B4EBCDA7:"/>
          <p:cNvPicPr/>
          <p:nvPr/>
        </p:nvPicPr>
        <p:blipFill>
          <a:blip r:embed="rId6"/>
          <a:stretch/>
        </p:blipFill>
        <p:spPr>
          <a:xfrm>
            <a:off x="3357720" y="857160"/>
            <a:ext cx="4714560" cy="4857840"/>
          </a:xfrm>
          <a:prstGeom prst="rect">
            <a:avLst/>
          </a:prstGeom>
          <a:ln w="0">
            <a:noFill/>
          </a:ln>
        </p:spPr>
      </p:pic>
    </p:spTree>
  </p:cSld>
  <p:transition advTm="34000">
    <p:wheel spokes="1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 Box 107"/>
          <p:cNvGrpSpPr/>
          <p:nvPr/>
        </p:nvGrpSpPr>
        <p:grpSpPr>
          <a:xfrm>
            <a:off x="1511280" y="96840"/>
            <a:ext cx="6248520" cy="1103400"/>
            <a:chOff x="1511280" y="96840"/>
            <a:chExt cx="6248520" cy="1103400"/>
          </a:xfrm>
        </p:grpSpPr>
        <p:pic>
          <p:nvPicPr>
            <p:cNvPr id="356" name="Text Box 107" descr=""/>
            <p:cNvPicPr/>
            <p:nvPr/>
          </p:nvPicPr>
          <p:blipFill>
            <a:blip r:embed="rId1"/>
            <a:stretch/>
          </p:blipFill>
          <p:spPr>
            <a:xfrm>
              <a:off x="1511280" y="96840"/>
              <a:ext cx="6248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815120" y="285840"/>
              <a:ext cx="569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Inhibición no competitiva o mixt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Text Box 109"/>
          <p:cNvSpPr/>
          <p:nvPr/>
        </p:nvSpPr>
        <p:spPr>
          <a:xfrm>
            <a:off x="285840" y="1357200"/>
            <a:ext cx="8643960" cy="362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fornian FB"/>
              </a:rPr>
              <a:t>El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inhibidor </a:t>
            </a:r>
            <a:r>
              <a:rPr b="1" lang="en-US" sz="3200" spc="-1" strike="noStrike">
                <a:solidFill>
                  <a:srgbClr val="cc0000"/>
                </a:solidFill>
                <a:latin typeface="Californian FB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es análogo estuctural del sustrato,  </a:t>
            </a:r>
            <a:r>
              <a:rPr b="1" lang="en-US" sz="3200" spc="-1" strike="noStrike">
                <a:solidFill>
                  <a:srgbClr val="cc0000"/>
                </a:solidFill>
                <a:latin typeface="Californian FB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se une al sitio ac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El inhibidor se une a la  Enzima y  al complejo 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Aumento de [sustrato] </a:t>
            </a:r>
            <a:r>
              <a:rPr b="1" lang="en-US" sz="3200" spc="-1" strike="noStrike">
                <a:solidFill>
                  <a:srgbClr val="cc0000"/>
                </a:solidFill>
                <a:latin typeface="Californian FB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disminuye la inhibición,  </a:t>
            </a:r>
            <a:r>
              <a:rPr b="1" lang="en-US" sz="3200" spc="-1" strike="noStrike">
                <a:solidFill>
                  <a:srgbClr val="cc0000"/>
                </a:solidFill>
                <a:latin typeface="Californian FB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hay compet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Km aumenta y Vmax diminu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1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36"/>
          <p:cNvGrpSpPr/>
          <p:nvPr/>
        </p:nvGrpSpPr>
        <p:grpSpPr>
          <a:xfrm>
            <a:off x="1006560" y="1825560"/>
            <a:ext cx="1396440" cy="1054080"/>
            <a:chOff x="1006560" y="1825560"/>
            <a:chExt cx="1396440" cy="1054080"/>
          </a:xfrm>
        </p:grpSpPr>
        <p:sp>
          <p:nvSpPr>
            <p:cNvPr id="360" name="Oval 137"/>
            <p:cNvSpPr/>
            <p:nvPr/>
          </p:nvSpPr>
          <p:spPr>
            <a:xfrm>
              <a:off x="1006560" y="1825560"/>
              <a:ext cx="1210680" cy="10540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Oval 138"/>
            <p:cNvSpPr/>
            <p:nvPr/>
          </p:nvSpPr>
          <p:spPr>
            <a:xfrm>
              <a:off x="1728000" y="2194560"/>
              <a:ext cx="675000" cy="29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Text Box 139"/>
            <p:cNvSpPr/>
            <p:nvPr/>
          </p:nvSpPr>
          <p:spPr>
            <a:xfrm>
              <a:off x="1384200" y="2141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10"/>
          <p:cNvGrpSpPr/>
          <p:nvPr/>
        </p:nvGrpSpPr>
        <p:grpSpPr>
          <a:xfrm>
            <a:off x="2965320" y="1109520"/>
            <a:ext cx="736560" cy="398880"/>
            <a:chOff x="2965320" y="1109520"/>
            <a:chExt cx="736560" cy="398880"/>
          </a:xfrm>
        </p:grpSpPr>
        <p:sp>
          <p:nvSpPr>
            <p:cNvPr id="364" name="Oval 9"/>
            <p:cNvSpPr/>
            <p:nvPr/>
          </p:nvSpPr>
          <p:spPr>
            <a:xfrm>
              <a:off x="2965320" y="1149120"/>
              <a:ext cx="736560" cy="343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10"/>
            <p:cNvSpPr/>
            <p:nvPr/>
          </p:nvSpPr>
          <p:spPr>
            <a:xfrm>
              <a:off x="3177000" y="11095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11"/>
          <p:cNvGrpSpPr/>
          <p:nvPr/>
        </p:nvGrpSpPr>
        <p:grpSpPr>
          <a:xfrm>
            <a:off x="1476360" y="695160"/>
            <a:ext cx="1257120" cy="1092240"/>
            <a:chOff x="1476360" y="695160"/>
            <a:chExt cx="1257120" cy="1092240"/>
          </a:xfrm>
        </p:grpSpPr>
        <p:sp>
          <p:nvSpPr>
            <p:cNvPr id="367" name="Oval 12"/>
            <p:cNvSpPr/>
            <p:nvPr/>
          </p:nvSpPr>
          <p:spPr>
            <a:xfrm>
              <a:off x="1476360" y="695160"/>
              <a:ext cx="1089720" cy="109224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Oval 13"/>
            <p:cNvSpPr/>
            <p:nvPr/>
          </p:nvSpPr>
          <p:spPr>
            <a:xfrm>
              <a:off x="2125800" y="1077840"/>
              <a:ext cx="607680" cy="30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1801440" y="102276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2238480" y="587520"/>
            <a:ext cx="1143000" cy="628560"/>
            <a:chOff x="2238480" y="587520"/>
            <a:chExt cx="1143000" cy="628560"/>
          </a:xfrm>
        </p:grpSpPr>
        <p:sp>
          <p:nvSpPr>
            <p:cNvPr id="371" name="Freeform 20"/>
            <p:cNvSpPr/>
            <p:nvPr/>
          </p:nvSpPr>
          <p:spPr>
            <a:xfrm>
              <a:off x="2263680" y="587520"/>
              <a:ext cx="1117800" cy="622080"/>
            </a:xfrm>
            <a:custGeom>
              <a:avLst/>
              <a:gdLst/>
              <a:ahLst/>
              <a:rect l="l" t="t" r="r" b="b"/>
              <a:pathLst>
                <a:path w="704" h="392">
                  <a:moveTo>
                    <a:pt x="704" y="0"/>
                  </a:moveTo>
                  <a:cubicBezTo>
                    <a:pt x="606" y="119"/>
                    <a:pt x="509" y="239"/>
                    <a:pt x="392" y="304"/>
                  </a:cubicBezTo>
                  <a:cubicBezTo>
                    <a:pt x="275" y="369"/>
                    <a:pt x="57" y="377"/>
                    <a:pt x="0" y="392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 flipH="1">
              <a:off x="2238480" y="1177920"/>
              <a:ext cx="247680" cy="381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Line 22"/>
          <p:cNvSpPr/>
          <p:nvPr/>
        </p:nvSpPr>
        <p:spPr>
          <a:xfrm>
            <a:off x="2305080" y="1187280"/>
            <a:ext cx="974520" cy="117720"/>
          </a:xfrm>
          <a:prstGeom prst="line">
            <a:avLst/>
          </a:prstGeom>
          <a:ln w="38160">
            <a:solidFill>
              <a:srgbClr val="4f81b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35"/>
          <p:cNvGrpSpPr/>
          <p:nvPr/>
        </p:nvGrpSpPr>
        <p:grpSpPr>
          <a:xfrm>
            <a:off x="3149640" y="1859040"/>
            <a:ext cx="736560" cy="398880"/>
            <a:chOff x="3149640" y="1859040"/>
            <a:chExt cx="736560" cy="398880"/>
          </a:xfrm>
        </p:grpSpPr>
        <p:sp>
          <p:nvSpPr>
            <p:cNvPr id="375" name="Oval 36"/>
            <p:cNvSpPr/>
            <p:nvPr/>
          </p:nvSpPr>
          <p:spPr>
            <a:xfrm>
              <a:off x="3149640" y="189864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Text Box 37"/>
            <p:cNvSpPr/>
            <p:nvPr/>
          </p:nvSpPr>
          <p:spPr>
            <a:xfrm>
              <a:off x="3367800" y="185904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61"/>
          <p:cNvGrpSpPr/>
          <p:nvPr/>
        </p:nvGrpSpPr>
        <p:grpSpPr>
          <a:xfrm>
            <a:off x="2448000" y="2867040"/>
            <a:ext cx="736560" cy="398880"/>
            <a:chOff x="2448000" y="2867040"/>
            <a:chExt cx="736560" cy="398880"/>
          </a:xfrm>
        </p:grpSpPr>
        <p:sp>
          <p:nvSpPr>
            <p:cNvPr id="378" name="Oval 62"/>
            <p:cNvSpPr/>
            <p:nvPr/>
          </p:nvSpPr>
          <p:spPr>
            <a:xfrm>
              <a:off x="2448000" y="290664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 Box 63"/>
            <p:cNvSpPr/>
            <p:nvPr/>
          </p:nvSpPr>
          <p:spPr>
            <a:xfrm>
              <a:off x="2666160" y="286704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oup 98"/>
          <p:cNvGrpSpPr/>
          <p:nvPr/>
        </p:nvGrpSpPr>
        <p:grpSpPr>
          <a:xfrm>
            <a:off x="825480" y="1822320"/>
            <a:ext cx="1513440" cy="1067040"/>
            <a:chOff x="825480" y="1822320"/>
            <a:chExt cx="1513440" cy="1067040"/>
          </a:xfrm>
        </p:grpSpPr>
        <p:grpSp>
          <p:nvGrpSpPr>
            <p:cNvPr id="381" name="Group 71"/>
            <p:cNvGrpSpPr/>
            <p:nvPr/>
          </p:nvGrpSpPr>
          <p:grpSpPr>
            <a:xfrm>
              <a:off x="1095120" y="1822320"/>
              <a:ext cx="1243800" cy="1067040"/>
              <a:chOff x="1095120" y="1822320"/>
              <a:chExt cx="1243800" cy="1067040"/>
            </a:xfrm>
          </p:grpSpPr>
          <p:sp>
            <p:nvSpPr>
              <p:cNvPr id="382" name="Oval 65"/>
              <p:cNvSpPr/>
              <p:nvPr/>
            </p:nvSpPr>
            <p:spPr>
              <a:xfrm>
                <a:off x="1095120" y="1822320"/>
                <a:ext cx="1114560" cy="106704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Text Box 67"/>
              <p:cNvSpPr/>
              <p:nvPr/>
            </p:nvSpPr>
            <p:spPr>
              <a:xfrm>
                <a:off x="1431720" y="2142720"/>
                <a:ext cx="29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4" name="Group 70"/>
              <p:cNvGrpSpPr/>
              <p:nvPr/>
            </p:nvGrpSpPr>
            <p:grpSpPr>
              <a:xfrm>
                <a:off x="1848960" y="2167200"/>
                <a:ext cx="489960" cy="452160"/>
                <a:chOff x="1848960" y="2167200"/>
                <a:chExt cx="489960" cy="452160"/>
              </a:xfrm>
            </p:grpSpPr>
            <p:sp>
              <p:nvSpPr>
                <p:cNvPr id="385" name="Rectangle 68"/>
                <p:cNvSpPr/>
                <p:nvPr/>
              </p:nvSpPr>
              <p:spPr>
                <a:xfrm>
                  <a:off x="1872720" y="2269080"/>
                  <a:ext cx="466200" cy="23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Rectangle 69"/>
                <p:cNvSpPr/>
                <p:nvPr/>
              </p:nvSpPr>
              <p:spPr>
                <a:xfrm>
                  <a:off x="1848960" y="2167200"/>
                  <a:ext cx="183240" cy="45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7" name="Group 82"/>
            <p:cNvGrpSpPr/>
            <p:nvPr/>
          </p:nvGrpSpPr>
          <p:grpSpPr>
            <a:xfrm>
              <a:off x="825480" y="2073960"/>
              <a:ext cx="447120" cy="471600"/>
              <a:chOff x="825480" y="2073960"/>
              <a:chExt cx="447120" cy="471600"/>
            </a:xfrm>
          </p:grpSpPr>
          <p:grpSp>
            <p:nvGrpSpPr>
              <p:cNvPr id="388" name="Group 80"/>
              <p:cNvGrpSpPr/>
              <p:nvPr/>
            </p:nvGrpSpPr>
            <p:grpSpPr>
              <a:xfrm>
                <a:off x="892080" y="2079720"/>
                <a:ext cx="380520" cy="465840"/>
                <a:chOff x="892080" y="2079720"/>
                <a:chExt cx="380520" cy="465840"/>
              </a:xfrm>
            </p:grpSpPr>
            <p:sp>
              <p:nvSpPr>
                <p:cNvPr id="389" name="Rectangle 78"/>
                <p:cNvSpPr/>
                <p:nvPr/>
              </p:nvSpPr>
              <p:spPr>
                <a:xfrm>
                  <a:off x="967320" y="2222280"/>
                  <a:ext cx="305280" cy="193680"/>
                </a:xfrm>
                <a:prstGeom prst="rect">
                  <a:avLst/>
                </a:prstGeom>
                <a:solidFill>
                  <a:srgbClr val="d3b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Rectangle 79"/>
                <p:cNvSpPr/>
                <p:nvPr/>
              </p:nvSpPr>
              <p:spPr>
                <a:xfrm rot="5400000">
                  <a:off x="713880" y="2257560"/>
                  <a:ext cx="465840" cy="109800"/>
                </a:xfrm>
                <a:prstGeom prst="rect">
                  <a:avLst/>
                </a:prstGeom>
                <a:solidFill>
                  <a:srgbClr val="d3b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1" name="Text Box 81"/>
              <p:cNvSpPr/>
              <p:nvPr/>
            </p:nvSpPr>
            <p:spPr>
              <a:xfrm>
                <a:off x="825480" y="207396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Group 83"/>
          <p:cNvGrpSpPr/>
          <p:nvPr/>
        </p:nvGrpSpPr>
        <p:grpSpPr>
          <a:xfrm>
            <a:off x="3124080" y="2459520"/>
            <a:ext cx="509400" cy="528120"/>
            <a:chOff x="3124080" y="2459520"/>
            <a:chExt cx="509400" cy="528120"/>
          </a:xfrm>
        </p:grpSpPr>
        <p:grpSp>
          <p:nvGrpSpPr>
            <p:cNvPr id="393" name="Group 84"/>
            <p:cNvGrpSpPr/>
            <p:nvPr/>
          </p:nvGrpSpPr>
          <p:grpSpPr>
            <a:xfrm>
              <a:off x="3124080" y="2459520"/>
              <a:ext cx="451080" cy="522000"/>
              <a:chOff x="3124080" y="2459520"/>
              <a:chExt cx="451080" cy="522000"/>
            </a:xfrm>
          </p:grpSpPr>
          <p:sp>
            <p:nvSpPr>
              <p:cNvPr id="394" name="Rectangle 85"/>
              <p:cNvSpPr/>
              <p:nvPr/>
            </p:nvSpPr>
            <p:spPr>
              <a:xfrm rot="10800000">
                <a:off x="3124080" y="2604600"/>
                <a:ext cx="362160" cy="21708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Rectangle 86"/>
              <p:cNvSpPr/>
              <p:nvPr/>
            </p:nvSpPr>
            <p:spPr>
              <a:xfrm rot="16200000">
                <a:off x="3249000" y="2655360"/>
                <a:ext cx="522000" cy="13032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Text Box 87"/>
            <p:cNvSpPr/>
            <p:nvPr/>
          </p:nvSpPr>
          <p:spPr>
            <a:xfrm rot="10800000">
              <a:off x="3394800" y="261936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Group 88"/>
          <p:cNvGrpSpPr/>
          <p:nvPr/>
        </p:nvGrpSpPr>
        <p:grpSpPr>
          <a:xfrm>
            <a:off x="2111760" y="58680"/>
            <a:ext cx="508320" cy="528840"/>
            <a:chOff x="2111760" y="58680"/>
            <a:chExt cx="508320" cy="528840"/>
          </a:xfrm>
        </p:grpSpPr>
        <p:grpSp>
          <p:nvGrpSpPr>
            <p:cNvPr id="398" name="Group 89"/>
            <p:cNvGrpSpPr/>
            <p:nvPr/>
          </p:nvGrpSpPr>
          <p:grpSpPr>
            <a:xfrm>
              <a:off x="2169360" y="65160"/>
              <a:ext cx="450720" cy="522360"/>
              <a:chOff x="2169360" y="65160"/>
              <a:chExt cx="450720" cy="522360"/>
            </a:xfrm>
          </p:grpSpPr>
          <p:sp>
            <p:nvSpPr>
              <p:cNvPr id="399" name="Rectangle 90"/>
              <p:cNvSpPr/>
              <p:nvPr/>
            </p:nvSpPr>
            <p:spPr>
              <a:xfrm>
                <a:off x="2258280" y="225360"/>
                <a:ext cx="361800" cy="21744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Rectangle 91"/>
              <p:cNvSpPr/>
              <p:nvPr/>
            </p:nvSpPr>
            <p:spPr>
              <a:xfrm rot="5400000">
                <a:off x="1973160" y="261360"/>
                <a:ext cx="522360" cy="12996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1" name="Text Box 92"/>
            <p:cNvSpPr/>
            <p:nvPr/>
          </p:nvSpPr>
          <p:spPr>
            <a:xfrm>
              <a:off x="2111760" y="586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Group 93"/>
          <p:cNvGrpSpPr/>
          <p:nvPr/>
        </p:nvGrpSpPr>
        <p:grpSpPr>
          <a:xfrm>
            <a:off x="3686040" y="1362600"/>
            <a:ext cx="509400" cy="528120"/>
            <a:chOff x="3686040" y="1362600"/>
            <a:chExt cx="509400" cy="528120"/>
          </a:xfrm>
        </p:grpSpPr>
        <p:grpSp>
          <p:nvGrpSpPr>
            <p:cNvPr id="403" name="Group 94"/>
            <p:cNvGrpSpPr/>
            <p:nvPr/>
          </p:nvGrpSpPr>
          <p:grpSpPr>
            <a:xfrm>
              <a:off x="3686040" y="1362600"/>
              <a:ext cx="451080" cy="522000"/>
              <a:chOff x="3686040" y="1362600"/>
              <a:chExt cx="451080" cy="522000"/>
            </a:xfrm>
          </p:grpSpPr>
          <p:sp>
            <p:nvSpPr>
              <p:cNvPr id="404" name="Rectangle 95"/>
              <p:cNvSpPr/>
              <p:nvPr/>
            </p:nvSpPr>
            <p:spPr>
              <a:xfrm rot="10800000">
                <a:off x="3686040" y="1507680"/>
                <a:ext cx="362160" cy="21708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Rectangle 96"/>
              <p:cNvSpPr/>
              <p:nvPr/>
            </p:nvSpPr>
            <p:spPr>
              <a:xfrm rot="16200000">
                <a:off x="3810960" y="1558440"/>
                <a:ext cx="522000" cy="13032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Text Box 97"/>
            <p:cNvSpPr/>
            <p:nvPr/>
          </p:nvSpPr>
          <p:spPr>
            <a:xfrm rot="10800000">
              <a:off x="3956760" y="15224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Group 99"/>
          <p:cNvGrpSpPr/>
          <p:nvPr/>
        </p:nvGrpSpPr>
        <p:grpSpPr>
          <a:xfrm>
            <a:off x="327600" y="2036880"/>
            <a:ext cx="508320" cy="528120"/>
            <a:chOff x="327600" y="2036880"/>
            <a:chExt cx="508320" cy="528120"/>
          </a:xfrm>
        </p:grpSpPr>
        <p:grpSp>
          <p:nvGrpSpPr>
            <p:cNvPr id="408" name="Group 100"/>
            <p:cNvGrpSpPr/>
            <p:nvPr/>
          </p:nvGrpSpPr>
          <p:grpSpPr>
            <a:xfrm>
              <a:off x="385200" y="2043000"/>
              <a:ext cx="450720" cy="522000"/>
              <a:chOff x="385200" y="2043000"/>
              <a:chExt cx="450720" cy="522000"/>
            </a:xfrm>
          </p:grpSpPr>
          <p:sp>
            <p:nvSpPr>
              <p:cNvPr id="409" name="Rectangle 101"/>
              <p:cNvSpPr/>
              <p:nvPr/>
            </p:nvSpPr>
            <p:spPr>
              <a:xfrm>
                <a:off x="474120" y="2202840"/>
                <a:ext cx="361800" cy="21708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Rectangle 102"/>
              <p:cNvSpPr/>
              <p:nvPr/>
            </p:nvSpPr>
            <p:spPr>
              <a:xfrm rot="5400000">
                <a:off x="189000" y="2238840"/>
                <a:ext cx="522000" cy="12996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1" name="Text Box 103"/>
            <p:cNvSpPr/>
            <p:nvPr/>
          </p:nvSpPr>
          <p:spPr>
            <a:xfrm>
              <a:off x="327600" y="2036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2" name="Group 104"/>
          <p:cNvGrpSpPr/>
          <p:nvPr/>
        </p:nvGrpSpPr>
        <p:grpSpPr>
          <a:xfrm>
            <a:off x="3005280" y="287280"/>
            <a:ext cx="736560" cy="398880"/>
            <a:chOff x="3005280" y="287280"/>
            <a:chExt cx="736560" cy="398880"/>
          </a:xfrm>
        </p:grpSpPr>
        <p:sp>
          <p:nvSpPr>
            <p:cNvPr id="413" name="Oval 105"/>
            <p:cNvSpPr/>
            <p:nvPr/>
          </p:nvSpPr>
          <p:spPr>
            <a:xfrm>
              <a:off x="3005280" y="327240"/>
              <a:ext cx="736560" cy="3427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 Box 106"/>
            <p:cNvSpPr/>
            <p:nvPr/>
          </p:nvSpPr>
          <p:spPr>
            <a:xfrm>
              <a:off x="3223440" y="28728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5" name="Text Box 107"/>
          <p:cNvSpPr/>
          <p:nvPr/>
        </p:nvSpPr>
        <p:spPr>
          <a:xfrm>
            <a:off x="3953880" y="120600"/>
            <a:ext cx="499824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ibición no competitiva o mix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111"/>
          <p:cNvGrpSpPr/>
          <p:nvPr/>
        </p:nvGrpSpPr>
        <p:grpSpPr>
          <a:xfrm>
            <a:off x="2256480" y="933120"/>
            <a:ext cx="1338840" cy="1487520"/>
            <a:chOff x="2256480" y="933120"/>
            <a:chExt cx="1338840" cy="1487520"/>
          </a:xfrm>
        </p:grpSpPr>
        <p:sp>
          <p:nvSpPr>
            <p:cNvPr id="417" name="Freeform 112"/>
            <p:cNvSpPr/>
            <p:nvPr/>
          </p:nvSpPr>
          <p:spPr>
            <a:xfrm flipH="1" rot="8745600">
              <a:off x="2591280" y="1011600"/>
              <a:ext cx="689400" cy="1330200"/>
            </a:xfrm>
            <a:custGeom>
              <a:avLst/>
              <a:gdLst/>
              <a:ahLst/>
              <a:rect l="l" t="t" r="r" b="b"/>
              <a:pathLst>
                <a:path w="704" h="392">
                  <a:moveTo>
                    <a:pt x="704" y="0"/>
                  </a:moveTo>
                  <a:cubicBezTo>
                    <a:pt x="606" y="119"/>
                    <a:pt x="509" y="239"/>
                    <a:pt x="392" y="304"/>
                  </a:cubicBezTo>
                  <a:cubicBezTo>
                    <a:pt x="275" y="369"/>
                    <a:pt x="57" y="377"/>
                    <a:pt x="0" y="392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Line 113"/>
            <p:cNvSpPr/>
            <p:nvPr/>
          </p:nvSpPr>
          <p:spPr>
            <a:xfrm flipH="1">
              <a:off x="2256480" y="1299960"/>
              <a:ext cx="171720" cy="18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114"/>
          <p:cNvGrpSpPr/>
          <p:nvPr/>
        </p:nvGrpSpPr>
        <p:grpSpPr>
          <a:xfrm>
            <a:off x="2295360" y="1762200"/>
            <a:ext cx="736560" cy="398880"/>
            <a:chOff x="2295360" y="1762200"/>
            <a:chExt cx="736560" cy="398880"/>
          </a:xfrm>
        </p:grpSpPr>
        <p:sp>
          <p:nvSpPr>
            <p:cNvPr id="420" name="Oval 115"/>
            <p:cNvSpPr/>
            <p:nvPr/>
          </p:nvSpPr>
          <p:spPr>
            <a:xfrm>
              <a:off x="2295360" y="180180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 Box 116"/>
            <p:cNvSpPr/>
            <p:nvPr/>
          </p:nvSpPr>
          <p:spPr>
            <a:xfrm>
              <a:off x="2513520" y="176220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117"/>
          <p:cNvGrpSpPr/>
          <p:nvPr/>
        </p:nvGrpSpPr>
        <p:grpSpPr>
          <a:xfrm>
            <a:off x="2117880" y="1025640"/>
            <a:ext cx="736560" cy="398880"/>
            <a:chOff x="2117880" y="1025640"/>
            <a:chExt cx="736560" cy="398880"/>
          </a:xfrm>
        </p:grpSpPr>
        <p:sp>
          <p:nvSpPr>
            <p:cNvPr id="423" name="Oval 118"/>
            <p:cNvSpPr/>
            <p:nvPr/>
          </p:nvSpPr>
          <p:spPr>
            <a:xfrm>
              <a:off x="2117880" y="106524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Text Box 119"/>
            <p:cNvSpPr/>
            <p:nvPr/>
          </p:nvSpPr>
          <p:spPr>
            <a:xfrm>
              <a:off x="2336040" y="102564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Group 120"/>
          <p:cNvGrpSpPr/>
          <p:nvPr/>
        </p:nvGrpSpPr>
        <p:grpSpPr>
          <a:xfrm>
            <a:off x="2244600" y="2346480"/>
            <a:ext cx="736560" cy="398880"/>
            <a:chOff x="2244600" y="2346480"/>
            <a:chExt cx="736560" cy="398880"/>
          </a:xfrm>
        </p:grpSpPr>
        <p:sp>
          <p:nvSpPr>
            <p:cNvPr id="426" name="Oval 121"/>
            <p:cNvSpPr/>
            <p:nvPr/>
          </p:nvSpPr>
          <p:spPr>
            <a:xfrm>
              <a:off x="2244600" y="238608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 Box 122"/>
            <p:cNvSpPr/>
            <p:nvPr/>
          </p:nvSpPr>
          <p:spPr>
            <a:xfrm>
              <a:off x="2462760" y="234648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Group 126"/>
          <p:cNvGrpSpPr/>
          <p:nvPr/>
        </p:nvGrpSpPr>
        <p:grpSpPr>
          <a:xfrm>
            <a:off x="622800" y="999000"/>
            <a:ext cx="508320" cy="528120"/>
            <a:chOff x="622800" y="999000"/>
            <a:chExt cx="508320" cy="528120"/>
          </a:xfrm>
        </p:grpSpPr>
        <p:grpSp>
          <p:nvGrpSpPr>
            <p:cNvPr id="429" name="Group 127"/>
            <p:cNvGrpSpPr/>
            <p:nvPr/>
          </p:nvGrpSpPr>
          <p:grpSpPr>
            <a:xfrm>
              <a:off x="622800" y="999000"/>
              <a:ext cx="450720" cy="522000"/>
              <a:chOff x="622800" y="999000"/>
              <a:chExt cx="450720" cy="522000"/>
            </a:xfrm>
          </p:grpSpPr>
          <p:sp>
            <p:nvSpPr>
              <p:cNvPr id="430" name="Rectangle 128"/>
              <p:cNvSpPr/>
              <p:nvPr/>
            </p:nvSpPr>
            <p:spPr>
              <a:xfrm rot="10800000">
                <a:off x="622800" y="1144080"/>
                <a:ext cx="361800" cy="21708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129"/>
              <p:cNvSpPr/>
              <p:nvPr/>
            </p:nvSpPr>
            <p:spPr>
              <a:xfrm rot="16200000">
                <a:off x="747360" y="1194840"/>
                <a:ext cx="522000" cy="12996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Text Box 130"/>
            <p:cNvSpPr/>
            <p:nvPr/>
          </p:nvSpPr>
          <p:spPr>
            <a:xfrm rot="10800000">
              <a:off x="892440" y="11588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3" name="Group 131"/>
          <p:cNvGrpSpPr/>
          <p:nvPr/>
        </p:nvGrpSpPr>
        <p:grpSpPr>
          <a:xfrm>
            <a:off x="1057680" y="1006920"/>
            <a:ext cx="508320" cy="528120"/>
            <a:chOff x="1057680" y="1006920"/>
            <a:chExt cx="508320" cy="528120"/>
          </a:xfrm>
        </p:grpSpPr>
        <p:grpSp>
          <p:nvGrpSpPr>
            <p:cNvPr id="434" name="Group 132"/>
            <p:cNvGrpSpPr/>
            <p:nvPr/>
          </p:nvGrpSpPr>
          <p:grpSpPr>
            <a:xfrm>
              <a:off x="1057680" y="1006920"/>
              <a:ext cx="450720" cy="522000"/>
              <a:chOff x="1057680" y="1006920"/>
              <a:chExt cx="450720" cy="522000"/>
            </a:xfrm>
          </p:grpSpPr>
          <p:sp>
            <p:nvSpPr>
              <p:cNvPr id="435" name="Rectangle 133"/>
              <p:cNvSpPr/>
              <p:nvPr/>
            </p:nvSpPr>
            <p:spPr>
              <a:xfrm rot="10800000">
                <a:off x="1057680" y="1152000"/>
                <a:ext cx="361800" cy="21708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134"/>
              <p:cNvSpPr/>
              <p:nvPr/>
            </p:nvSpPr>
            <p:spPr>
              <a:xfrm rot="16200000">
                <a:off x="1182240" y="1202760"/>
                <a:ext cx="522000" cy="12996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Text Box 135"/>
            <p:cNvSpPr/>
            <p:nvPr/>
          </p:nvSpPr>
          <p:spPr>
            <a:xfrm rot="10800000">
              <a:off x="1327320" y="116676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Group 140"/>
          <p:cNvGrpSpPr/>
          <p:nvPr/>
        </p:nvGrpSpPr>
        <p:grpSpPr>
          <a:xfrm>
            <a:off x="784080" y="2930400"/>
            <a:ext cx="736560" cy="398880"/>
            <a:chOff x="784080" y="2930400"/>
            <a:chExt cx="736560" cy="398880"/>
          </a:xfrm>
        </p:grpSpPr>
        <p:sp>
          <p:nvSpPr>
            <p:cNvPr id="439" name="Oval 141"/>
            <p:cNvSpPr/>
            <p:nvPr/>
          </p:nvSpPr>
          <p:spPr>
            <a:xfrm>
              <a:off x="784080" y="2970360"/>
              <a:ext cx="736560" cy="3427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Text Box 142"/>
            <p:cNvSpPr/>
            <p:nvPr/>
          </p:nvSpPr>
          <p:spPr>
            <a:xfrm>
              <a:off x="1002240" y="293040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Group 143"/>
          <p:cNvGrpSpPr/>
          <p:nvPr/>
        </p:nvGrpSpPr>
        <p:grpSpPr>
          <a:xfrm>
            <a:off x="961920" y="289080"/>
            <a:ext cx="736560" cy="398880"/>
            <a:chOff x="961920" y="289080"/>
            <a:chExt cx="736560" cy="398880"/>
          </a:xfrm>
        </p:grpSpPr>
        <p:sp>
          <p:nvSpPr>
            <p:cNvPr id="442" name="Oval 144"/>
            <p:cNvSpPr/>
            <p:nvPr/>
          </p:nvSpPr>
          <p:spPr>
            <a:xfrm>
              <a:off x="961920" y="328680"/>
              <a:ext cx="736560" cy="3423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Text Box 145"/>
            <p:cNvSpPr/>
            <p:nvPr/>
          </p:nvSpPr>
          <p:spPr>
            <a:xfrm>
              <a:off x="1180080" y="28908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157"/>
          <p:cNvGrpSpPr/>
          <p:nvPr/>
        </p:nvGrpSpPr>
        <p:grpSpPr>
          <a:xfrm>
            <a:off x="1651320" y="2801520"/>
            <a:ext cx="508320" cy="528840"/>
            <a:chOff x="1651320" y="2801520"/>
            <a:chExt cx="508320" cy="528840"/>
          </a:xfrm>
        </p:grpSpPr>
        <p:grpSp>
          <p:nvGrpSpPr>
            <p:cNvPr id="445" name="Group 158"/>
            <p:cNvGrpSpPr/>
            <p:nvPr/>
          </p:nvGrpSpPr>
          <p:grpSpPr>
            <a:xfrm>
              <a:off x="1651320" y="2801520"/>
              <a:ext cx="450720" cy="522360"/>
              <a:chOff x="1651320" y="2801520"/>
              <a:chExt cx="450720" cy="522360"/>
            </a:xfrm>
          </p:grpSpPr>
          <p:sp>
            <p:nvSpPr>
              <p:cNvPr id="446" name="Rectangle 159"/>
              <p:cNvSpPr/>
              <p:nvPr/>
            </p:nvSpPr>
            <p:spPr>
              <a:xfrm rot="10800000">
                <a:off x="1651320" y="2946240"/>
                <a:ext cx="361800" cy="21744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160"/>
              <p:cNvSpPr/>
              <p:nvPr/>
            </p:nvSpPr>
            <p:spPr>
              <a:xfrm rot="16200000">
                <a:off x="1775880" y="2997720"/>
                <a:ext cx="522360" cy="129960"/>
              </a:xfrm>
              <a:prstGeom prst="rect">
                <a:avLst/>
              </a:prstGeom>
              <a:solidFill>
                <a:srgbClr val="d3b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Text Box 161"/>
            <p:cNvSpPr/>
            <p:nvPr/>
          </p:nvSpPr>
          <p:spPr>
            <a:xfrm rot="10800000">
              <a:off x="1920960" y="29620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9" name="Picture 167" descr=""/>
          <p:cNvPicPr/>
          <p:nvPr/>
        </p:nvPicPr>
        <p:blipFill>
          <a:blip r:embed="rId1"/>
          <a:stretch/>
        </p:blipFill>
        <p:spPr>
          <a:xfrm>
            <a:off x="343080" y="3990960"/>
            <a:ext cx="3116160" cy="232236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70"/>
          <p:cNvGrpSpPr/>
          <p:nvPr/>
        </p:nvGrpSpPr>
        <p:grpSpPr>
          <a:xfrm>
            <a:off x="263520" y="1469880"/>
            <a:ext cx="736560" cy="398880"/>
            <a:chOff x="263520" y="1469880"/>
            <a:chExt cx="736560" cy="398880"/>
          </a:xfrm>
        </p:grpSpPr>
        <p:sp>
          <p:nvSpPr>
            <p:cNvPr id="451" name="Oval 171"/>
            <p:cNvSpPr/>
            <p:nvPr/>
          </p:nvSpPr>
          <p:spPr>
            <a:xfrm>
              <a:off x="263520" y="1509840"/>
              <a:ext cx="736560" cy="3427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172"/>
            <p:cNvSpPr/>
            <p:nvPr/>
          </p:nvSpPr>
          <p:spPr>
            <a:xfrm>
              <a:off x="481680" y="146988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Group 201"/>
          <p:cNvGrpSpPr/>
          <p:nvPr/>
        </p:nvGrpSpPr>
        <p:grpSpPr>
          <a:xfrm>
            <a:off x="1511280" y="800280"/>
            <a:ext cx="1142640" cy="888480"/>
            <a:chOff x="1511280" y="800280"/>
            <a:chExt cx="1142640" cy="888480"/>
          </a:xfrm>
        </p:grpSpPr>
        <p:sp>
          <p:nvSpPr>
            <p:cNvPr id="454" name="Line 202"/>
            <p:cNvSpPr/>
            <p:nvPr/>
          </p:nvSpPr>
          <p:spPr>
            <a:xfrm>
              <a:off x="1511280" y="868320"/>
              <a:ext cx="11426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203"/>
            <p:cNvSpPr/>
            <p:nvPr/>
          </p:nvSpPr>
          <p:spPr>
            <a:xfrm flipH="1">
              <a:off x="1561680" y="800280"/>
              <a:ext cx="907200" cy="88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Group 204"/>
          <p:cNvGrpSpPr/>
          <p:nvPr/>
        </p:nvGrpSpPr>
        <p:grpSpPr>
          <a:xfrm>
            <a:off x="1054080" y="1892160"/>
            <a:ext cx="1142640" cy="888840"/>
            <a:chOff x="1054080" y="1892160"/>
            <a:chExt cx="1142640" cy="888840"/>
          </a:xfrm>
        </p:grpSpPr>
        <p:sp>
          <p:nvSpPr>
            <p:cNvPr id="457" name="Line 205"/>
            <p:cNvSpPr/>
            <p:nvPr/>
          </p:nvSpPr>
          <p:spPr>
            <a:xfrm>
              <a:off x="1054080" y="1960200"/>
              <a:ext cx="1142640" cy="73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Line 206"/>
            <p:cNvSpPr/>
            <p:nvPr/>
          </p:nvSpPr>
          <p:spPr>
            <a:xfrm flipH="1">
              <a:off x="1104480" y="1892160"/>
              <a:ext cx="907200" cy="88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Group 178"/>
          <p:cNvGrpSpPr/>
          <p:nvPr/>
        </p:nvGrpSpPr>
        <p:grpSpPr>
          <a:xfrm>
            <a:off x="4286160" y="708120"/>
            <a:ext cx="4337280" cy="5578200"/>
            <a:chOff x="4286160" y="708120"/>
            <a:chExt cx="4337280" cy="5578200"/>
          </a:xfrm>
        </p:grpSpPr>
        <p:pic>
          <p:nvPicPr>
            <p:cNvPr id="460" name="Picture 174" descr=""/>
            <p:cNvPicPr/>
            <p:nvPr/>
          </p:nvPicPr>
          <p:blipFill>
            <a:blip r:embed="rId2"/>
            <a:stretch/>
          </p:blipFill>
          <p:spPr>
            <a:xfrm>
              <a:off x="4286160" y="708120"/>
              <a:ext cx="1581120" cy="18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175"/>
            <p:cNvSpPr/>
            <p:nvPr/>
          </p:nvSpPr>
          <p:spPr>
            <a:xfrm>
              <a:off x="6477120" y="5738040"/>
              <a:ext cx="214632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176"/>
            <p:cNvSpPr/>
            <p:nvPr/>
          </p:nvSpPr>
          <p:spPr>
            <a:xfrm>
              <a:off x="7162920" y="2830320"/>
              <a:ext cx="622080" cy="47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Rectangle 177"/>
            <p:cNvSpPr/>
            <p:nvPr/>
          </p:nvSpPr>
          <p:spPr>
            <a:xfrm>
              <a:off x="7746840" y="3502440"/>
              <a:ext cx="6987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4" name="Picture 2" descr="F08-15c.3.GIF038                                               00004F26Sumanas' Hard Drive            B4EBCDA7:"/>
          <p:cNvPicPr/>
          <p:nvPr/>
        </p:nvPicPr>
        <p:blipFill>
          <a:blip r:embed="rId3"/>
          <a:stretch/>
        </p:blipFill>
        <p:spPr>
          <a:xfrm>
            <a:off x="4286160" y="2571840"/>
            <a:ext cx="464364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2395440" y="2124000"/>
            <a:ext cx="4353120" cy="2610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an-allo-activator"/>
          <p:cNvPicPr/>
          <p:nvPr/>
        </p:nvPicPr>
        <p:blipFill>
          <a:blip r:embed="rId2"/>
          <a:stretch/>
        </p:blipFill>
        <p:spPr>
          <a:xfrm>
            <a:off x="592200" y="2222640"/>
            <a:ext cx="3848040" cy="2779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an-allo-inhibitor"/>
          <p:cNvPicPr/>
          <p:nvPr/>
        </p:nvPicPr>
        <p:blipFill>
          <a:blip r:embed="rId3"/>
          <a:stretch/>
        </p:blipFill>
        <p:spPr>
          <a:xfrm>
            <a:off x="4738680" y="1900080"/>
            <a:ext cx="4433760" cy="3340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"/>
          <p:cNvSpPr/>
          <p:nvPr/>
        </p:nvSpPr>
        <p:spPr>
          <a:xfrm>
            <a:off x="390600" y="1806480"/>
            <a:ext cx="4021200" cy="317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4640400" y="1832040"/>
            <a:ext cx="4020840" cy="317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354680" y="50626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ador alost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5352120" y="5010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hibidor alost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428760" y="252360"/>
            <a:ext cx="84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Enzimas alostérica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oseen uma región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diferent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l sitio activo al cual se une un efector o  modulador alosté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2000">
    <p:pull dir="l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1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7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3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2" descr="phospb"/>
          <p:cNvPicPr/>
          <p:nvPr/>
        </p:nvPicPr>
        <p:blipFill>
          <a:blip r:embed="rId1"/>
          <a:stretch/>
        </p:blipFill>
        <p:spPr>
          <a:xfrm>
            <a:off x="536400" y="4081320"/>
            <a:ext cx="3119760" cy="2283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phosp"/>
          <p:cNvPicPr/>
          <p:nvPr/>
        </p:nvPicPr>
        <p:blipFill>
          <a:blip r:embed="rId2"/>
          <a:stretch/>
        </p:blipFill>
        <p:spPr>
          <a:xfrm>
            <a:off x="5730840" y="4521240"/>
            <a:ext cx="3184560" cy="212256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1125720" y="611964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zima in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6524640" y="6222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zima 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19"/>
          <p:cNvSpPr/>
          <p:nvPr/>
        </p:nvSpPr>
        <p:spPr>
          <a:xfrm rot="10800000">
            <a:off x="3279240" y="4606560"/>
            <a:ext cx="1955880" cy="531720"/>
          </a:xfrm>
          <a:custGeom>
            <a:avLst/>
            <a:gdLst>
              <a:gd name="textAreaLeft" fmla="*/ 342000 w 1955880"/>
              <a:gd name="textAreaRight" fmla="*/ 1418040 w 1955880"/>
              <a:gd name="textAreaTop" fmla="*/ 71280 h 531720"/>
              <a:gd name="textAreaBottom" fmla="*/ 46044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3448080" y="5567400"/>
            <a:ext cx="2019240" cy="693720"/>
          </a:xfrm>
          <a:custGeom>
            <a:avLst/>
            <a:gdLst>
              <a:gd name="textAreaLeft" fmla="*/ 353160 w 2019240"/>
              <a:gd name="textAreaRight" fmla="*/ 1464120 w 2019240"/>
              <a:gd name="textAreaTop" fmla="*/ 92880 h 693720"/>
              <a:gd name="textAreaBottom" fmla="*/ 60084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Text Box 21" descr=""/>
          <p:cNvPicPr/>
          <p:nvPr/>
        </p:nvPicPr>
        <p:blipFill>
          <a:blip r:embed="rId3"/>
          <a:stretch/>
        </p:blipFill>
        <p:spPr>
          <a:xfrm>
            <a:off x="-231840" y="1951200"/>
            <a:ext cx="5065920" cy="25048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2"/>
          <p:cNvSpPr/>
          <p:nvPr/>
        </p:nvSpPr>
        <p:spPr>
          <a:xfrm>
            <a:off x="4097880" y="62974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alibri"/>
              </a:rPr>
              <a:t>quin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032360" y="3887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alibri"/>
              </a:rPr>
              <a:t>fosfat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Group 28"/>
          <p:cNvGrpSpPr/>
          <p:nvPr/>
        </p:nvGrpSpPr>
        <p:grpSpPr>
          <a:xfrm>
            <a:off x="5543640" y="2786040"/>
            <a:ext cx="3314160" cy="1714680"/>
            <a:chOff x="5543640" y="2786040"/>
            <a:chExt cx="3314160" cy="1714680"/>
          </a:xfrm>
        </p:grpSpPr>
        <p:grpSp>
          <p:nvGrpSpPr>
            <p:cNvPr id="483" name="Group 16"/>
            <p:cNvGrpSpPr/>
            <p:nvPr/>
          </p:nvGrpSpPr>
          <p:grpSpPr>
            <a:xfrm>
              <a:off x="5543640" y="2786040"/>
              <a:ext cx="3314160" cy="1562040"/>
              <a:chOff x="5543640" y="2786040"/>
              <a:chExt cx="3314160" cy="1562040"/>
            </a:xfrm>
          </p:grpSpPr>
          <p:pic>
            <p:nvPicPr>
              <p:cNvPr id="484" name="Picture 11" descr="phospa"/>
              <p:cNvPicPr/>
              <p:nvPr/>
            </p:nvPicPr>
            <p:blipFill>
              <a:blip r:embed="rId4"/>
              <a:stretch/>
            </p:blipFill>
            <p:spPr>
              <a:xfrm>
                <a:off x="5608440" y="2972160"/>
                <a:ext cx="3249360" cy="137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Text Box 15"/>
              <p:cNvSpPr/>
              <p:nvPr/>
            </p:nvSpPr>
            <p:spPr>
              <a:xfrm>
                <a:off x="5543640" y="2786040"/>
                <a:ext cx="2385720" cy="11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6" name="Text Box 24"/>
            <p:cNvSpPr/>
            <p:nvPr/>
          </p:nvSpPr>
          <p:spPr>
            <a:xfrm>
              <a:off x="7722360" y="3602520"/>
              <a:ext cx="1080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alibri"/>
                </a:rPr>
                <a:t>fosfa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25"/>
            <p:cNvSpPr/>
            <p:nvPr/>
          </p:nvSpPr>
          <p:spPr>
            <a:xfrm>
              <a:off x="7165800" y="3560040"/>
              <a:ext cx="623880" cy="34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6369480" y="4041000"/>
              <a:ext cx="1427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alibri"/>
                </a:rPr>
                <a:t>sustrato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27"/>
            <p:cNvSpPr/>
            <p:nvPr/>
          </p:nvSpPr>
          <p:spPr>
            <a:xfrm>
              <a:off x="7934400" y="3036240"/>
              <a:ext cx="304560" cy="19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Text Box 29"/>
          <p:cNvGrpSpPr/>
          <p:nvPr/>
        </p:nvGrpSpPr>
        <p:grpSpPr>
          <a:xfrm>
            <a:off x="-66600" y="-176040"/>
            <a:ext cx="9399600" cy="2352600"/>
            <a:chOff x="-66600" y="-176040"/>
            <a:chExt cx="9399600" cy="2352600"/>
          </a:xfrm>
        </p:grpSpPr>
        <p:pic>
          <p:nvPicPr>
            <p:cNvPr id="491" name="Text Box 29" descr=""/>
            <p:cNvPicPr/>
            <p:nvPr/>
          </p:nvPicPr>
          <p:blipFill>
            <a:blip r:embed="rId5"/>
            <a:stretch/>
          </p:blipFill>
          <p:spPr>
            <a:xfrm>
              <a:off x="-66600" y="-176040"/>
              <a:ext cx="9399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00160" y="88920"/>
              <a:ext cx="8858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MODULACION COVALENTE:</a:t>
              </a: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 la enzima es modificada covalentemente por otras dos enzimas: una </a:t>
              </a: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quinasa</a:t>
              </a: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 fosforila la enzima a costas del ATP, y una </a:t>
              </a: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fosfatasa</a:t>
              </a: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 remueve el grupo fosfato de la enzima fosforilada.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19 Rectángulo"/>
          <p:cNvSpPr/>
          <p:nvPr/>
        </p:nvSpPr>
        <p:spPr>
          <a:xfrm>
            <a:off x="5500800" y="2651040"/>
            <a:ext cx="3547800" cy="192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3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Text Box 3"/>
          <p:cNvGrpSpPr/>
          <p:nvPr/>
        </p:nvGrpSpPr>
        <p:grpSpPr>
          <a:xfrm>
            <a:off x="85680" y="2225520"/>
            <a:ext cx="9094680" cy="3121200"/>
            <a:chOff x="85680" y="2225520"/>
            <a:chExt cx="9094680" cy="3121200"/>
          </a:xfrm>
        </p:grpSpPr>
        <p:pic>
          <p:nvPicPr>
            <p:cNvPr id="495" name="Text Box 3" descr=""/>
            <p:cNvPicPr/>
            <p:nvPr/>
          </p:nvPicPr>
          <p:blipFill>
            <a:blip r:embed="rId1"/>
            <a:stretch/>
          </p:blipFill>
          <p:spPr>
            <a:xfrm>
              <a:off x="85680" y="2225520"/>
              <a:ext cx="90946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14200" y="2352600"/>
              <a:ext cx="8829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BR" sz="3600" spc="-1" strike="noStrike">
                  <a:solidFill>
                    <a:srgbClr val="ff0000"/>
                  </a:solidFill>
                  <a:latin typeface="Calibri"/>
                </a:rPr>
                <a:t>zimógenos:</a:t>
              </a:r>
              <a:r>
                <a:rPr b="0" lang="pt-BR" sz="3600" spc="-1" strike="noStrike">
                  <a:solidFill>
                    <a:srgbClr val="000000"/>
                  </a:solidFill>
                  <a:latin typeface="Calibri"/>
                </a:rPr>
                <a:t> Las proteasas son sintetizadas en una forma inactiva por estar en una conformación desfavorable, con bloqueo o desligamiento de los residuos del sitio catalítico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Text Box 4"/>
          <p:cNvGrpSpPr/>
          <p:nvPr/>
        </p:nvGrpSpPr>
        <p:grpSpPr>
          <a:xfrm>
            <a:off x="85680" y="231840"/>
            <a:ext cx="8979120" cy="2011320"/>
            <a:chOff x="85680" y="231840"/>
            <a:chExt cx="8979120" cy="2011320"/>
          </a:xfrm>
        </p:grpSpPr>
        <p:pic>
          <p:nvPicPr>
            <p:cNvPr id="498" name="Text Box 4" descr=""/>
            <p:cNvPicPr/>
            <p:nvPr/>
          </p:nvPicPr>
          <p:blipFill>
            <a:blip r:embed="rId2"/>
            <a:stretch/>
          </p:blipFill>
          <p:spPr>
            <a:xfrm>
              <a:off x="85680" y="231840"/>
              <a:ext cx="89791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14200" y="357120"/>
              <a:ext cx="8718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ff0000"/>
                  </a:solidFill>
                  <a:latin typeface="Calibri"/>
                </a:rPr>
                <a:t>Activación de zimógenos</a:t>
              </a:r>
              <a:r>
                <a:rPr b="0" lang="pt-BR" sz="3600" spc="-1" strike="noStrike">
                  <a:solidFill>
                    <a:srgbClr val="000000"/>
                  </a:solidFill>
                  <a:latin typeface="Calibri"/>
                </a:rPr>
                <a:t> es un caso específico de modulación covalente exclusivo de algunos tipos de </a:t>
              </a:r>
              <a:r>
                <a:rPr b="0" lang="pt-BR" sz="3600" spc="-1" strike="noStrike">
                  <a:solidFill>
                    <a:srgbClr val="953735"/>
                  </a:solidFill>
                  <a:latin typeface="Calibri"/>
                </a:rPr>
                <a:t>enzimas proteolíticas</a:t>
              </a:r>
              <a:r>
                <a:rPr b="0" lang="pt-BR" sz="3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17000">
    <p:pull dir="l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1 Rectángulo"/>
          <p:cNvGrpSpPr/>
          <p:nvPr/>
        </p:nvGrpSpPr>
        <p:grpSpPr>
          <a:xfrm>
            <a:off x="2803680" y="-60480"/>
            <a:ext cx="2847960" cy="1176480"/>
            <a:chOff x="2803680" y="-60480"/>
            <a:chExt cx="2847960" cy="1176480"/>
          </a:xfrm>
        </p:grpSpPr>
        <p:pic>
          <p:nvPicPr>
            <p:cNvPr id="501" name="1 Rectángulo" descr=""/>
            <p:cNvPicPr/>
            <p:nvPr/>
          </p:nvPicPr>
          <p:blipFill>
            <a:blip r:embed="rId1"/>
            <a:stretch/>
          </p:blipFill>
          <p:spPr>
            <a:xfrm>
              <a:off x="2803680" y="-60480"/>
              <a:ext cx="2847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084480" y="77760"/>
              <a:ext cx="230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000" spc="-1" strike="noStrike">
                  <a:solidFill>
                    <a:srgbClr val="ffffff"/>
                  </a:solidFill>
                  <a:latin typeface="Calibri"/>
                </a:rPr>
                <a:t>Isoenzim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3" name="2 Rectángulo" descr=""/>
          <p:cNvPicPr/>
          <p:nvPr/>
        </p:nvPicPr>
        <p:blipFill>
          <a:blip r:embed="rId2"/>
          <a:stretch/>
        </p:blipFill>
        <p:spPr>
          <a:xfrm>
            <a:off x="384120" y="1030320"/>
            <a:ext cx="84488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504" name="3 Rectángulo"/>
          <p:cNvGrpSpPr/>
          <p:nvPr/>
        </p:nvGrpSpPr>
        <p:grpSpPr>
          <a:xfrm>
            <a:off x="530280" y="2968560"/>
            <a:ext cx="8302680" cy="2146320"/>
            <a:chOff x="530280" y="2968560"/>
            <a:chExt cx="8302680" cy="2146320"/>
          </a:xfrm>
        </p:grpSpPr>
        <p:pic>
          <p:nvPicPr>
            <p:cNvPr id="505" name="3 Rectángulo" descr=""/>
            <p:cNvPicPr/>
            <p:nvPr/>
          </p:nvPicPr>
          <p:blipFill>
            <a:blip r:embed="rId3"/>
            <a:stretch/>
          </p:blipFill>
          <p:spPr>
            <a:xfrm>
              <a:off x="530280" y="2968560"/>
              <a:ext cx="830268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71680" y="3009960"/>
              <a:ext cx="8215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Calibri"/>
                </a:rPr>
                <a:t>La existencia de las isoenzimas permite el ajuste del metabolismo para satisfazer las necesidades particulares de un determinado tejido o etapa del desarrollo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7" name="CuadroTexto 4"/>
          <p:cNvSpPr/>
          <p:nvPr/>
        </p:nvSpPr>
        <p:spPr>
          <a:xfrm>
            <a:off x="718920" y="5661000"/>
            <a:ext cx="798372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ejemplo de isoenzima es la lact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8" nodeType="after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3 Rectángulo"/>
          <p:cNvSpPr/>
          <p:nvPr/>
        </p:nvSpPr>
        <p:spPr>
          <a:xfrm>
            <a:off x="642960" y="779400"/>
            <a:ext cx="8072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DH1: M M M M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abundante en el corazon, el cerebro y los eritrocitos)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DH2: M M M H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abundante en el corazon, el cerebro y los eritrocit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DH3: M M H H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abundante en el cerebro, los rinones y los pulmon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DH4: M H H H (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abundante en el higado, musculo esqueletico y el tejido re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DH5: H H H H (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abundante en el tejido hepatico, musculo esqueletico y el ile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3714840" y="1357200"/>
            <a:ext cx="1000080" cy="887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3714840" y="2428920"/>
            <a:ext cx="1000080" cy="871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3"/>
          <a:stretch/>
        </p:blipFill>
        <p:spPr>
          <a:xfrm>
            <a:off x="3714840" y="3571920"/>
            <a:ext cx="1000080" cy="885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"/>
          <p:cNvPicPr/>
          <p:nvPr/>
        </p:nvPicPr>
        <p:blipFill>
          <a:blip r:embed="rId4"/>
          <a:stretch/>
        </p:blipFill>
        <p:spPr>
          <a:xfrm>
            <a:off x="3781440" y="4651200"/>
            <a:ext cx="933480" cy="881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"/>
          <p:cNvPicPr/>
          <p:nvPr/>
        </p:nvPicPr>
        <p:blipFill>
          <a:blip r:embed="rId5"/>
          <a:stretch/>
        </p:blipFill>
        <p:spPr>
          <a:xfrm>
            <a:off x="3786120" y="5800680"/>
            <a:ext cx="957240" cy="914400"/>
          </a:xfrm>
          <a:prstGeom prst="rect">
            <a:avLst/>
          </a:prstGeom>
          <a:ln w="0">
            <a:noFill/>
          </a:ln>
        </p:spPr>
      </p:pic>
      <p:sp>
        <p:nvSpPr>
          <p:cNvPr id="514" name="9 Rectángulo"/>
          <p:cNvSpPr/>
          <p:nvPr/>
        </p:nvSpPr>
        <p:spPr>
          <a:xfrm>
            <a:off x="571680" y="2174760"/>
            <a:ext cx="6929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10 Rectángulo"/>
          <p:cNvSpPr/>
          <p:nvPr/>
        </p:nvSpPr>
        <p:spPr>
          <a:xfrm>
            <a:off x="571680" y="3286080"/>
            <a:ext cx="6929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11 Rectángulo"/>
          <p:cNvSpPr/>
          <p:nvPr/>
        </p:nvSpPr>
        <p:spPr>
          <a:xfrm>
            <a:off x="571680" y="4429080"/>
            <a:ext cx="764352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12 Rectángulo"/>
          <p:cNvSpPr/>
          <p:nvPr/>
        </p:nvSpPr>
        <p:spPr>
          <a:xfrm>
            <a:off x="571680" y="5540400"/>
            <a:ext cx="771516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6"/>
          <a:stretch/>
        </p:blipFill>
        <p:spPr>
          <a:xfrm>
            <a:off x="25560" y="101520"/>
            <a:ext cx="9162720" cy="6756480"/>
          </a:xfrm>
          <a:prstGeom prst="rect">
            <a:avLst/>
          </a:prstGeom>
          <a:ln w="0">
            <a:noFill/>
          </a:ln>
        </p:spPr>
      </p:pic>
      <p:pic>
        <p:nvPicPr>
          <p:cNvPr id="519" name="14 CuadroTexto" descr=""/>
          <p:cNvPicPr/>
          <p:nvPr/>
        </p:nvPicPr>
        <p:blipFill>
          <a:blip r:embed="rId7"/>
          <a:stretch/>
        </p:blipFill>
        <p:spPr>
          <a:xfrm>
            <a:off x="4645080" y="285840"/>
            <a:ext cx="4359240" cy="4633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wheel spokes="1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2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2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2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8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F08-29.0.GIF073                                                00004F26Sumanas' Hard Drive            B4EBCDA7:"/>
          <p:cNvPicPr/>
          <p:nvPr/>
        </p:nvPicPr>
        <p:blipFill>
          <a:blip r:embed="rId1"/>
          <a:stretch/>
        </p:blipFill>
        <p:spPr>
          <a:xfrm>
            <a:off x="785880" y="714240"/>
            <a:ext cx="7569000" cy="5435640"/>
          </a:xfrm>
          <a:prstGeom prst="rect">
            <a:avLst/>
          </a:prstGeom>
          <a:ln w="0">
            <a:noFill/>
          </a:ln>
        </p:spPr>
      </p:pic>
      <p:pic>
        <p:nvPicPr>
          <p:cNvPr id="521" name="2 CuadroTexto" descr=""/>
          <p:cNvPicPr/>
          <p:nvPr/>
        </p:nvPicPr>
        <p:blipFill>
          <a:blip r:embed="rId2"/>
          <a:stretch/>
        </p:blipFill>
        <p:spPr>
          <a:xfrm>
            <a:off x="2571840" y="2494080"/>
            <a:ext cx="32796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28920" y="1285560"/>
            <a:ext cx="4186080" cy="368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1. Oxidoredut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Transfe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Hidrol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Li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Isome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Li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71480" y="274680"/>
            <a:ext cx="4714920" cy="49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LASIFICAC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4 CuadroTexto"/>
          <p:cNvSpPr/>
          <p:nvPr/>
        </p:nvSpPr>
        <p:spPr>
          <a:xfrm>
            <a:off x="-148680" y="5500800"/>
            <a:ext cx="9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f6228"/>
                </a:solidFill>
                <a:latin typeface="Constantia"/>
              </a:rPr>
              <a:t>Estudiar las características de cada clase de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trella de 7 puntas 4"/>
          <p:cNvSpPr/>
          <p:nvPr/>
        </p:nvSpPr>
        <p:spPr>
          <a:xfrm>
            <a:off x="2268360" y="3324240"/>
            <a:ext cx="2448000" cy="961920"/>
          </a:xfrm>
          <a:custGeom>
            <a:avLst/>
            <a:gdLst/>
            <a:ahLst/>
            <a:rect l="l" t="t" r="r" b="b"/>
            <a:pathLst>
              <a:path w="2447925" h="962025">
                <a:moveTo>
                  <a:pt x="-6" y="618685"/>
                </a:moveTo>
                <a:lnTo>
                  <a:pt x="376952" y="428144"/>
                </a:lnTo>
                <a:lnTo>
                  <a:pt x="242420" y="190542"/>
                </a:lnTo>
                <a:lnTo>
                  <a:pt x="847011" y="190542"/>
                </a:lnTo>
                <a:lnTo>
                  <a:pt x="1223963" y="0"/>
                </a:lnTo>
                <a:lnTo>
                  <a:pt x="1600914" y="190542"/>
                </a:lnTo>
                <a:lnTo>
                  <a:pt x="2205505" y="190542"/>
                </a:lnTo>
                <a:lnTo>
                  <a:pt x="2070973" y="428144"/>
                </a:lnTo>
                <a:lnTo>
                  <a:pt x="2447931" y="618685"/>
                </a:lnTo>
                <a:lnTo>
                  <a:pt x="1903210" y="724427"/>
                </a:lnTo>
                <a:lnTo>
                  <a:pt x="1768674" y="962030"/>
                </a:lnTo>
                <a:lnTo>
                  <a:pt x="1223963" y="856286"/>
                </a:lnTo>
                <a:lnTo>
                  <a:pt x="679251" y="962030"/>
                </a:lnTo>
                <a:lnTo>
                  <a:pt x="544715" y="724427"/>
                </a:lnTo>
                <a:lnTo>
                  <a:pt x="-6" y="6186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Rectángulo redondeado 3"/>
          <p:cNvGrpSpPr/>
          <p:nvPr/>
        </p:nvGrpSpPr>
        <p:grpSpPr>
          <a:xfrm>
            <a:off x="1146240" y="1122480"/>
            <a:ext cx="4267080" cy="901440"/>
            <a:chOff x="1146240" y="1122480"/>
            <a:chExt cx="4267080" cy="901440"/>
          </a:xfrm>
        </p:grpSpPr>
        <p:pic>
          <p:nvPicPr>
            <p:cNvPr id="100" name="Rectángulo redondeado 3" descr=""/>
            <p:cNvPicPr/>
            <p:nvPr/>
          </p:nvPicPr>
          <p:blipFill>
            <a:blip r:embed="rId1"/>
            <a:stretch/>
          </p:blipFill>
          <p:spPr>
            <a:xfrm>
              <a:off x="1146240" y="1122480"/>
              <a:ext cx="42670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536840" y="1165320"/>
              <a:ext cx="38322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Rectángulo 2" descr=""/>
          <p:cNvPicPr/>
          <p:nvPr/>
        </p:nvPicPr>
        <p:blipFill>
          <a:blip r:embed="rId2"/>
          <a:stretch/>
        </p:blipFill>
        <p:spPr>
          <a:xfrm>
            <a:off x="165240" y="-255600"/>
            <a:ext cx="3925800" cy="1455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835280" y="1125360"/>
            <a:ext cx="3457440" cy="486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 fontScale="80000"/>
          </a:bodyPr>
          <a:p>
            <a:pPr marL="218160" indent="-218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lutatión redu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428796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omenclat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AutoShape 6"/>
          <p:cNvGrpSpPr/>
          <p:nvPr/>
        </p:nvGrpSpPr>
        <p:grpSpPr>
          <a:xfrm>
            <a:off x="3303720" y="1884240"/>
            <a:ext cx="682560" cy="1335240"/>
            <a:chOff x="3303720" y="1884240"/>
            <a:chExt cx="682560" cy="1335240"/>
          </a:xfrm>
        </p:grpSpPr>
        <p:pic>
          <p:nvPicPr>
            <p:cNvPr id="106" name="AutoShape 6" descr=""/>
            <p:cNvPicPr/>
            <p:nvPr/>
          </p:nvPicPr>
          <p:blipFill>
            <a:blip r:embed="rId3"/>
            <a:stretch/>
          </p:blipFill>
          <p:spPr>
            <a:xfrm>
              <a:off x="3303720" y="1884240"/>
              <a:ext cx="6825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00280" y="1911240"/>
              <a:ext cx="28584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 Box 8"/>
          <p:cNvSpPr/>
          <p:nvPr/>
        </p:nvSpPr>
        <p:spPr>
          <a:xfrm>
            <a:off x="2550960" y="3570120"/>
            <a:ext cx="20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C </a:t>
            </a:r>
            <a:r>
              <a:rPr b="0" lang="pt-BR" sz="32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fc6204"/>
                </a:solidFill>
                <a:latin typeface="Calibri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7030a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1979640" y="4149720"/>
            <a:ext cx="1236600" cy="10065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79280" y="5157720"/>
            <a:ext cx="24177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oreduc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3"/>
          <p:cNvSpPr/>
          <p:nvPr/>
        </p:nvSpPr>
        <p:spPr>
          <a:xfrm flipH="1" flipV="1">
            <a:off x="3581280" y="4053960"/>
            <a:ext cx="46080" cy="1143000"/>
          </a:xfrm>
          <a:prstGeom prst="line">
            <a:avLst/>
          </a:prstGeom>
          <a:ln w="28440">
            <a:solidFill>
              <a:srgbClr val="fc62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714760" y="5286240"/>
            <a:ext cx="2228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204"/>
                </a:solidFill>
                <a:latin typeface="Calibri"/>
              </a:rPr>
              <a:t>Actuando sobre un grupo de donantes de azuf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3868200" y="4071600"/>
            <a:ext cx="1473480" cy="1214280"/>
          </a:xfrm>
          <a:prstGeom prst="line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5072040" y="5429160"/>
            <a:ext cx="24955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on NAD(+) o NADP(+) como acep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252680" y="3992400"/>
            <a:ext cx="1352520" cy="493920"/>
          </a:xfrm>
          <a:prstGeom prst="line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5857920" y="4214880"/>
            <a:ext cx="28573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Glutation-diazufre reduc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4" descr="http://www.ebi.ac.uk/thornton-srv/databases/enzymes/templates/gif/1x1.gif"/>
          <p:cNvPicPr/>
          <p:nvPr/>
        </p:nvPicPr>
        <p:blipFill>
          <a:blip r:embed="rId4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ttp://www.ebi.ac.uk/thornton-srv/databases/enzymes/templates/gif/1x1.gif"/>
          <p:cNvPicPr/>
          <p:nvPr/>
        </p:nvPicPr>
        <p:blipFill>
          <a:blip r:embed="rId5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ttp://www.ebi.ac.uk/thornton-srv/databases/enzymes/templates/gif/1x1.gif"/>
          <p:cNvPicPr/>
          <p:nvPr/>
        </p:nvPicPr>
        <p:blipFill>
          <a:blip r:embed="rId6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http://www.ebi.ac.uk/thornton-srv/databases/enzymes/templates/gif/1x1.gif"/>
          <p:cNvPicPr/>
          <p:nvPr/>
        </p:nvPicPr>
        <p:blipFill>
          <a:blip r:embed="rId7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ebi.ac.uk/thornton-srv/databases/enzymes/templates/gif/1x1.gif"/>
          <p:cNvPicPr/>
          <p:nvPr/>
        </p:nvPicPr>
        <p:blipFill>
          <a:blip r:embed="rId8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http://www.ebi.ac.uk/thornton-srv/databases/enzymes/templates/gif/1x1.gif"/>
          <p:cNvPicPr/>
          <p:nvPr/>
        </p:nvPicPr>
        <p:blipFill>
          <a:blip r:embed="rId9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http://www.ebi.ac.uk/thornton-srv/databases/enzymes/templates/gif/1x1.gif"/>
          <p:cNvPicPr/>
          <p:nvPr/>
        </p:nvPicPr>
        <p:blipFill>
          <a:blip r:embed="rId10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http://www.ebi.ac.uk/thornton-srv/databases/enzymes/templates/gif/1x1.gif"/>
          <p:cNvPicPr/>
          <p:nvPr/>
        </p:nvPicPr>
        <p:blipFill>
          <a:blip r:embed="rId1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www.ebi.ac.uk/thornton-srv/databases/enzymes/templates/gif/1x1.gif"/>
          <p:cNvPicPr/>
          <p:nvPr/>
        </p:nvPicPr>
        <p:blipFill>
          <a:blip r:embed="rId12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http://www.ebi.ac.uk/thornton-srv/databases/enzymes/templates/gif/1x1.gif"/>
          <p:cNvPicPr/>
          <p:nvPr/>
        </p:nvPicPr>
        <p:blipFill>
          <a:blip r:embed="rId13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http://www.ebi.ac.uk/thornton-srv/databases/enzymes/templates/gif/1x1.gif"/>
          <p:cNvPicPr/>
          <p:nvPr/>
        </p:nvPicPr>
        <p:blipFill>
          <a:blip r:embed="rId14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ebi.ac.uk/thornton-srv/databases/enzymes/templates/gif/1x1.gif"/>
          <p:cNvPicPr/>
          <p:nvPr/>
        </p:nvPicPr>
        <p:blipFill>
          <a:blip r:embed="rId15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http://www.ebi.ac.uk/thornton-srv/databases/enzymes/templates/gif/1x1.gif"/>
          <p:cNvPicPr/>
          <p:nvPr/>
        </p:nvPicPr>
        <p:blipFill>
          <a:blip r:embed="rId16"/>
          <a:stretch/>
        </p:blipFill>
        <p:spPr>
          <a:xfrm>
            <a:off x="0" y="0"/>
            <a:ext cx="38088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http://www.ebi.ac.uk/thornton-srv/databases/enzymes/templates/gif/1x1.gif"/>
          <p:cNvPicPr/>
          <p:nvPr/>
        </p:nvPicPr>
        <p:blipFill>
          <a:blip r:embed="rId1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ebi.ac.uk/thornton-srv/databases/enzymes/templates/gif/1x1.gif"/>
          <p:cNvPicPr/>
          <p:nvPr/>
        </p:nvPicPr>
        <p:blipFill>
          <a:blip r:embed="rId18"/>
          <a:stretch/>
        </p:blipFill>
        <p:spPr>
          <a:xfrm>
            <a:off x="0" y="0"/>
            <a:ext cx="95400" cy="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http://www.ebi.ac.uk/thornton-srv/databases/enzymes/templates/gif/1x1.gif"/>
          <p:cNvPicPr/>
          <p:nvPr/>
        </p:nvPicPr>
        <p:blipFill>
          <a:blip r:embed="rId19"/>
          <a:stretch/>
        </p:blipFill>
        <p:spPr>
          <a:xfrm>
            <a:off x="0" y="0"/>
            <a:ext cx="95400" cy="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http://www.ebi.ac.uk/thornton-srv/databases/enzymes/templates/gif/1x1.gif"/>
          <p:cNvPicPr/>
          <p:nvPr/>
        </p:nvPicPr>
        <p:blipFill>
          <a:blip r:embed="rId20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http://www.ebi.ac.uk/thornton-srv/databases/enzymes/templates/gif/1x1.gif"/>
          <p:cNvPicPr/>
          <p:nvPr/>
        </p:nvPicPr>
        <p:blipFill>
          <a:blip r:embed="rId2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http://www.ebi.ac.uk/thornton-srv/databases/enzymes/templates/gif/1x1.gif"/>
          <p:cNvPicPr/>
          <p:nvPr/>
        </p:nvPicPr>
        <p:blipFill>
          <a:blip r:embed="rId2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http://www.ebi.ac.uk/thornton-srv/databases/enzymes/templates/gif/1x1.gif"/>
          <p:cNvPicPr/>
          <p:nvPr/>
        </p:nvPicPr>
        <p:blipFill>
          <a:blip r:embed="rId23"/>
          <a:stretch/>
        </p:blipFill>
        <p:spPr>
          <a:xfrm>
            <a:off x="0" y="0"/>
            <a:ext cx="9360" cy="11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http://www.ebi.ac.uk/thornton-srv/databases/enzymes/templates/gif/1x1.gif"/>
          <p:cNvPicPr/>
          <p:nvPr/>
        </p:nvPicPr>
        <p:blipFill>
          <a:blip r:embed="rId24"/>
          <a:stretch/>
        </p:blipFill>
        <p:spPr>
          <a:xfrm>
            <a:off x="0" y="0"/>
            <a:ext cx="57168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http://www.ebi.ac.uk/thornton-srv/databases/enzymes/templates/gif/1x1.gif"/>
          <p:cNvPicPr/>
          <p:nvPr/>
        </p:nvPicPr>
        <p:blipFill>
          <a:blip r:embed="rId25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http://www.ebi.ac.uk/thornton-srv/databases/enzymes/templates/gif/1x1.gif"/>
          <p:cNvPicPr/>
          <p:nvPr/>
        </p:nvPicPr>
        <p:blipFill>
          <a:blip r:embed="rId26"/>
          <a:stretch/>
        </p:blipFill>
        <p:spPr>
          <a:xfrm>
            <a:off x="0" y="0"/>
            <a:ext cx="95400" cy="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7" descr="http://www.ebi.ac.uk/thornton-srv/databases/enzymes/templates/gif/1x1.gif"/>
          <p:cNvPicPr/>
          <p:nvPr/>
        </p:nvPicPr>
        <p:blipFill>
          <a:blip r:embed="rId27"/>
          <a:stretch/>
        </p:blipFill>
        <p:spPr>
          <a:xfrm>
            <a:off x="0" y="0"/>
            <a:ext cx="95400" cy="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8" descr="http://www.ebi.ac.uk/thornton-srv/databases/enzymes/templates/gif/1x1.gif"/>
          <p:cNvPicPr/>
          <p:nvPr/>
        </p:nvPicPr>
        <p:blipFill>
          <a:blip r:embed="rId28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9" descr="http://www.ebi.ac.uk/thornton-srv/databases/enzymes/templates/gif/1x1.gif"/>
          <p:cNvPicPr/>
          <p:nvPr/>
        </p:nvPicPr>
        <p:blipFill>
          <a:blip r:embed="rId29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" descr="http://www.ebi.ac.uk/thornton-srv/databases/enzymes/templates/gif/1x1.gif"/>
          <p:cNvPicPr/>
          <p:nvPr/>
        </p:nvPicPr>
        <p:blipFill>
          <a:blip r:embed="rId30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http://www.ebi.ac.uk/thornton-srv/databases/enzymes/templates/gif/1x1.gif"/>
          <p:cNvPicPr/>
          <p:nvPr/>
        </p:nvPicPr>
        <p:blipFill>
          <a:blip r:embed="rId3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http://www.ebi.ac.uk/thornton-srv/databases/enzymes/templates/gif/1x1.gif"/>
          <p:cNvPicPr/>
          <p:nvPr/>
        </p:nvPicPr>
        <p:blipFill>
          <a:blip r:embed="rId32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http://www.ebi.ac.uk/thornton-srv/databases/enzymes/templates/gif/1x1.gif"/>
          <p:cNvPicPr/>
          <p:nvPr/>
        </p:nvPicPr>
        <p:blipFill>
          <a:blip r:embed="rId33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http://www.ebi.ac.uk/thornton-srv/databases/enzymes/templates/gif/1x1.gif"/>
          <p:cNvPicPr/>
          <p:nvPr/>
        </p:nvPicPr>
        <p:blipFill>
          <a:blip r:embed="rId34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http://www.ebi.ac.uk/thornton-srv/databases/enzymes/templates/gif/1x1.gif"/>
          <p:cNvPicPr/>
          <p:nvPr/>
        </p:nvPicPr>
        <p:blipFill>
          <a:blip r:embed="rId35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http://www.ebi.ac.uk/thornton-srv/databases/enzymes/templates/gif/1x1.gif"/>
          <p:cNvPicPr/>
          <p:nvPr/>
        </p:nvPicPr>
        <p:blipFill>
          <a:blip r:embed="rId36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http://www.ebi.ac.uk/thornton-srv/databases/enzymes/templates/gif/1x1.gif"/>
          <p:cNvPicPr/>
          <p:nvPr/>
        </p:nvPicPr>
        <p:blipFill>
          <a:blip r:embed="rId37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8" descr="http://www.ebi.ac.uk/thornton-srv/databases/enzymes/templates/gif/1x1.gif"/>
          <p:cNvPicPr/>
          <p:nvPr/>
        </p:nvPicPr>
        <p:blipFill>
          <a:blip r:embed="rId38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http://www.ebi.ac.uk/thornton-srv/databases/enzymes/templates/gif/1x1.gif"/>
          <p:cNvPicPr/>
          <p:nvPr/>
        </p:nvPicPr>
        <p:blipFill>
          <a:blip r:embed="rId39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0" descr="http://www.ebi.ac.uk/thornton-srv/databases/enzymes/templates/gif/1x1.gif"/>
          <p:cNvPicPr/>
          <p:nvPr/>
        </p:nvPicPr>
        <p:blipFill>
          <a:blip r:embed="rId40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1" descr="http://www.ebi.ac.uk/thornton-srv/databases/enzymes/templates/gif/1x1.gif"/>
          <p:cNvPicPr/>
          <p:nvPr/>
        </p:nvPicPr>
        <p:blipFill>
          <a:blip r:embed="rId4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2" descr="http://www.ebi.ac.uk/thornton-srv/databases/enzymes/templates/gif/1x1.gif"/>
          <p:cNvPicPr/>
          <p:nvPr/>
        </p:nvPicPr>
        <p:blipFill>
          <a:blip r:embed="rId42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3" descr="http://www.ebi.ac.uk/thornton-srv/databases/enzymes/templates/gif/1x1.gif"/>
          <p:cNvPicPr/>
          <p:nvPr/>
        </p:nvPicPr>
        <p:blipFill>
          <a:blip r:embed="rId43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4" descr="http://www.ebi.ac.uk/thornton-srv/databases/enzymes/templates/gif/1x1.gif"/>
          <p:cNvPicPr/>
          <p:nvPr/>
        </p:nvPicPr>
        <p:blipFill>
          <a:blip r:embed="rId44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5" descr="http://www.ebi.ac.uk/thornton-srv/databases/enzymes/templates/gif/1x1.gif"/>
          <p:cNvPicPr/>
          <p:nvPr/>
        </p:nvPicPr>
        <p:blipFill>
          <a:blip r:embed="rId45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6" descr="http://www.ebi.ac.uk/thornton-srv/databases/enzymes/templates/gif/1x1.gif"/>
          <p:cNvPicPr/>
          <p:nvPr/>
        </p:nvPicPr>
        <p:blipFill>
          <a:blip r:embed="rId46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7" descr="http://www.ebi.ac.uk/thornton-srv/databases/enzymes/templates/gif/1x1.gif"/>
          <p:cNvPicPr/>
          <p:nvPr/>
        </p:nvPicPr>
        <p:blipFill>
          <a:blip r:embed="rId47"/>
          <a:stretch/>
        </p:blipFill>
        <p:spPr>
          <a:xfrm>
            <a:off x="0" y="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8" descr="http://www.ebi.ac.uk/thornton-srv/databases/enzymes/templates/gif/1x1.gif"/>
          <p:cNvPicPr/>
          <p:nvPr/>
        </p:nvPicPr>
        <p:blipFill>
          <a:blip r:embed="rId48"/>
          <a:stretch/>
        </p:blipFill>
        <p:spPr>
          <a:xfrm>
            <a:off x="0" y="0"/>
            <a:ext cx="762120" cy="9360"/>
          </a:xfrm>
          <a:prstGeom prst="rect">
            <a:avLst/>
          </a:prstGeom>
          <a:ln w="0">
            <a:noFill/>
          </a:ln>
        </p:spPr>
      </p:pic>
      <p:grpSp>
        <p:nvGrpSpPr>
          <p:cNvPr id="162" name="CuadroTexto 1"/>
          <p:cNvGrpSpPr/>
          <p:nvPr/>
        </p:nvGrpSpPr>
        <p:grpSpPr>
          <a:xfrm>
            <a:off x="4406760" y="2438280"/>
            <a:ext cx="3694320" cy="1335240"/>
            <a:chOff x="4406760" y="2438280"/>
            <a:chExt cx="3694320" cy="1335240"/>
          </a:xfrm>
        </p:grpSpPr>
        <p:pic>
          <p:nvPicPr>
            <p:cNvPr id="163" name="CuadroTexto 1" descr=""/>
            <p:cNvPicPr/>
            <p:nvPr/>
          </p:nvPicPr>
          <p:blipFill>
            <a:blip r:embed="rId49"/>
            <a:stretch/>
          </p:blipFill>
          <p:spPr>
            <a:xfrm>
              <a:off x="4406760" y="2438280"/>
              <a:ext cx="3694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56040" y="249228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Calibri"/>
                </a:rPr>
                <a:t>Cada número del códig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Calibri"/>
                </a:rPr>
                <a:t>tiene un significad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CuadroTexto 6"/>
          <p:cNvSpPr/>
          <p:nvPr/>
        </p:nvSpPr>
        <p:spPr>
          <a:xfrm>
            <a:off x="3144240" y="29304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CuadroTexto 7"/>
          <p:cNvGrpSpPr/>
          <p:nvPr/>
        </p:nvGrpSpPr>
        <p:grpSpPr>
          <a:xfrm>
            <a:off x="4211640" y="281160"/>
            <a:ext cx="1957320" cy="968040"/>
            <a:chOff x="4211640" y="281160"/>
            <a:chExt cx="1957320" cy="968040"/>
          </a:xfrm>
        </p:grpSpPr>
        <p:pic>
          <p:nvPicPr>
            <p:cNvPr id="167" name="CuadroTexto 7" descr=""/>
            <p:cNvPicPr/>
            <p:nvPr/>
          </p:nvPicPr>
          <p:blipFill>
            <a:blip r:embed="rId50"/>
            <a:stretch/>
          </p:blipFill>
          <p:spPr>
            <a:xfrm>
              <a:off x="4211640" y="281160"/>
              <a:ext cx="19573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72000" y="33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EJEMPL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17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" presetSubtype="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" presetSubtype="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Calibri"/>
              </a:rPr>
              <a:t>Enzimas y Proteí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54400" y="1876320"/>
            <a:ext cx="2517120" cy="52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alibri"/>
              </a:rPr>
              <a:t>Enzimas Ac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232240" y="1743120"/>
            <a:ext cx="20037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iduos de 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AutoShape 8"/>
          <p:cNvCxnSpPr>
            <a:stCxn id="170" idx="3"/>
            <a:endCxn id="171" idx="1"/>
          </p:cNvCxnSpPr>
          <p:nvPr/>
        </p:nvCxnSpPr>
        <p:spPr>
          <a:xfrm>
            <a:off x="3984480" y="2138400"/>
            <a:ext cx="1248480" cy="2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 Box 11"/>
          <p:cNvSpPr/>
          <p:nvPr/>
        </p:nvSpPr>
        <p:spPr>
          <a:xfrm>
            <a:off x="1441440" y="3456000"/>
            <a:ext cx="66452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ones metálicos: Fe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Mg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M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enzimas: moléculas orgánicas complej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AutoShape 12"/>
          <p:cNvCxnSpPr/>
          <p:nvPr/>
        </p:nvCxnSpPr>
        <p:spPr>
          <a:xfrm flipH="1" rot="16200000">
            <a:off x="3786120" y="2499840"/>
            <a:ext cx="572400" cy="572400"/>
          </a:xfrm>
          <a:prstGeom prst="bentConnector3">
            <a:avLst>
              <a:gd name="adj1" fmla="val 4996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Text Box 13"/>
          <p:cNvSpPr/>
          <p:nvPr/>
        </p:nvSpPr>
        <p:spPr>
          <a:xfrm>
            <a:off x="3716280" y="4780080"/>
            <a:ext cx="1855800" cy="45972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ccff"/>
                </a:solidFill>
                <a:latin typeface="Calibri"/>
              </a:rPr>
              <a:t>Holoenzi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84360" y="5516640"/>
            <a:ext cx="7920000" cy="8254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rupo prostético: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enzima o ión metálico covalentemente unida a la parte proté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AutoShape 17"/>
          <p:cNvCxnSpPr>
            <a:stCxn id="173" idx="2"/>
            <a:endCxn id="175" idx="0"/>
          </p:cNvCxnSpPr>
          <p:nvPr/>
        </p:nvCxnSpPr>
        <p:spPr>
          <a:xfrm flipH="1">
            <a:off x="4644360" y="4286160"/>
            <a:ext cx="119880" cy="49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25 Rectángulo"/>
          <p:cNvSpPr/>
          <p:nvPr/>
        </p:nvSpPr>
        <p:spPr>
          <a:xfrm>
            <a:off x="3733560" y="307188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fact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1189080" y="-244440"/>
            <a:ext cx="5546520" cy="2298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2028960"/>
            <a:ext cx="8229600" cy="354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A enzima se une a una molécula de substrato en una región específica denominada </a:t>
            </a:r>
            <a:r>
              <a:rPr b="0" lang="pt-BR" sz="3200" spc="-1" strike="noStrike">
                <a:solidFill>
                  <a:srgbClr val="c0504d"/>
                </a:solidFill>
                <a:latin typeface="Calibri"/>
              </a:rPr>
              <a:t>centro activo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a región es un encaje que presenta un lado formado por cadenas de aminoácidos que ayudan a unir el sustrato, y el otro lado de esta cadena realiza la catali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6000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enzshow"/>
          <p:cNvPicPr/>
          <p:nvPr/>
        </p:nvPicPr>
        <p:blipFill>
          <a:blip r:embed="rId1"/>
          <a:stretch/>
        </p:blipFill>
        <p:spPr>
          <a:xfrm rot="10800000">
            <a:off x="2057040" y="1561320"/>
            <a:ext cx="304812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2399760" y="181116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522760" y="33544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Compuesto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sustra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245200" y="15447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uesto 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produc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7"/>
          <p:cNvSpPr/>
          <p:nvPr/>
        </p:nvSpPr>
        <p:spPr>
          <a:xfrm flipV="1">
            <a:off x="6400800" y="2152440"/>
            <a:ext cx="0" cy="1028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928800" y="4143240"/>
            <a:ext cx="282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o act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io catalí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2000160" y="2781000"/>
            <a:ext cx="1276560" cy="135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981600" y="4611600"/>
            <a:ext cx="442260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bserve que no hay consumo o modificación permanente de la enz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556320" y="2071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cción catalizada por la enz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4716000" y="184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3"/>
          <p:cNvSpPr/>
          <p:nvPr/>
        </p:nvSpPr>
        <p:spPr>
          <a:xfrm flipH="1" flipV="1">
            <a:off x="5076720" y="3500280"/>
            <a:ext cx="432000" cy="1447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12 CuadroTexto" descr=""/>
          <p:cNvPicPr/>
          <p:nvPr/>
        </p:nvPicPr>
        <p:blipFill>
          <a:blip r:embed="rId2"/>
          <a:stretch/>
        </p:blipFill>
        <p:spPr>
          <a:xfrm>
            <a:off x="1152360" y="244440"/>
            <a:ext cx="7412040" cy="646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299880" y="1152360"/>
            <a:ext cx="8544240" cy="4553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571680" y="9763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lave-cerrad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2960" y="32860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delo Encaje Induc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Rectangle 5"/>
          <p:cNvGrpSpPr/>
          <p:nvPr/>
        </p:nvGrpSpPr>
        <p:grpSpPr>
          <a:xfrm>
            <a:off x="1243080" y="-189000"/>
            <a:ext cx="6767280" cy="1749600"/>
            <a:chOff x="1243080" y="-189000"/>
            <a:chExt cx="6767280" cy="1749600"/>
          </a:xfrm>
        </p:grpSpPr>
        <p:pic>
          <p:nvPicPr>
            <p:cNvPr id="197" name="Rectangle 5" descr=""/>
            <p:cNvPicPr/>
            <p:nvPr/>
          </p:nvPicPr>
          <p:blipFill>
            <a:blip r:embed="rId2"/>
            <a:stretch/>
          </p:blipFill>
          <p:spPr>
            <a:xfrm>
              <a:off x="1243080" y="-189000"/>
              <a:ext cx="676728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285920" y="0"/>
              <a:ext cx="6357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c0504d"/>
                  </a:solidFill>
                  <a:latin typeface="Calibri"/>
                </a:rPr>
                <a:t>Unión de la Enzima al Sustrato </a:t>
              </a:r>
              <a:r>
                <a:rPr b="0" lang="pt-BR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Calibri"/>
                </a:rPr>
                <a:t>2 modelo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6 CuadroTexto"/>
          <p:cNvSpPr/>
          <p:nvPr/>
        </p:nvSpPr>
        <p:spPr>
          <a:xfrm>
            <a:off x="1285920" y="1925640"/>
            <a:ext cx="765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8 CuadroTexto"/>
          <p:cNvSpPr/>
          <p:nvPr/>
        </p:nvSpPr>
        <p:spPr>
          <a:xfrm>
            <a:off x="1643040" y="3870360"/>
            <a:ext cx="7682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9 CuadroTexto"/>
          <p:cNvSpPr/>
          <p:nvPr/>
        </p:nvSpPr>
        <p:spPr>
          <a:xfrm>
            <a:off x="3708000" y="5572080"/>
            <a:ext cx="2066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conformación  d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estado de transi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5 Rectángulo redondeado"/>
          <p:cNvSpPr/>
          <p:nvPr/>
        </p:nvSpPr>
        <p:spPr>
          <a:xfrm>
            <a:off x="0" y="3429000"/>
            <a:ext cx="9144000" cy="285768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 spokes="2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-3.33333E-006 L 0 -0.42754 E">
                                      <p:cBhvr>
                                        <p:cTn id="190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772400" cy="34131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1"/>
          <p:cNvSpPr/>
          <p:nvPr/>
        </p:nvSpPr>
        <p:spPr>
          <a:xfrm>
            <a:off x="468360" y="4221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mbio de la conformación de la enzima inducida por la unión con el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9:25:37Z</dcterms:created>
  <dc:creator>Rodolfo Darias Rodríguez</dc:creator>
  <dc:description/>
  <dc:language>en-US</dc:language>
  <cp:lastModifiedBy>Rodolfo</cp:lastModifiedBy>
  <dcterms:modified xsi:type="dcterms:W3CDTF">2015-03-11T05:04:41Z</dcterms:modified>
  <cp:revision>41</cp:revision>
  <dc:subject/>
  <dc:title>ENZIMAS</dc:title>
</cp:coreProperties>
</file>