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A644-F5B5-49E3-8C32-43C5FA0301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DAE3-4ECC-4876-B66B-6567950912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1483-8F6E-4D77-801B-55AE5897F9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B1E-09FD-4A64-A7EF-523E1225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7BB-DE1F-46E4-8FD7-FFB4021D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93E70-595C-48D7-9A9F-17F78972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38821-5D9A-4E30-B30B-75D5C1D8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7D22C-081E-48D4-83C0-9BF5DD9E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57E6E-3D07-4731-85EF-8562DDC7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72DA5-FB29-4C64-8E3F-DBDC9C3B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E6AD3-B702-4F64-946B-2588A78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E1063-14A6-4B0A-A250-D6C62FB0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C3D21-3E8A-42F7-8490-E9258319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A18C5-0A8D-4A40-AF48-0FD14E7C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87579-5CA7-4EDD-82CE-79E32BBC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62D-FD27-4AB6-BCB8-1A2338B1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C5622-827B-488B-B773-6E661E60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27F7A-32AE-4DBC-B1D1-742095BB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F9C2A-4014-4042-A466-D3FBE3AD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148AA-B070-4419-9C3B-83CD1D27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8215B-6FFA-4BC8-A36D-D068A02C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F47BA-C44D-4BB7-A171-705ED517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55CC9-818D-4961-821D-E6FAF979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97CA4-981B-4E2D-BFB1-D58CB882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EC59C-6087-46BB-8DBE-30274BE7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369CE-C57A-4177-A554-0FBFD0E6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467-CC25-4497-8E3E-8383F43A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D0AFB-5DAF-43D1-AAEF-227C42F5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229E-FFCE-42D2-A350-CFB94A0C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B670-39AA-4AD9-87C9-DC02CFAC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18F3-02A2-49BF-8651-0940763F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93EA-4CF3-4CDE-9E82-E0193B57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96F5-0354-411A-85CB-FB2E6714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45CC-BA0D-43C9-B67E-7B675E70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2AA3-F041-4DBB-8F51-776755E4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443-F83A-4D56-9F0D-00ADC3E9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2BCF-162C-40C7-8105-20E55DC3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E71A-41CD-4C3A-A7BD-E3EC16AC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F212-E876-4DDD-94EF-8625C06F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614A-1363-4F56-8EE2-F6A56850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EF72-513C-488F-B416-52AF60BD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FB33A-973D-45DA-AA10-62C3B4A4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59F2C-CB13-4B5F-8CBA-878AE7AC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DE1B-6ECC-47A1-9ADA-1495A93E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D693-1ECF-4B4D-937C-F463070A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6801-65AF-4ABC-9518-DDA7B428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7D0-DAA5-4AB9-9978-64A0E991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21866-4D70-4476-B6B8-767BABF1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D67D0-0315-4787-89F5-FF721BA8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9EC9-4370-4A94-AF7F-443591B9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0263-0DEE-46AC-A1C8-3615E59E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D9EAD-D48E-4B63-8280-4CD21873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ADD33-FE67-40B8-9EF7-300925F5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29FE2-87D8-49CC-9E86-60854120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06A89-AC45-4BE8-AF40-43648B6B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9CA0A-3D6E-4CA1-9237-B991F4C4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F293C-7549-4C0F-9EF6-7B955291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677-557C-4688-BAEC-48C4DECB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D593B-9DD6-42BD-A0B4-D9CA3CD1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17140-6537-4ACE-856B-C76769D8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BD116-868F-4B10-A136-82686F5B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FEBEF-E7AF-49A9-B329-4E0EEF1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F68F9-ED1B-4EB3-A0AE-2873FA49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637A4-F3C5-4B2E-B2BD-F9A560A6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D814E-AF99-4539-B6F0-538E1CD0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2A680-628A-4928-B79B-D67C7738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92124-26F4-48A7-80C7-496E76C4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B584C-AEF2-46C4-975B-2B6FF36E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0EA-733A-4F5F-BA04-A40B328D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0968C-6079-47A6-8867-707FD231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1DD3F-2AED-468E-B24C-CDC9D970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E40D7-01B1-4BE8-AE76-071941F8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E0E6-B95E-4642-ADB4-18B10E44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E9E2F-B277-4F5B-B991-AB1C80A4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D022D-D9DA-4FA4-BADB-25918F27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06B23-B171-49C7-A656-F111C36D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F28B0-C05F-4A18-AA38-842B9995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2F560-6F08-4B89-A769-15FC0DB6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815C5-B506-42E6-94B2-78B582C5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0FD-04D4-4B7A-80B8-7D8FE017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200DF-FC2A-4E9D-BB08-EE3DC626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9BF85-ECBD-47DA-B75C-2A9BD754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C3BFE-8207-49B8-8338-5808B71E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A7CAC-82C7-4BA7-8DEE-934CCC9C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18CB2-A7F4-49F2-8754-419CB94C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D9E7A-A2FF-4644-A4DD-1404DA1F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41A05-B0E1-447C-B292-C05E695F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A383A-9832-4A86-BAE9-543B4A19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69C68-CF55-463E-9888-4E7B0D12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A44EF-96DB-47C0-898E-2CB56F0D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4DD-AF57-4E08-ACA7-2A342EDF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54C3E-9AB2-4888-8455-D7D425BE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D7EFE-CB42-4153-93CB-85189764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FC5F6-0483-4C51-AF5B-69668A4D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7481E-3276-4B43-B8AC-6DC26C2C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3F12D-2F55-48F5-9025-10D725E7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BA20E-36E4-43D6-8C12-C7D7B8D6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DB6EE-38BE-4124-B889-E0F04804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161FE-50C7-485E-8A4B-C891CF48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67817-8B0F-4922-BB4E-F5796FA4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816BB-8BA8-49AD-8E97-59FB9440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C15-6DBB-4531-BAF2-A818941C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129E3-E295-4D9B-AEDB-7E57F449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A6C51-857D-4C08-85D4-FE161AB3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D153C-A6C0-48BF-AE44-9E402055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7E0D1-A4B9-4DD1-BEA3-1923BC12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A526C-1266-4FA1-B297-AB904794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3EAC2-3395-4AC0-8BC8-3B4F5003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62CB1-8A56-41AF-BDDF-52567BB3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8CE28-9334-4577-A644-D2698AD5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5A0FE-34CC-43FD-9BD4-A2CD68A0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E5C7E-868E-4BD2-96FC-9E41648E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DEF-C4EC-4326-BD27-3EDE8B8C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885BE-6F70-4A2B-B503-28BDFA6D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1A3FE-9805-443C-BAC0-9DDBAC15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772C2-EA8C-4812-A8DB-63FC5F08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32EA9-25B1-4EFC-AB70-900D8FBB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1338C-9513-4479-A471-1AE22E36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39D61-7A0C-4B1A-A727-AF0FCC89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7CE6B-12DE-4C2C-AFE1-8B07C8B9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46BAB-1F8E-4177-94E6-2A2BDBD3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057E3-5765-4A9C-BCB1-D923A1B2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DDF18-C0C1-4FCA-92C2-E09C6104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6186-6AE1-476A-989D-46B4A1AC267C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421" name="TextBox 11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7009-B363-42FB-82A4-CC4944D65A9A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1b1a">
                <a:alpha val="4313"/>
              </a:srgbClr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M.E.Guar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AB0E-6297-47C2-A2A7-B388A9F0747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F711-9753-4A02-BCDC-5481BF4777AD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32" name="TextBox 12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6D2C-2FC2-4A60-993D-E36AEC16E838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81" name="TextBox 8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8CF7-AA0C-422A-97EB-78BA856E68E8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29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1B03-5C44-477D-A213-D91194F0DF79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7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77" name="TextBox 15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8893-FFDA-46A8-BC13-4DD10036B3C8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25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B417-5C8C-4F0B-B0C8-105593E4F998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0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73" name="TextBox 14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E57C-658F-4681-8199-B4AF5853A129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M.E.Guar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D58B-F319-443A-9955-33EBB72DA4D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Rectángulo"/>
          <p:cNvSpPr/>
          <p:nvPr/>
        </p:nvSpPr>
        <p:spPr>
          <a:xfrm>
            <a:off x="395280" y="210960"/>
            <a:ext cx="838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MS Mincho"/>
              </a:rPr>
              <a:t>Actividad No. 1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MS Mincho"/>
              </a:rPr>
              <a:t>Tem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Mincho"/>
              </a:rPr>
              <a:t>  La ciencia y su vinculación con la Cultura Fí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mario: Particularidades de la ciencia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 comentario neces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miento científico ¿ A qué denominamos cienci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articularidades y funciones de la ciencia en el ámbito de la práctica físico depor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 las particularidades del conocimiento científ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la  política científica del IND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"/>
          <p:cNvSpPr/>
          <p:nvPr/>
        </p:nvSpPr>
        <p:spPr>
          <a:xfrm>
            <a:off x="428760" y="572760"/>
            <a:ext cx="6000480" cy="459720"/>
          </a:xfrm>
          <a:prstGeom prst="rect">
            <a:avLst/>
          </a:prstGeom>
          <a:noFill/>
          <a:ln w="12600">
            <a:solidFill>
              <a:srgbClr val="d1ca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¿Cómo se adquiere el cono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85840" y="1308240"/>
            <a:ext cx="8607240" cy="490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dquiere a partir  de sucesos imprevistos, inesperados, sin ninguna intencionalidad por parte del individu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virtud de la aplicación de conocimientos ya adquiridos (por la vía de la educación) y que forman parte de la actividad labo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intenta obtener nuevos conocimientos por vía  de las teorías cientí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1982520" y="-1080"/>
            <a:ext cx="469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ocimiento científic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692360" y="4653000"/>
            <a:ext cx="720072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l conocimiento científico requiere de la teoría científica como fundamento para producirlos, de recursos materiales y humanos para implantarlo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928800" y="1773360"/>
            <a:ext cx="1985760" cy="219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obtiene mediante la  aplicación del Método Científic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"/>
          <p:cNvSpPr/>
          <p:nvPr/>
        </p:nvSpPr>
        <p:spPr>
          <a:xfrm flipV="1" rot="10800000">
            <a:off x="3058920" y="1556280"/>
            <a:ext cx="1804680" cy="25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 más profundo que el empírico porque estudia las causas y da la explicación de los fenómen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5003640" y="1741320"/>
            <a:ext cx="1511640" cy="1923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ene una forma sistémica de acercarse a la rea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6659640" y="1724040"/>
            <a:ext cx="2340000" cy="2228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frece resultados de forma comprensible y comunicable;  relaciona los hechos y los integra en sist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2051640" y="836640"/>
            <a:ext cx="406404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como característ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9"/>
          <p:cNvSpPr/>
          <p:nvPr/>
        </p:nvSpPr>
        <p:spPr>
          <a:xfrm flipH="1">
            <a:off x="2410920" y="1484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0"/>
          <p:cNvSpPr/>
          <p:nvPr/>
        </p:nvSpPr>
        <p:spPr>
          <a:xfrm>
            <a:off x="3924360" y="134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1"/>
          <p:cNvSpPr/>
          <p:nvPr/>
        </p:nvSpPr>
        <p:spPr>
          <a:xfrm>
            <a:off x="4859280" y="134136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2"/>
          <p:cNvSpPr/>
          <p:nvPr/>
        </p:nvSpPr>
        <p:spPr>
          <a:xfrm>
            <a:off x="6084720" y="126828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"/>
          <p:cNvGraphicFramePr/>
          <p:nvPr/>
        </p:nvGraphicFramePr>
        <p:xfrm>
          <a:off x="250920" y="177840"/>
          <a:ext cx="8642160" cy="5861160"/>
        </p:xfrm>
        <a:graphic>
          <a:graphicData uri="http://schemas.openxmlformats.org/drawingml/2006/table">
            <a:tbl>
              <a:tblPr/>
              <a:tblGrid>
                <a:gridCol w="4589280"/>
                <a:gridCol w="1649520"/>
                <a:gridCol w="2403360"/>
              </a:tblGrid>
              <a:tr h="40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ones   “Ciencia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labras cla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4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“</a:t>
                      </a: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 ciencia es un sistema de conocimientos, metódicamente establecidos, referidos a un conjunto de objetos definidos y según una concepción filosófica del mundo”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Kopnin, V. D.: “Lógica Dialéctica” p. 73)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 u="sng">
                          <a:solidFill>
                            <a:srgbClr val="873624"/>
                          </a:solidFill>
                          <a:uFillTx/>
                          <a:latin typeface="Tahoma"/>
                          <a:ea typeface="Times New Roman"/>
                        </a:rPr>
                        <a:t>Sistema de</a:t>
                      </a:r>
                      <a:r>
                        <a:rPr b="1" lang="es-ES_tradnl" sz="1500" spc="-1" strike="noStrike" u="sng">
                          <a:solidFill>
                            <a:srgbClr val="873624"/>
                          </a:solidFill>
                          <a:uFillTx/>
                          <a:latin typeface="Tahoma"/>
                          <a:ea typeface="Times New Roman"/>
                        </a:rPr>
                        <a:t> conocimien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873624"/>
                          </a:solidFill>
                          <a:latin typeface="Tahoma"/>
                          <a:ea typeface="Times New Roman"/>
                        </a:rPr>
                        <a:t>metódicamente establecid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873624"/>
                          </a:solidFill>
                          <a:latin typeface="Tahoma"/>
                          <a:ea typeface="Times New Roman"/>
                        </a:rPr>
                        <a:t>objetos definid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873624"/>
                          </a:solidFill>
                          <a:latin typeface="Tahoma"/>
                          <a:ea typeface="Times New Roman"/>
                        </a:rPr>
                        <a:t>concepción filosóf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“</a:t>
                      </a: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erpo de ideas que pueden caracterizarse como conocimiento racional, sistemático, exacto, verificable y por consiguiente falible”. (inseguro) 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Mario Bung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 u="sng">
                          <a:solidFill>
                            <a:srgbClr val="873624"/>
                          </a:solidFill>
                          <a:uFillTx/>
                          <a:latin typeface="Tahoma"/>
                          <a:ea typeface="Times New Roman"/>
                        </a:rPr>
                        <a:t>Conocimiento racional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873624"/>
                          </a:solidFill>
                          <a:latin typeface="Tahoma"/>
                          <a:ea typeface="Times New Roman"/>
                        </a:rPr>
                        <a:t>Sistemático, exacto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873624"/>
                          </a:solidFill>
                          <a:latin typeface="Tahoma"/>
                          <a:ea typeface="Times New Roman"/>
                        </a:rPr>
                        <a:t>Verificable, insegu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“</a:t>
                      </a: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junto de conocimientos sistemáticos, obtenidos mediante un método que, explican las relaciones de causa – efecto, estructura – función, forma – contenido . . . de un objeto determinado, a través del arte de trabajar con conceptos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Velasco Salazar, Carlos: “Tècnicas de estudio, metodología de la investigación”  1993, p. 167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 u="sng">
                          <a:solidFill>
                            <a:srgbClr val="873624"/>
                          </a:solidFill>
                          <a:uFillTx/>
                          <a:latin typeface="Tahoma"/>
                          <a:ea typeface="Times New Roman"/>
                        </a:rPr>
                        <a:t>Conocimientos sistemát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873624"/>
                          </a:solidFill>
                          <a:latin typeface="Tahoma"/>
                          <a:ea typeface="Times New Roman"/>
                        </a:rPr>
                        <a:t>método que explic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873624"/>
                          </a:solidFill>
                          <a:latin typeface="Tahoma"/>
                          <a:ea typeface="Times New Roman"/>
                        </a:rPr>
                        <a:t>contenido . . . de un obje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“</a:t>
                      </a: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 ciencia es ante todo una actividad social institucionalizada, orienta a la producción, difusión y aplicación de conocimientos”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José Núnez Jover,199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873624"/>
                          </a:solidFill>
                          <a:latin typeface="Tahoma"/>
                          <a:ea typeface="Times New Roman"/>
                        </a:rPr>
                        <a:t>Actividad social institucionaliza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873624"/>
                          </a:solidFill>
                          <a:latin typeface="Tahoma"/>
                          <a:ea typeface="Times New Roman"/>
                        </a:rPr>
                        <a:t>orienta a la producción, difusión y </a:t>
                      </a:r>
                      <a:r>
                        <a:rPr b="1" lang="es-ES_tradnl" sz="1500" spc="-1" strike="noStrike" u="sng">
                          <a:solidFill>
                            <a:srgbClr val="873624"/>
                          </a:solidFill>
                          <a:uFillTx/>
                          <a:latin typeface="Tahoma"/>
                          <a:ea typeface="Times New Roman"/>
                        </a:rPr>
                        <a:t>aplicación de conocimien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9" name="Text Box 28"/>
          <p:cNvSpPr/>
          <p:nvPr/>
        </p:nvSpPr>
        <p:spPr>
          <a:xfrm>
            <a:off x="1403280" y="6093000"/>
            <a:ext cx="651672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73624"/>
                </a:solidFill>
                <a:latin typeface="Arial"/>
              </a:rPr>
              <a:t>La ciencia como conjunto sistematizado del saber humano está conformada  por la teoría, el método y la técnica.</a:t>
            </a:r>
            <a:r>
              <a:rPr b="0" lang="es-ES" sz="1800" spc="-1" strike="noStrike">
                <a:solidFill>
                  <a:srgbClr val="87362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1 CuadroTexto"/>
          <p:cNvSpPr/>
          <p:nvPr/>
        </p:nvSpPr>
        <p:spPr>
          <a:xfrm>
            <a:off x="667440" y="357120"/>
            <a:ext cx="46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1" lang="es-ES" sz="4800" spc="-1" strike="noStrike">
                <a:solidFill>
                  <a:srgbClr val="d6862d"/>
                </a:solidFill>
                <a:latin typeface="Times New Roman"/>
              </a:rPr>
              <a:t>Cienc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2 CuadroTexto"/>
          <p:cNvSpPr/>
          <p:nvPr/>
        </p:nvSpPr>
        <p:spPr>
          <a:xfrm flipH="1">
            <a:off x="785880" y="1428840"/>
            <a:ext cx="7286400" cy="3141360"/>
          </a:xfrm>
          <a:prstGeom prst="rect">
            <a:avLst/>
          </a:prstGeom>
          <a:solidFill>
            <a:srgbClr val="fdfd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6862d"/>
                </a:solidFill>
                <a:latin typeface="Times New Roman"/>
              </a:rPr>
              <a:t>Es, ante todo producción, difusión y aplicación de conocimiento y ello la distingue y certifica en el sistema de la actividad human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3 CuadroTexto"/>
          <p:cNvSpPr/>
          <p:nvPr/>
        </p:nvSpPr>
        <p:spPr>
          <a:xfrm>
            <a:off x="214200" y="5572080"/>
            <a:ext cx="878688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Osvaldo N. Bebelagua. (2008) Ciencia  tecnología e innovación .CONCEPTOS E INTERRELACIONES. En Curso Taller  Gestión de la Innovación. Casa del Científico. Matanz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6 CuadroTexto"/>
          <p:cNvSpPr/>
          <p:nvPr/>
        </p:nvSpPr>
        <p:spPr>
          <a:xfrm>
            <a:off x="4214880" y="457200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3300"/>
                </a:solidFill>
                <a:latin typeface="Times New Roman"/>
              </a:rPr>
              <a:t>ver.: Presentación. 1Gestión inno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3300"/>
                </a:solidFill>
                <a:latin typeface="Times New Roman"/>
              </a:rPr>
              <a:t>                                       </a:t>
            </a:r>
            <a:r>
              <a:rPr b="1" lang="es-ES" sz="1600" spc="-1" strike="noStrike">
                <a:solidFill>
                  <a:srgbClr val="993300"/>
                </a:solidFill>
                <a:latin typeface="Times New Roman"/>
              </a:rPr>
              <a:t>Por: Osvaldo N. Bebelagua</a:t>
            </a:r>
            <a:r>
              <a:rPr b="1" lang="es-ES" sz="20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5 Marcador de número de diapositiva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9F79-1664-442E-8E6A-50E2A9A4E39B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837000" y="553320"/>
            <a:ext cx="7811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opósitos y objetivos sociales de la ci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187280" y="1557360"/>
            <a:ext cx="705672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iencia es un ingrediente en el mejoramiento material y espiritual de la v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iencia es una aspiración hum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iencia tiene una significativa influencia sobre la visión que el hombre tiene    del mundo y su papel en ese mismo mu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Oval 2"/>
          <p:cNvSpPr/>
          <p:nvPr/>
        </p:nvSpPr>
        <p:spPr>
          <a:xfrm>
            <a:off x="2556000" y="2492280"/>
            <a:ext cx="360036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3"/>
          <p:cNvSpPr/>
          <p:nvPr/>
        </p:nvSpPr>
        <p:spPr>
          <a:xfrm>
            <a:off x="2916360" y="2708280"/>
            <a:ext cx="2952720" cy="1225440"/>
          </a:xfrm>
          <a:prstGeom prst="ellipse">
            <a:avLst/>
          </a:prstGeom>
          <a:solidFill>
            <a:srgbClr val="895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3059280" y="306864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ENTÍF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5"/>
          <p:cNvSpPr/>
          <p:nvPr/>
        </p:nvSpPr>
        <p:spPr>
          <a:xfrm rot="2724000">
            <a:off x="1452240" y="21067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temá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6"/>
          <p:cNvSpPr/>
          <p:nvPr/>
        </p:nvSpPr>
        <p:spPr>
          <a:xfrm rot="21385200">
            <a:off x="1117440" y="291780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sicoló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"/>
          <p:cNvSpPr/>
          <p:nvPr/>
        </p:nvSpPr>
        <p:spPr>
          <a:xfrm rot="20736000">
            <a:off x="1260360" y="34999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losó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8"/>
          <p:cNvSpPr/>
          <p:nvPr/>
        </p:nvSpPr>
        <p:spPr>
          <a:xfrm rot="19741800">
            <a:off x="1333440" y="42922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cioló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9"/>
          <p:cNvSpPr/>
          <p:nvPr/>
        </p:nvSpPr>
        <p:spPr>
          <a:xfrm rot="18108600">
            <a:off x="4836960" y="17910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 rot="18017400">
            <a:off x="4511520" y="16192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í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1"/>
          <p:cNvSpPr/>
          <p:nvPr/>
        </p:nvSpPr>
        <p:spPr>
          <a:xfrm rot="14982600">
            <a:off x="3819960" y="55929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 rot="16524600">
            <a:off x="3011760" y="18226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urí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3"/>
          <p:cNvSpPr/>
          <p:nvPr/>
        </p:nvSpPr>
        <p:spPr>
          <a:xfrm rot="12635400">
            <a:off x="5868720" y="42904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ioló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4"/>
          <p:cNvSpPr/>
          <p:nvPr/>
        </p:nvSpPr>
        <p:spPr>
          <a:xfrm rot="13558800">
            <a:off x="5434920" y="45709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loló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5"/>
          <p:cNvSpPr/>
          <p:nvPr/>
        </p:nvSpPr>
        <p:spPr>
          <a:xfrm flipV="1" rot="3798000">
            <a:off x="5298840" y="47174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6"/>
          <p:cNvSpPr/>
          <p:nvPr/>
        </p:nvSpPr>
        <p:spPr>
          <a:xfrm rot="1393200">
            <a:off x="6084360" y="3933360"/>
            <a:ext cx="16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ográ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7"/>
          <p:cNvSpPr/>
          <p:nvPr/>
        </p:nvSpPr>
        <p:spPr>
          <a:xfrm>
            <a:off x="5580000" y="4797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8"/>
          <p:cNvSpPr/>
          <p:nvPr/>
        </p:nvSpPr>
        <p:spPr>
          <a:xfrm rot="16620000">
            <a:off x="3773880" y="16362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9"/>
          <p:cNvSpPr/>
          <p:nvPr/>
        </p:nvSpPr>
        <p:spPr>
          <a:xfrm flipV="1" rot="4088400">
            <a:off x="2333520" y="183780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é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0"/>
          <p:cNvSpPr/>
          <p:nvPr/>
        </p:nvSpPr>
        <p:spPr>
          <a:xfrm rot="19702200">
            <a:off x="5581440" y="1988280"/>
            <a:ext cx="2277720" cy="368280"/>
          </a:xfrm>
          <a:prstGeom prst="rect">
            <a:avLst/>
          </a:prstGeom>
          <a:solidFill>
            <a:srgbClr val="895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la Cultura Fí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1"/>
          <p:cNvSpPr/>
          <p:nvPr/>
        </p:nvSpPr>
        <p:spPr>
          <a:xfrm rot="14551800">
            <a:off x="4426920" y="51573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dagó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2"/>
          <p:cNvSpPr/>
          <p:nvPr/>
        </p:nvSpPr>
        <p:spPr>
          <a:xfrm>
            <a:off x="7020000" y="2205000"/>
            <a:ext cx="1873080" cy="134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eb535e"/>
                </a:solidFill>
                <a:uFillTx/>
                <a:latin typeface="Arial"/>
              </a:rPr>
              <a:t>De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Educación Fí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Cultura Física Terapéu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Recreación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23"/>
          <p:cNvSpPr/>
          <p:nvPr/>
        </p:nvSpPr>
        <p:spPr>
          <a:xfrm rot="20133600">
            <a:off x="7667280" y="907560"/>
            <a:ext cx="865080" cy="1224000"/>
          </a:xfrm>
          <a:custGeom>
            <a:avLst/>
            <a:gdLst>
              <a:gd name="textAreaLeft" fmla="*/ 115920 w 865080"/>
              <a:gd name="textAreaRight" fmla="*/ 749160 w 86508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b53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4"/>
          <p:cNvSpPr/>
          <p:nvPr/>
        </p:nvSpPr>
        <p:spPr>
          <a:xfrm>
            <a:off x="395280" y="333360"/>
            <a:ext cx="41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25"/>
          <p:cNvSpPr/>
          <p:nvPr/>
        </p:nvSpPr>
        <p:spPr>
          <a:xfrm>
            <a:off x="2655360" y="3860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</a:rPr>
              <a:t>Es única para todas las ciencias</a:t>
            </a: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26"/>
          <p:cNvSpPr/>
          <p:nvPr/>
        </p:nvSpPr>
        <p:spPr>
          <a:xfrm>
            <a:off x="-172440" y="219240"/>
            <a:ext cx="4548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cc9900"/>
                </a:solidFill>
                <a:latin typeface="Smudger LET"/>
              </a:rPr>
              <a:t>Reconocer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7"/>
          <p:cNvSpPr/>
          <p:nvPr/>
        </p:nvSpPr>
        <p:spPr>
          <a:xfrm>
            <a:off x="181080" y="5300640"/>
            <a:ext cx="3743280" cy="1069200"/>
          </a:xfrm>
          <a:prstGeom prst="rect">
            <a:avLst/>
          </a:prstGeom>
          <a:solidFill>
            <a:srgbClr val="895d1d"/>
          </a:solidFill>
          <a:ln w="57240">
            <a:solidFill>
              <a:srgbClr val="eb53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862d"/>
                </a:solidFill>
                <a:latin typeface="Arial"/>
              </a:rPr>
              <a:t>Porque  la ciencia es </a:t>
            </a:r>
            <a:r>
              <a:rPr b="1" lang="es-ES" sz="2800" spc="-1" strike="noStrike">
                <a:solidFill>
                  <a:srgbClr val="d6862d"/>
                </a:solidFill>
                <a:latin typeface="Arial"/>
              </a:rPr>
              <a:t>una</a:t>
            </a:r>
            <a:r>
              <a:rPr b="1" lang="es-ES" sz="1800" spc="-1" strike="noStrike">
                <a:solidFill>
                  <a:srgbClr val="d6862d"/>
                </a:solidFill>
                <a:latin typeface="Arial"/>
              </a:rPr>
              <a:t>,  la </a:t>
            </a:r>
            <a:r>
              <a:rPr b="1" lang="es-ES" sz="2400" spc="-1" strike="noStrike">
                <a:solidFill>
                  <a:srgbClr val="d6862d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d6862d"/>
                </a:solidFill>
                <a:latin typeface="Arial"/>
              </a:rPr>
              <a:t>iencia </a:t>
            </a:r>
            <a:r>
              <a:rPr b="1" lang="es-ES" sz="2400" spc="-1" strike="noStrike">
                <a:solidFill>
                  <a:srgbClr val="d6862d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d6862d"/>
                </a:solidFill>
                <a:latin typeface="Arial"/>
              </a:rPr>
              <a:t>umana</a:t>
            </a:r>
            <a:r>
              <a:rPr b="0" lang="es-ES" sz="3600" spc="-1" strike="noStrike">
                <a:solidFill>
                  <a:srgbClr val="d6862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28"/>
          <p:cNvSpPr/>
          <p:nvPr/>
        </p:nvSpPr>
        <p:spPr>
          <a:xfrm flipH="1">
            <a:off x="2484000" y="4292640"/>
            <a:ext cx="1150920" cy="865080"/>
          </a:xfrm>
          <a:prstGeom prst="line">
            <a:avLst/>
          </a:prstGeom>
          <a:ln w="76320">
            <a:solidFill>
              <a:srgbClr val="895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Oval 2"/>
          <p:cNvSpPr/>
          <p:nvPr/>
        </p:nvSpPr>
        <p:spPr>
          <a:xfrm>
            <a:off x="3348000" y="4724280"/>
            <a:ext cx="1873440" cy="86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3"/>
          <p:cNvSpPr/>
          <p:nvPr/>
        </p:nvSpPr>
        <p:spPr>
          <a:xfrm>
            <a:off x="1979640" y="2349360"/>
            <a:ext cx="4824360" cy="1295640"/>
          </a:xfrm>
          <a:prstGeom prst="ellipse">
            <a:avLst/>
          </a:prstGeom>
          <a:noFill/>
          <a:ln w="76320">
            <a:solidFill>
              <a:srgbClr val="895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4"/>
          <p:cNvSpPr/>
          <p:nvPr/>
        </p:nvSpPr>
        <p:spPr>
          <a:xfrm rot="919200">
            <a:off x="6876720" y="2494080"/>
            <a:ext cx="1440000" cy="1439640"/>
          </a:xfrm>
          <a:prstGeom prst="irregularSeal1">
            <a:avLst/>
          </a:prstGeom>
          <a:solidFill>
            <a:srgbClr val="8736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2340000" y="2707560"/>
            <a:ext cx="42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95d1d"/>
                </a:solidFill>
                <a:latin typeface="Arial"/>
              </a:rPr>
              <a:t>Funciones de la 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3203640" y="4296600"/>
            <a:ext cx="2158920" cy="368280"/>
          </a:xfrm>
          <a:prstGeom prst="rect">
            <a:avLst/>
          </a:prstGeom>
          <a:solidFill>
            <a:srgbClr val="eb53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d6862d"/>
                </a:solidFill>
                <a:uFillTx/>
                <a:latin typeface="Arial"/>
              </a:rPr>
              <a:t>TRANSFOR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699560" y="1268280"/>
            <a:ext cx="1436400" cy="368280"/>
          </a:xfrm>
          <a:prstGeom prst="rect">
            <a:avLst/>
          </a:prstGeom>
          <a:solidFill>
            <a:srgbClr val="94fe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DESCRIB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5658120" y="1341360"/>
            <a:ext cx="1335960" cy="368280"/>
          </a:xfrm>
          <a:prstGeom prst="rect">
            <a:avLst/>
          </a:prstGeom>
          <a:solidFill>
            <a:srgbClr val="94fe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0080"/>
                </a:solidFill>
                <a:latin typeface="Arial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2340000" y="162864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0"/>
          <p:cNvSpPr/>
          <p:nvPr/>
        </p:nvSpPr>
        <p:spPr>
          <a:xfrm flipV="1">
            <a:off x="558000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1"/>
          <p:cNvSpPr/>
          <p:nvPr/>
        </p:nvSpPr>
        <p:spPr>
          <a:xfrm>
            <a:off x="4211640" y="371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3421440" y="508464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9900"/>
                </a:solidFill>
                <a:latin typeface="Arial"/>
              </a:rPr>
              <a:t>LA REALIDAD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13"/>
          <p:cNvSpPr/>
          <p:nvPr/>
        </p:nvSpPr>
        <p:spPr>
          <a:xfrm flipV="1">
            <a:off x="5292720" y="3573000"/>
            <a:ext cx="158436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4"/>
          <p:cNvSpPr/>
          <p:nvPr/>
        </p:nvSpPr>
        <p:spPr>
          <a:xfrm rot="19307400">
            <a:off x="7168680" y="2853000"/>
            <a:ext cx="840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Arial"/>
              </a:rPr>
              <a:t>U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-727920" y="0"/>
            <a:ext cx="493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cc9900"/>
                </a:solidFill>
                <a:latin typeface="Smudger LET"/>
              </a:rPr>
              <a:t>Comprende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6"/>
          <p:cNvSpPr/>
          <p:nvPr/>
        </p:nvSpPr>
        <p:spPr>
          <a:xfrm rot="19785000">
            <a:off x="5404680" y="4069440"/>
            <a:ext cx="19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mudger LET"/>
              </a:rPr>
              <a:t>Deporte  y   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mudger LET"/>
              </a:rPr>
              <a:t>Educación Fís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7"/>
          <p:cNvSpPr/>
          <p:nvPr/>
        </p:nvSpPr>
        <p:spPr>
          <a:xfrm>
            <a:off x="324000" y="1700280"/>
            <a:ext cx="172692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e aplican métodos y técnicas para recopilar datos, hechos y establecer generalizaciones empír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7020000" y="260280"/>
            <a:ext cx="212400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fleja, mediante generalizaciones teóricas, las propiedades y regularidades de los fenóme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9"/>
          <p:cNvSpPr/>
          <p:nvPr/>
        </p:nvSpPr>
        <p:spPr>
          <a:xfrm>
            <a:off x="250920" y="5734080"/>
            <a:ext cx="8280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termina y justifica la existencia y desarrollo de la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encia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o forma especial de adquirir nuevos cono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2000" fill="hold"/>
                                        <p:tgtEl>
                                          <p:spTgt spid="5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14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3"/>
          <p:cNvGrpSpPr/>
          <p:nvPr/>
        </p:nvGrpSpPr>
        <p:grpSpPr>
          <a:xfrm>
            <a:off x="71280" y="0"/>
            <a:ext cx="9396720" cy="7461360"/>
            <a:chOff x="71280" y="0"/>
            <a:chExt cx="9396720" cy="7461360"/>
          </a:xfrm>
        </p:grpSpPr>
        <p:sp>
          <p:nvSpPr>
            <p:cNvPr id="584" name="AutoShape 4"/>
            <p:cNvSpPr/>
            <p:nvPr/>
          </p:nvSpPr>
          <p:spPr>
            <a:xfrm>
              <a:off x="71280" y="0"/>
              <a:ext cx="9396720" cy="74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"/>
            <p:cNvSpPr/>
            <p:nvPr/>
          </p:nvSpPr>
          <p:spPr>
            <a:xfrm>
              <a:off x="71280" y="0"/>
              <a:ext cx="9381960" cy="72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6"/>
            <p:cNvSpPr/>
            <p:nvPr/>
          </p:nvSpPr>
          <p:spPr>
            <a:xfrm>
              <a:off x="2106720" y="904320"/>
              <a:ext cx="5168880" cy="1130040"/>
            </a:xfrm>
            <a:prstGeom prst="rect">
              <a:avLst/>
            </a:prstGeom>
            <a:solidFill>
              <a:srgbClr val="fda1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1" lang="es-ES" sz="2000" spc="-1" strike="noStrike">
                  <a:solidFill>
                    <a:srgbClr val="0000cc"/>
                  </a:solidFill>
                  <a:latin typeface="Arial"/>
                  <a:ea typeface="Times New Roman"/>
                </a:rPr>
                <a:t>FACTORES QUE</a:t>
              </a:r>
              <a:r>
                <a:rPr b="1" lang="es-ES" sz="900" spc="-1" strike="noStrike">
                  <a:solidFill>
                    <a:srgbClr val="0000cc"/>
                  </a:solidFill>
                  <a:latin typeface="Arial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cc"/>
                  </a:solidFill>
                  <a:latin typeface="Arial"/>
                  <a:ea typeface="Times New Roman"/>
                </a:rPr>
                <a:t>DETERMINAN EL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cc"/>
                  </a:solidFill>
                  <a:latin typeface="Arial"/>
                  <a:ea typeface="Times New Roman"/>
                </a:rPr>
                <a:t>            </a:t>
              </a:r>
              <a:r>
                <a:rPr b="1" lang="es-ES" sz="1800" spc="-1" strike="noStrike">
                  <a:solidFill>
                    <a:srgbClr val="0000cc"/>
                  </a:solidFill>
                  <a:latin typeface="Arial"/>
                  <a:ea typeface="Times New Roman"/>
                </a:rPr>
                <a:t>DESARROLLO DE LA  CI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Text Box 7"/>
            <p:cNvSpPr/>
            <p:nvPr/>
          </p:nvSpPr>
          <p:spPr>
            <a:xfrm>
              <a:off x="2675880" y="2278440"/>
              <a:ext cx="1425960" cy="679320"/>
            </a:xfrm>
            <a:prstGeom prst="rect">
              <a:avLst/>
            </a:prstGeom>
            <a:solidFill>
              <a:srgbClr val="fda1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cc"/>
                  </a:solidFill>
                  <a:latin typeface="Arial"/>
                  <a:ea typeface="Times New Roman"/>
                </a:rPr>
                <a:t>OBJETIV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8"/>
            <p:cNvSpPr/>
            <p:nvPr/>
          </p:nvSpPr>
          <p:spPr>
            <a:xfrm>
              <a:off x="2580120" y="3182760"/>
              <a:ext cx="1781280" cy="1130400"/>
            </a:xfrm>
            <a:prstGeom prst="rect">
              <a:avLst/>
            </a:prstGeom>
            <a:solidFill>
              <a:srgbClr val="fda1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Demanda tecnológica</a:t>
              </a:r>
              <a:r>
                <a:rPr b="1" lang="es-ES" sz="10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de</a:t>
              </a:r>
              <a:r>
                <a:rPr b="1" lang="es-ES" sz="10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la socie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9"/>
            <p:cNvSpPr/>
            <p:nvPr/>
          </p:nvSpPr>
          <p:spPr>
            <a:xfrm>
              <a:off x="442440" y="2956680"/>
              <a:ext cx="1781280" cy="2486880"/>
            </a:xfrm>
            <a:prstGeom prst="rect">
              <a:avLst/>
            </a:prstGeom>
            <a:solidFill>
              <a:srgbClr val="fda1a3"/>
            </a:solid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Económ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Política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Sociales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Cultura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Educacionales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 u="sng">
                  <a:solidFill>
                    <a:srgbClr val="d6862d"/>
                  </a:solidFill>
                  <a:uFillTx/>
                  <a:latin typeface="Arial"/>
                  <a:ea typeface="Times New Roman"/>
                </a:rPr>
                <a:t>Deportiv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10"/>
            <p:cNvSpPr/>
            <p:nvPr/>
          </p:nvSpPr>
          <p:spPr>
            <a:xfrm flipH="1" flipV="1">
              <a:off x="2223360" y="2956680"/>
              <a:ext cx="356040" cy="2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1"/>
            <p:cNvSpPr/>
            <p:nvPr/>
          </p:nvSpPr>
          <p:spPr>
            <a:xfrm>
              <a:off x="2580120" y="4313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2"/>
            <p:cNvSpPr/>
            <p:nvPr/>
          </p:nvSpPr>
          <p:spPr>
            <a:xfrm flipH="1">
              <a:off x="2223360" y="4313520"/>
              <a:ext cx="356040" cy="11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3"/>
            <p:cNvSpPr/>
            <p:nvPr/>
          </p:nvSpPr>
          <p:spPr>
            <a:xfrm>
              <a:off x="3530160" y="2052360"/>
              <a:ext cx="0" cy="2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4"/>
            <p:cNvSpPr/>
            <p:nvPr/>
          </p:nvSpPr>
          <p:spPr>
            <a:xfrm>
              <a:off x="3530160" y="2956680"/>
              <a:ext cx="0" cy="2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15"/>
            <p:cNvSpPr/>
            <p:nvPr/>
          </p:nvSpPr>
          <p:spPr>
            <a:xfrm>
              <a:off x="4360320" y="2278440"/>
              <a:ext cx="1544400" cy="679320"/>
            </a:xfrm>
            <a:prstGeom prst="rect">
              <a:avLst/>
            </a:prstGeom>
            <a:solidFill>
              <a:srgbClr val="fda1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cc"/>
                  </a:solidFill>
                  <a:latin typeface="Arial"/>
                  <a:ea typeface="Times New Roman"/>
                </a:rPr>
                <a:t>S</a:t>
              </a:r>
              <a:r>
                <a:rPr b="1" lang="es-ES" sz="1600" spc="-1" strike="noStrike">
                  <a:solidFill>
                    <a:srgbClr val="0000cc"/>
                  </a:solidFill>
                  <a:latin typeface="Arial"/>
                  <a:ea typeface="Times New Roman"/>
                </a:rPr>
                <a:t>UBJETIV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16"/>
            <p:cNvSpPr/>
            <p:nvPr/>
          </p:nvSpPr>
          <p:spPr>
            <a:xfrm>
              <a:off x="5073840" y="2052360"/>
              <a:ext cx="0" cy="2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17"/>
            <p:cNvSpPr/>
            <p:nvPr/>
          </p:nvSpPr>
          <p:spPr>
            <a:xfrm>
              <a:off x="6736320" y="2956680"/>
              <a:ext cx="1424880" cy="1808640"/>
            </a:xfrm>
            <a:prstGeom prst="rect">
              <a:avLst/>
            </a:prstGeom>
            <a:solidFill>
              <a:srgbClr val="fda1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Reflexiv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Crítico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Objetivo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Estudioso</a:t>
              </a:r>
              <a:r>
                <a:rPr b="1" lang="es-ES" sz="16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18"/>
            <p:cNvSpPr/>
            <p:nvPr/>
          </p:nvSpPr>
          <p:spPr>
            <a:xfrm>
              <a:off x="4479840" y="3182760"/>
              <a:ext cx="2138760" cy="1130400"/>
            </a:xfrm>
            <a:prstGeom prst="rect">
              <a:avLst/>
            </a:prstGeom>
            <a:solidFill>
              <a:srgbClr val="fda1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Cualidades pers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de los hombres</a:t>
              </a:r>
              <a:r>
                <a:rPr b="1" lang="es-ES" sz="12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 que </a:t>
              </a:r>
              <a:r>
                <a:rPr b="1" lang="es-ES" sz="12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dedican a la ci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9"/>
            <p:cNvSpPr/>
            <p:nvPr/>
          </p:nvSpPr>
          <p:spPr>
            <a:xfrm>
              <a:off x="5073840" y="2956680"/>
              <a:ext cx="0" cy="2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0"/>
            <p:cNvSpPr/>
            <p:nvPr/>
          </p:nvSpPr>
          <p:spPr>
            <a:xfrm>
              <a:off x="6617880" y="4313520"/>
              <a:ext cx="118440" cy="45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21"/>
            <p:cNvSpPr/>
            <p:nvPr/>
          </p:nvSpPr>
          <p:spPr>
            <a:xfrm flipV="1">
              <a:off x="6617880" y="2956680"/>
              <a:ext cx="118440" cy="2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Text Box 22"/>
            <p:cNvSpPr/>
            <p:nvPr/>
          </p:nvSpPr>
          <p:spPr>
            <a:xfrm>
              <a:off x="1154880" y="5670000"/>
              <a:ext cx="8075520" cy="45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478440" y="838080"/>
            <a:ext cx="81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máticas objeto de investigación en el De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2516040" y="2971800"/>
            <a:ext cx="421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seguramiento cient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paración del deport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4"/>
          <p:cNvSpPr/>
          <p:nvPr/>
        </p:nvSpPr>
        <p:spPr>
          <a:xfrm>
            <a:off x="1828800" y="2438280"/>
            <a:ext cx="5181480" cy="2438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5"/>
          <p:cNvSpPr/>
          <p:nvPr/>
        </p:nvSpPr>
        <p:spPr>
          <a:xfrm>
            <a:off x="4419720" y="2057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3873600" y="1698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7391520" y="3276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Ini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7086600" y="3581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0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5257800" y="495288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2819520" y="46483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981440" y="49528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Ejecu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4"/>
          <p:cNvSpPr/>
          <p:nvPr/>
        </p:nvSpPr>
        <p:spPr>
          <a:xfrm>
            <a:off x="1447920" y="37339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72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2238120" y="556272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Las ciencias aplicadas al de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8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2741400" y="617220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ctividades curr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21"/>
          <p:cNvSpPr/>
          <p:nvPr/>
        </p:nvSpPr>
        <p:spPr>
          <a:xfrm>
            <a:off x="4419720" y="59436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0" name="AutoShape 22"/>
          <p:cNvCxnSpPr>
            <a:stCxn id="607" idx="3"/>
            <a:endCxn id="608" idx="0"/>
          </p:cNvCxnSpPr>
          <p:nvPr/>
        </p:nvCxnSpPr>
        <p:spPr>
          <a:xfrm>
            <a:off x="5257440" y="1926720"/>
            <a:ext cx="3010680" cy="1350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AutoShape 23"/>
          <p:cNvCxnSpPr>
            <a:stCxn id="607" idx="1"/>
          </p:cNvCxnSpPr>
          <p:nvPr/>
        </p:nvCxnSpPr>
        <p:spPr>
          <a:xfrm flipV="1" rot="10800000">
            <a:off x="1205640" y="1926720"/>
            <a:ext cx="2667960" cy="1426320"/>
          </a:xfrm>
          <a:prstGeom prst="bent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AutoShape 24"/>
          <p:cNvCxnSpPr>
            <a:endCxn id="613" idx="1"/>
          </p:cNvCxnSpPr>
          <p:nvPr/>
        </p:nvCxnSpPr>
        <p:spPr>
          <a:xfrm flipH="1" rot="16200000">
            <a:off x="914400" y="4114440"/>
            <a:ext cx="129600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AutoShape 25"/>
          <p:cNvCxnSpPr>
            <a:stCxn id="608" idx="2"/>
            <a:endCxn id="611" idx="3"/>
          </p:cNvCxnSpPr>
          <p:nvPr/>
        </p:nvCxnSpPr>
        <p:spPr>
          <a:xfrm rot="5400000">
            <a:off x="7036200" y="3950280"/>
            <a:ext cx="1448280" cy="10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4" name="Line 27"/>
          <p:cNvSpPr/>
          <p:nvPr/>
        </p:nvSpPr>
        <p:spPr>
          <a:xfrm>
            <a:off x="4038480" y="5257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8"/>
          <p:cNvSpPr/>
          <p:nvPr/>
        </p:nvSpPr>
        <p:spPr>
          <a:xfrm>
            <a:off x="4419720" y="53341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Object 69"/>
          <p:cNvGraphicFramePr/>
          <p:nvPr/>
        </p:nvGraphicFramePr>
        <p:xfrm>
          <a:off x="974880" y="987480"/>
          <a:ext cx="7645320" cy="51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7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987480"/>
                    <a:ext cx="764532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1 CuadroTexto"/>
          <p:cNvSpPr/>
          <p:nvPr/>
        </p:nvSpPr>
        <p:spPr>
          <a:xfrm>
            <a:off x="1203480" y="260280"/>
            <a:ext cx="67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máticas objeto de investigación científica  en la Educación Fí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Text Box 2"/>
          <p:cNvGrpSpPr/>
          <p:nvPr/>
        </p:nvGrpSpPr>
        <p:grpSpPr>
          <a:xfrm>
            <a:off x="2212920" y="152280"/>
            <a:ext cx="3718080" cy="755640"/>
            <a:chOff x="2212920" y="152280"/>
            <a:chExt cx="3718080" cy="755640"/>
          </a:xfrm>
        </p:grpSpPr>
        <p:pic>
          <p:nvPicPr>
            <p:cNvPr id="476" name="Text Box 2" descr=""/>
            <p:cNvPicPr/>
            <p:nvPr/>
          </p:nvPicPr>
          <p:blipFill>
            <a:blip r:embed="rId1"/>
            <a:stretch/>
          </p:blipFill>
          <p:spPr>
            <a:xfrm>
              <a:off x="2212920" y="152280"/>
              <a:ext cx="3718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362320" y="22860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Un comentario necesa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Text Box 4"/>
          <p:cNvSpPr/>
          <p:nvPr/>
        </p:nvSpPr>
        <p:spPr>
          <a:xfrm>
            <a:off x="2502000" y="1066680"/>
            <a:ext cx="3573000" cy="459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investigación cient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26" descr=""/>
          <p:cNvPicPr/>
          <p:nvPr/>
        </p:nvPicPr>
        <p:blipFill>
          <a:blip r:embed="rId2"/>
          <a:stretch/>
        </p:blipFill>
        <p:spPr>
          <a:xfrm>
            <a:off x="2971800" y="3581280"/>
            <a:ext cx="2895480" cy="221004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27"/>
          <p:cNvSpPr/>
          <p:nvPr/>
        </p:nvSpPr>
        <p:spPr>
          <a:xfrm>
            <a:off x="3586680" y="1844640"/>
            <a:ext cx="3942000" cy="459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érmino que cuele provoc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8"/>
          <p:cNvSpPr/>
          <p:nvPr/>
        </p:nvSpPr>
        <p:spPr>
          <a:xfrm rot="1359000">
            <a:off x="955800" y="3828960"/>
            <a:ext cx="215424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ceptic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29"/>
          <p:cNvSpPr/>
          <p:nvPr/>
        </p:nvSpPr>
        <p:spPr>
          <a:xfrm rot="20187000">
            <a:off x="3902760" y="2835000"/>
            <a:ext cx="174420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nf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30"/>
          <p:cNvSpPr/>
          <p:nvPr/>
        </p:nvSpPr>
        <p:spPr>
          <a:xfrm rot="1336800">
            <a:off x="5659920" y="4450320"/>
            <a:ext cx="266652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 veces molest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31"/>
          <p:cNvSpPr/>
          <p:nvPr/>
        </p:nvSpPr>
        <p:spPr>
          <a:xfrm>
            <a:off x="1547640" y="5877000"/>
            <a:ext cx="180036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entíf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32"/>
          <p:cNvSpPr/>
          <p:nvPr/>
        </p:nvSpPr>
        <p:spPr>
          <a:xfrm>
            <a:off x="4433400" y="5950080"/>
            <a:ext cx="1113480" cy="459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33"/>
          <p:cNvSpPr/>
          <p:nvPr/>
        </p:nvSpPr>
        <p:spPr>
          <a:xfrm>
            <a:off x="3419640" y="6308640"/>
            <a:ext cx="79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1"/>
          <p:cNvGrpSpPr/>
          <p:nvPr/>
        </p:nvGrpSpPr>
        <p:grpSpPr>
          <a:xfrm>
            <a:off x="755640" y="571680"/>
            <a:ext cx="7602120" cy="5571720"/>
            <a:chOff x="755640" y="571680"/>
            <a:chExt cx="7602120" cy="5571720"/>
          </a:xfrm>
        </p:grpSpPr>
        <p:sp>
          <p:nvSpPr>
            <p:cNvPr id="631" name="AutoShape 22"/>
            <p:cNvSpPr/>
            <p:nvPr/>
          </p:nvSpPr>
          <p:spPr>
            <a:xfrm>
              <a:off x="2271240" y="1342440"/>
              <a:ext cx="6086520" cy="48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Oval 21"/>
            <p:cNvSpPr/>
            <p:nvPr/>
          </p:nvSpPr>
          <p:spPr>
            <a:xfrm>
              <a:off x="2710080" y="1956960"/>
              <a:ext cx="2652480" cy="1132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eguramiento científ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  la  Recreaci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20"/>
            <p:cNvSpPr/>
            <p:nvPr/>
          </p:nvSpPr>
          <p:spPr>
            <a:xfrm>
              <a:off x="3178440" y="1201320"/>
              <a:ext cx="1950840" cy="37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stema de Recreaci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19"/>
            <p:cNvSpPr/>
            <p:nvPr/>
          </p:nvSpPr>
          <p:spPr>
            <a:xfrm>
              <a:off x="5441040" y="2334600"/>
              <a:ext cx="1172160" cy="37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18"/>
            <p:cNvSpPr/>
            <p:nvPr/>
          </p:nvSpPr>
          <p:spPr>
            <a:xfrm>
              <a:off x="1696320" y="3341880"/>
              <a:ext cx="935640" cy="37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n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7"/>
            <p:cNvSpPr/>
            <p:nvPr/>
          </p:nvSpPr>
          <p:spPr>
            <a:xfrm>
              <a:off x="1539720" y="2334600"/>
              <a:ext cx="935640" cy="37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arrollo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16"/>
            <p:cNvSpPr/>
            <p:nvPr/>
          </p:nvSpPr>
          <p:spPr>
            <a:xfrm>
              <a:off x="5051160" y="3215880"/>
              <a:ext cx="1638720" cy="37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usto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preferencia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 Box 15"/>
            <p:cNvSpPr/>
            <p:nvPr/>
          </p:nvSpPr>
          <p:spPr>
            <a:xfrm>
              <a:off x="3490560" y="3341880"/>
              <a:ext cx="1013760" cy="37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ces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4"/>
            <p:cNvSpPr/>
            <p:nvPr/>
          </p:nvSpPr>
          <p:spPr>
            <a:xfrm>
              <a:off x="4114800" y="157896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3"/>
            <p:cNvSpPr/>
            <p:nvPr/>
          </p:nvSpPr>
          <p:spPr>
            <a:xfrm>
              <a:off x="5051160" y="1452960"/>
              <a:ext cx="1014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2"/>
            <p:cNvSpPr/>
            <p:nvPr/>
          </p:nvSpPr>
          <p:spPr>
            <a:xfrm>
              <a:off x="6066000" y="1452960"/>
              <a:ext cx="360" cy="8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"/>
            <p:cNvSpPr/>
            <p:nvPr/>
          </p:nvSpPr>
          <p:spPr>
            <a:xfrm>
              <a:off x="6066000" y="2712240"/>
              <a:ext cx="360" cy="5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Text Box 10"/>
            <p:cNvSpPr/>
            <p:nvPr/>
          </p:nvSpPr>
          <p:spPr>
            <a:xfrm>
              <a:off x="3178440" y="4097520"/>
              <a:ext cx="1794600" cy="37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mació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fes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4036680" y="3089880"/>
              <a:ext cx="0" cy="2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8"/>
            <p:cNvSpPr/>
            <p:nvPr/>
          </p:nvSpPr>
          <p:spPr>
            <a:xfrm>
              <a:off x="4036320" y="3719520"/>
              <a:ext cx="36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7"/>
            <p:cNvSpPr/>
            <p:nvPr/>
          </p:nvSpPr>
          <p:spPr>
            <a:xfrm flipH="1">
              <a:off x="4504680" y="346788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6"/>
            <p:cNvSpPr/>
            <p:nvPr/>
          </p:nvSpPr>
          <p:spPr>
            <a:xfrm>
              <a:off x="2632320" y="3467880"/>
              <a:ext cx="85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5"/>
            <p:cNvSpPr/>
            <p:nvPr/>
          </p:nvSpPr>
          <p:spPr>
            <a:xfrm flipV="1">
              <a:off x="1929960" y="2711880"/>
              <a:ext cx="360" cy="62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4"/>
            <p:cNvSpPr/>
            <p:nvPr/>
          </p:nvSpPr>
          <p:spPr>
            <a:xfrm flipV="1">
              <a:off x="1929960" y="1452960"/>
              <a:ext cx="360" cy="8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3"/>
            <p:cNvSpPr/>
            <p:nvPr/>
          </p:nvSpPr>
          <p:spPr>
            <a:xfrm>
              <a:off x="1929960" y="1452240"/>
              <a:ext cx="1170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2"/>
            <p:cNvSpPr/>
            <p:nvPr/>
          </p:nvSpPr>
          <p:spPr>
            <a:xfrm>
              <a:off x="755640" y="571680"/>
              <a:ext cx="7345080" cy="53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máticas objeto de  la investigación científica en  la  Recre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1"/>
          <p:cNvGrpSpPr/>
          <p:nvPr/>
        </p:nvGrpSpPr>
        <p:grpSpPr>
          <a:xfrm>
            <a:off x="611280" y="714240"/>
            <a:ext cx="7889760" cy="5500440"/>
            <a:chOff x="611280" y="714240"/>
            <a:chExt cx="7889760" cy="5500440"/>
          </a:xfrm>
        </p:grpSpPr>
        <p:sp>
          <p:nvSpPr>
            <p:cNvPr id="654" name="AutoShape 25"/>
            <p:cNvSpPr/>
            <p:nvPr/>
          </p:nvSpPr>
          <p:spPr>
            <a:xfrm>
              <a:off x="1447200" y="2017080"/>
              <a:ext cx="7053840" cy="41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Oval 24"/>
            <p:cNvSpPr/>
            <p:nvPr/>
          </p:nvSpPr>
          <p:spPr>
            <a:xfrm>
              <a:off x="2621520" y="2203920"/>
              <a:ext cx="2837160" cy="121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eguramiento científ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  la Cultura Física Terapéut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23"/>
            <p:cNvSpPr/>
            <p:nvPr/>
          </p:nvSpPr>
          <p:spPr>
            <a:xfrm>
              <a:off x="5543280" y="1797480"/>
              <a:ext cx="2170080" cy="54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vención y rehabili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 enferme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5626800" y="2474640"/>
              <a:ext cx="2086560" cy="40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ucación Física Especi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21"/>
            <p:cNvSpPr/>
            <p:nvPr/>
          </p:nvSpPr>
          <p:spPr>
            <a:xfrm>
              <a:off x="3456000" y="1255680"/>
              <a:ext cx="1502280" cy="40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gramaci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20"/>
            <p:cNvSpPr/>
            <p:nvPr/>
          </p:nvSpPr>
          <p:spPr>
            <a:xfrm>
              <a:off x="1118880" y="2610000"/>
              <a:ext cx="1000800" cy="40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arrollo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19"/>
            <p:cNvSpPr/>
            <p:nvPr/>
          </p:nvSpPr>
          <p:spPr>
            <a:xfrm>
              <a:off x="5543280" y="3016080"/>
              <a:ext cx="2253600" cy="54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ucación  Física Adaptad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18"/>
            <p:cNvSpPr/>
            <p:nvPr/>
          </p:nvSpPr>
          <p:spPr>
            <a:xfrm>
              <a:off x="3205800" y="3963960"/>
              <a:ext cx="1919880" cy="40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mació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fes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Text Box 17"/>
            <p:cNvSpPr/>
            <p:nvPr/>
          </p:nvSpPr>
          <p:spPr>
            <a:xfrm>
              <a:off x="5877000" y="3693240"/>
              <a:ext cx="1585800" cy="40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porte Adapt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6"/>
            <p:cNvSpPr/>
            <p:nvPr/>
          </p:nvSpPr>
          <p:spPr>
            <a:xfrm>
              <a:off x="4206600" y="1662120"/>
              <a:ext cx="72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5"/>
            <p:cNvSpPr/>
            <p:nvPr/>
          </p:nvSpPr>
          <p:spPr>
            <a:xfrm>
              <a:off x="4958640" y="1391040"/>
              <a:ext cx="166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4"/>
            <p:cNvSpPr/>
            <p:nvPr/>
          </p:nvSpPr>
          <p:spPr>
            <a:xfrm>
              <a:off x="6628320" y="1391040"/>
              <a:ext cx="36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13"/>
            <p:cNvSpPr/>
            <p:nvPr/>
          </p:nvSpPr>
          <p:spPr>
            <a:xfrm>
              <a:off x="6628320" y="2338920"/>
              <a:ext cx="360" cy="1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12"/>
            <p:cNvSpPr/>
            <p:nvPr/>
          </p:nvSpPr>
          <p:spPr>
            <a:xfrm>
              <a:off x="6628320" y="2880720"/>
              <a:ext cx="360" cy="1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1"/>
            <p:cNvSpPr/>
            <p:nvPr/>
          </p:nvSpPr>
          <p:spPr>
            <a:xfrm>
              <a:off x="6628320" y="3557880"/>
              <a:ext cx="360" cy="1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0"/>
            <p:cNvSpPr/>
            <p:nvPr/>
          </p:nvSpPr>
          <p:spPr>
            <a:xfrm>
              <a:off x="6628320" y="4099680"/>
              <a:ext cx="36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9"/>
            <p:cNvSpPr/>
            <p:nvPr/>
          </p:nvSpPr>
          <p:spPr>
            <a:xfrm flipH="1">
              <a:off x="4040640" y="4505760"/>
              <a:ext cx="25876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 flipV="1">
              <a:off x="4040640" y="4370040"/>
              <a:ext cx="36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7"/>
            <p:cNvSpPr/>
            <p:nvPr/>
          </p:nvSpPr>
          <p:spPr>
            <a:xfrm>
              <a:off x="4040640" y="3422520"/>
              <a:ext cx="3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6"/>
            <p:cNvSpPr/>
            <p:nvPr/>
          </p:nvSpPr>
          <p:spPr>
            <a:xfrm flipH="1">
              <a:off x="1619280" y="4235040"/>
              <a:ext cx="15858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 flipV="1">
              <a:off x="1619640" y="3015720"/>
              <a:ext cx="36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4"/>
            <p:cNvSpPr/>
            <p:nvPr/>
          </p:nvSpPr>
          <p:spPr>
            <a:xfrm flipV="1">
              <a:off x="1619640" y="1390680"/>
              <a:ext cx="36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3"/>
            <p:cNvSpPr/>
            <p:nvPr/>
          </p:nvSpPr>
          <p:spPr>
            <a:xfrm>
              <a:off x="1619640" y="1391040"/>
              <a:ext cx="1836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2"/>
            <p:cNvSpPr/>
            <p:nvPr/>
          </p:nvSpPr>
          <p:spPr>
            <a:xfrm>
              <a:off x="611280" y="714240"/>
              <a:ext cx="7889760" cy="27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d6862d"/>
                  </a:solidFill>
                  <a:latin typeface="Arial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máticas objeto de investigación científica en la Cultura Física Profiláctica y Terapéut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879480" y="241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971640" y="1341360"/>
            <a:ext cx="78120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l camino de la ciencia se recorre paso a paso,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seño de la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investigación científica aplicada al deporte ha de sustentarse en la lógica interna de la investigación a partir de la demanda tecnológica existente y  la transformación, será siempre su principio básico.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3"/>
          <p:cNvSpPr/>
          <p:nvPr/>
        </p:nvSpPr>
        <p:spPr>
          <a:xfrm>
            <a:off x="3170520" y="2714760"/>
            <a:ext cx="316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ahoma"/>
              </a:rPr>
              <a:t>GRACI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26920" y="40464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AutoShape 2"/>
          <p:cNvSpPr/>
          <p:nvPr/>
        </p:nvSpPr>
        <p:spPr>
          <a:xfrm>
            <a:off x="76320" y="457200"/>
            <a:ext cx="8762760" cy="3505320"/>
          </a:xfrm>
          <a:prstGeom prst="cloudCallout">
            <a:avLst>
              <a:gd name="adj1" fmla="val -31740"/>
              <a:gd name="adj2" fmla="val 72509"/>
            </a:avLst>
          </a:prstGeom>
          <a:solidFill>
            <a:srgbClr val="895d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ece9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ce9c6"/>
                </a:solidFill>
                <a:latin typeface="Times New Roman"/>
              </a:rPr>
              <a:t>No tiene relación con la realidad cotidi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ce9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ce9c6"/>
                </a:solidFill>
                <a:latin typeface="Times New Roman"/>
              </a:rPr>
              <a:t>Es solo para centros muy especializados e instit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ce9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ce9c6"/>
                </a:solidFill>
                <a:latin typeface="Times New Roman"/>
              </a:rPr>
              <a:t>Es propia de personas de edad avan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ce9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ce9c6"/>
                </a:solidFill>
                <a:latin typeface="Times New Roman"/>
              </a:rPr>
              <a:t>Algo compli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ece9c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ce9c6"/>
                </a:solidFill>
                <a:latin typeface="Times New Roman"/>
              </a:rPr>
              <a:t>Muy difícil de aplicar y requiere un tal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ce9c6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ece9c6"/>
                </a:solidFill>
                <a:latin typeface="Times New Roman"/>
              </a:rPr>
              <a:t>espe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3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3733920" cy="205740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4"/>
          <p:cNvSpPr/>
          <p:nvPr/>
        </p:nvSpPr>
        <p:spPr>
          <a:xfrm rot="20461800">
            <a:off x="4342320" y="4419360"/>
            <a:ext cx="45241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NO ES NADA DE 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845640" y="968400"/>
            <a:ext cx="815724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lugar tiene que ver con la REALID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1258920" y="1695600"/>
            <a:ext cx="6924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Con las relaciones interpers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l matrimo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 viol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 tele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s enferme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s elecciones presid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s relaciones hum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 manera de vestir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 fam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75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377640" y="914400"/>
            <a:ext cx="87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dos los seres humanos hacemos investigaciones frecuent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369720" y="1676520"/>
            <a:ext cx="8774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 investigación científica es esencialmente como cualquier tipo de Investigación, sólo que más rigurosa y cuidadosamente realiz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 sistemática, controlada, empírica y crítica de proposiciones hipóteticas sobre las determinadas relaciones entre fenómenos naturales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Kerlinger, 197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mado de Hernández Sampieri Roberto. Mexico.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3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459360" y="68580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STEMÁTICA Y CONTRO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4415760" y="609480"/>
            <a:ext cx="4368600" cy="825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mplica discipina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o deja los hechos a la casu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610920" y="16765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MPÍRIC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2060280" y="1600200"/>
            <a:ext cx="7090560" cy="459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orque se basa en fenómenos observables de la rea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459000" y="266688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ÍTIC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304360" y="2590920"/>
            <a:ext cx="5600160" cy="825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juzga constantemente de manera obje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eliminan las preferencia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591840" y="3699000"/>
            <a:ext cx="83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 investigación puede cumplir dos propósitos fundament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438840" y="4613400"/>
            <a:ext cx="4494960" cy="459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ducir conocimiento y teorí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5015160" y="453708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 Investigasción Básica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455760" y="5334120"/>
            <a:ext cx="4028760" cy="459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solver problema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797000" y="533412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Investigación Aplic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3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1547640" y="462600"/>
            <a:ext cx="716472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l proceso de investigación exige de una metodología operati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prender de t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prender hac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prender a auto conocerse y auto conocerse en el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prender irradiando el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prender “en viv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prender liberando prejui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José Díaz Caball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743120" y="4098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826920" y="2349360"/>
            <a:ext cx="7488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Particularidades y funciones de la ciencia en el ámbito de la práctica físico depor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2445840" y="715320"/>
            <a:ext cx="377280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Qué es el conoci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250920" y="1940040"/>
            <a:ext cx="2195280" cy="1618560"/>
          </a:xfrm>
          <a:prstGeom prst="rect">
            <a:avLst/>
          </a:prstGeom>
          <a:noFill/>
          <a:ln w="12600">
            <a:solidFill>
              <a:srgbClr val="d1ca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cúmulo de experiencia socio-histórica acumulada por la human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2928960" y="1908360"/>
            <a:ext cx="2286000" cy="2228400"/>
          </a:xfrm>
          <a:prstGeom prst="rect">
            <a:avLst/>
          </a:prstGeom>
          <a:noFill/>
          <a:ln w="12600">
            <a:solidFill>
              <a:srgbClr val="d1ca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reflejo activo y ordenado de la realidad objetiva y sus leyes en el cerebro hum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5572080" y="2404800"/>
            <a:ext cx="3176640" cy="3448080"/>
          </a:xfrm>
          <a:prstGeom prst="rect">
            <a:avLst/>
          </a:prstGeom>
          <a:noFill/>
          <a:ln w="12600">
            <a:solidFill>
              <a:srgbClr val="d1ca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proceso de asimilación de la realidad, indispensable para el desarrollo intelectual o práctic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o producto de la interrelación del individuo (sujeto)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medio (objeto) dentro de un contexto socio histórico determinad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8 Conector recto de flecha"/>
          <p:cNvCxnSpPr/>
          <p:nvPr/>
        </p:nvCxnSpPr>
        <p:spPr>
          <a:xfrm flipH="1">
            <a:off x="1856520" y="1214280"/>
            <a:ext cx="114372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10 Conector recto de flecha"/>
          <p:cNvCxnSpPr/>
          <p:nvPr/>
        </p:nvCxnSpPr>
        <p:spPr>
          <a:xfrm flipH="1">
            <a:off x="4357440" y="1142640"/>
            <a:ext cx="2160" cy="500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4" name="12 Conector recto de flecha"/>
          <p:cNvCxnSpPr/>
          <p:nvPr/>
        </p:nvCxnSpPr>
        <p:spPr>
          <a:xfrm>
            <a:off x="5857920" y="1285560"/>
            <a:ext cx="929520" cy="500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16:39:49Z</dcterms:created>
  <dc:creator>ESCUELA DE CULTURA FISICA.</dc:creator>
  <dc:description/>
  <dc:language>en-US</dc:language>
  <cp:lastModifiedBy>Home</cp:lastModifiedBy>
  <dcterms:modified xsi:type="dcterms:W3CDTF">2017-02-19T21:11:31Z</dcterms:modified>
  <cp:revision>141</cp:revision>
  <dc:subject/>
  <dc:title>Sin título de diapositiva</dc:title>
</cp:coreProperties>
</file>